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D5E8-B86F-47F0-8EB9-859104EA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168B-4EC0-478E-8A8C-9132808F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D57C-0561-434E-B848-13B0188F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6C49-A178-4BDC-A390-7CE40F9B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8EE5-E517-40C9-93DC-8E24A7A3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6B43-C35D-4000-A6DA-9922E2D7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6CE0-80C2-4996-A5C3-B1709131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3063-F972-4CAB-A530-DA3D92D7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7D0A-5104-4A68-8561-7249B12C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D67C-9742-4AFE-8066-DCEC55AE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C1FA-20B7-4476-857D-47FF6A68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C343-CE58-4B06-A2D7-D73FB268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7833-ECFE-434E-B8BC-486BA979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8994-13C9-4ABB-B97E-A1CE31DE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D9E9-DB36-4F89-87EC-10001D03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731F-925E-4BAC-9E3A-A165F01F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9902-B23C-4AAC-925B-492D3D67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C3EA-2B5B-4CAE-B63A-2C2F294B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6E01-8679-44F3-86F5-C17C3EE5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3FB7-2A40-438A-879D-91D9E2E4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BCA6-18C8-4E74-AD63-D6489B16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4F17-A1FB-4EB1-9D8D-3AB6F2B3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DDEE-7F90-46AE-97DC-2EEE663B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FE6D-34ED-4CD5-92A1-3A8F5ABE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BEDCD77-7102-4888-8497-D4F59E83712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F358390-B59B-48DE-AF59-D9109F1604E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2.01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838080"/>
            <a:ext cx="8001000" cy="52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erzlich Willkommen zum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Produktionsplanung - Mengenbilanzierung - Produktcontr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amada-Treff Hotel,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esbade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C6CD-90E1-4E93-9715-A6FC2C43944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2.01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838080"/>
            <a:ext cx="8001000" cy="52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Produktionsplanung - Mengenbilanzierung - Produktcontr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amada-Treff Hotel,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esbade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B620-1313-40AE-80F2-A6CA815B3C0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2.01.2004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3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optimierte Produktion und Produktionsplanung im Bereich der Serienferti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Jahresabsatzpl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duktionsplanung von Produkten durch das Add-on Produktionspla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chaffung der Rohstoffe und Zwischenprodu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brechnung der Produktion auf Produktkostensamm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hargenbezogene prozessbegleitende Prüfung in der Serienfertig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bbildung anfallender In-Prozeß- und Endkontroll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swertungen und Reporting im Bereich der Produktion und Qualitätssicher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64C0-7C24-4C88-973E-6E81E4B44F6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2.01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engenbilanzierung als Voraussetzung für das Produkt-controlling in der Chem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satz- und Produktplanung mit Excel-Schnittst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natliche Mengenbilanz aller Produkte für ein Jah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llgemeine Mengenbilanz – Voraussetzung für die Produktkalk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dienabbildung mit berechenbaren Stücklistenkomponen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kursivitäten mit Konvergenzt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26A7-8726-4366-ADBB-9462B857C2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2.01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ktcontrolling in der Chemie - Nachkalkulation, Plankalkulation und ableitbare Kalkulationen -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undlagen der Materialkalkulation im SAP-Stand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kursive Stücklisten in der Material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ch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ch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ch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9669-1ABD-4265-B300-AD31027DCA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2.01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wicklungen von jwConsul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m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3856-F9B3-4DEE-A936-6118101EE2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2.01.2004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wurde am 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. Juli 1996 von Dr. Jochen Winkler gegründet und fir-miert seit Mai 2002 als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GmbH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-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spektrum heute:  Unternehmensausrichtung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SAP R/3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Chemische Industrie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Add-ons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Web-Applications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Medizi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285B-23B8-487A-8FAB-5D6F8147D2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2.01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ABIC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Aerosil &amp; Silanes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Superabsorber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ustriepark Wolfgang GmbH, Hanau-Wolfga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EOS Phenol GmbH &amp; Co. KG, Gladbeck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ockhausen GmbH &amp; Co. KG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GmbH &amp; Co. KG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XENO Olefinchemie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oldschmidt AG, 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762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372F-4A96-43DA-A957-B9279529A3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2.01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zupharma GmbH &amp; Co., Gerli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 / GB Coatings &amp; Colorant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 / GB High Performance Polymer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F IT Services GmbH, Ludwigsha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F Pigment GmbH (Masterbatch), Köl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KW Stickstoffwerke Piesteritz GmbH, Wittenbe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CI Augsburg GmbH, Augsbu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A60B-6600-4CC9-B659-144B9CE4370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2.01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2BF5-6B99-4FCE-8798-B0858857A40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cp:lastPrinted>2001-02-12T08:25:41Z</cp:lastPrinted>
  <dcterms:modified xsi:type="dcterms:W3CDTF">2004-01-15T12:01:41Z</dcterms:modified>
  <cp:revision>239</cp:revision>
  <dc:subject/>
  <dc:title>Kein Folientitel</dc:title>
</cp:coreProperties>
</file>