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0DF7-F6EA-42B8-B944-3675FFF2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DF49-4FB7-48DA-ACC3-87556267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0C6F-AE1C-404E-9F17-BFEC148E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7E3E-8DE4-4D0C-AB47-11ABF8D1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BE22-2415-4929-AB37-58BCBEDF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3166-DC32-4664-AE91-6B3AA07C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8713-61C6-4F76-95D4-AB8002FB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B8A9-419D-4324-B426-34AF927C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C8B9-B717-427A-A238-F5AD9BD3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3CCE-0E9F-46A5-9975-D1014326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8E60-12B2-4F05-AD0A-3397FA0A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A6FC-FF8A-4D42-B88F-F9FA234E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10EB-3EAA-4A91-8443-DA072FD8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4206-9BC6-4125-9E7E-682984B5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1135-04E0-48E6-A793-F76DDF72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9D89-BD17-407F-AFBC-E20714E7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C590-6ACC-45FB-9030-5756DFC4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BC8-A299-4E52-9278-70D52662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D57-D989-486D-B0E0-3C654979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AF63-1BC6-4867-BBF5-7AF20E6A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B762-1CB1-4A82-9D4F-0184418C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1FB7-B934-45DE-8186-3E6BAA5D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5179-D15B-4F7B-9E48-9B6BCCB5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00D9-2815-496F-B7BA-FD81DBC0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D30087C-C223-41F2-BBCB-B5148E05F55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1421329-0284-4892-BDF0-61917CD673B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2.01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838080"/>
            <a:ext cx="8001000" cy="52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erzlich Willkommen zum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Produktionsplanung - Mengenbilanzierung - Produktcont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amada-Treff Hotel,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esbad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05E-44B0-4EF7-88A9-53695352375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2.01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838080"/>
            <a:ext cx="8001000" cy="52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Produktionsplanung - Mengenbilanzierung - Produktcont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amada-Treff Hotel,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esbad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38F4-13E4-428A-ADF4-0677FD4E487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2.01.200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3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optimierte Produktion und Produktionsplanung im Bereich der Serienferti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Jahresabsatzp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ionsplanung von Produkten durch das Add-on Produktionspla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chaffung der Rohstoffe und Zwischenprodu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rechnung der Produktion auf Produktkostensamml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hargenbezogene prozessbegleitende Prüfung in der Serienfertig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bildung anfallender In-Prozeß- und Endkontroll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swertungen und Reporting im Bereich der Produktion und Qualitätssich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964A-B710-4A1B-B5FA-943954F74C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2.01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Mengenbilanzierung als Voraussetzung für das Produkt-controlling in der Chem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satz- und Produktplanung mit Excel-Schnittst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natliche Mengenbilanz aller Produkte für ein Jah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llgemeine Mengenbilanz – Voraussetzung für die Produktkalk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dienabbildung mit berechenbaren Stücklistenkomponen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kursivitäten mit Konvergenzt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A50-F458-4AB7-AA5B-7099F5AA2E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2.01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controlling in der Chemie - Nachkalkulation, Plankalkulation und ableitbare Kalkulationen -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undlagen der Materialkalkulation im SAP-Stand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kursive Stücklisten in der Material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ch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ch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chkalk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0C28-D108-4086-85F8-2DBBA189D3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2.01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wicklungen von jwConsul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mentwick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397D-9415-4933-B020-9198A77E3E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2.01.200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wurde am 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. Juli 1996 von Dr. Jochen Winkler gegründet und fir-miert seit Mai 2002 als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GmbH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-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spektrum heute:  Unternehmensausrichtu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AP R/3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Chemische Industrie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Add-ons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Web-Applications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Medizi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BEF6-5D32-467A-8839-20557EE80A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2.01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ABIC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Superabsorber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-Wolfga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EOS Phenol GmbH &amp; Co. KG, Gladbeck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ockhausen GmbH &amp; Co. KG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762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D3C-B49E-4DE0-B911-8D2C1B0185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2.01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zupharma GmbH &amp; Co., Gerli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 / GB High Performance Pol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IT Services GmbH, Ludwigsha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F Pigment GmbH (Masterbatch), Kö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KW Stickstoffwerke Piesteritz GmbH, Wittenbe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CI Augsburg GmbH, Augsbu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A3EE-6CBD-4DAA-93AD-78D5492E031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22.01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A0AB-2D2F-47CD-B1B2-311A321B83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4-01-15T12:01:41Z</dcterms:modified>
  <cp:revision>239</cp:revision>
  <dc:subject/>
  <dc:title>Kein Folientitel</dc:title>
</cp:coreProperties>
</file>