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5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FA9CAD7B-35A8-4B6A-BA02-859BC714D33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83640" y="6477120"/>
            <a:ext cx="129924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 23. September 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32400" y="6405480"/>
            <a:ext cx="360" cy="1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5484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362320" y="640080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5340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 algn="ctr"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66852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7588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Die optimierte Produktion und Produktionsplanung im Bereich der Serienfertigung in der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en-US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Wiesbaden, d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23. September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3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plant werden vorher definierte Planungshierarchien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(Verkaufsmateri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 (der Kunde </a:t>
            </a:r>
            <a:r>
              <a:rPr b="1" lang="de-DE" sz="2000" spc="-1" strike="noStrike">
                <a:solidFill>
                  <a:srgbClr val="00cc99"/>
                </a:solidFill>
                <a:latin typeface="Arial"/>
              </a:rPr>
              <a:t>Sonsti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= „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##########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nie (Arbeitsplatz Hierarchie für Kapazitätsbetracht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ieferkalender (zur automatischen Disaggregation auf mögliche Liefert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osgröße (für die Disaggregation des Monatsabsatzes auf ganzzahlige Vielfache dieser Losgröße (z.B. ganze Tankzüg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19051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2209680" cy="1069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434340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6172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ulation der Tagesplanung aufgrund von Monats-Planzah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9718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446720" cy="2046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324480" y="30481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829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atliche Verteilung von Jahres-Planzahlen nach Liefertagen und Lieferlosgröß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2860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6378840" cy="3222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257800" y="5257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343400" y="4114800"/>
            <a:ext cx="41608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Planung startet immer zum aktuellen Datum + die folgenden Tage, von da ab kann in die folgenden Wochen, die immer montags beginnen, gesprungen wer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e monatlichen Absatzahlen (der aktiven Version) dienen als Grundlage für eine automatische Disaggregation in einen Tagesabsatzplan nach Lieferkalender und Losgröß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u den Tagesabsatzzahlen werden bereits erfasste Kunden-aufträge (zum Materialbereitstellungsdatum) angezeigt und (vorerst nur) mit den Planzahlen des selben Tages ver-rechnet (größter Wert zählt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Daily Planni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189920" cy="3124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860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990720"/>
            <a:ext cx="82296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WA gebuchte vergangene Kundenaufträge werden als rückständiger Bedarf angezeigt (nicht mit Kundenaufträgen verrechnete vergangene Tagesabsatzzahlen verfall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wohl rückständige als auch zukünftige Bedarfe werden je Materialnummer verdichtet und die sich daraus ergebende Bestandssituation simuli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gen den Bestandsabbau wirkt ein editierbarer Produktions- und Abfüll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abgerechnete vergangene Produktionen bzw. Abfüllungen werden als rückständig angezeig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Tagesabsatz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35812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roduktions- und Abfüllplanmengen werden im System als SAP R/3 Standard Planaufträge des Typs „PE“ Produktionseinteilungen gespeicher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E´s enthalten ebenfalls die Fertigungsversion und die zu verwendende Stückliste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Komponenten der Stückliste werden als Reservierungen in der SAP R/3 Standardtabelle „RESB“ gespeichert und können mit Standardmitteln eingesehen werden (z.B. Bedarfsplanung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4479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949480" cy="1806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15000" y="198108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724280" cy="4543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90920" y="2590920"/>
            <a:ext cx="14475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umfang Add-on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ienferti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itorartige Oberfläche zur Visualisierung der gesamten Arbeitsumgebung in der Produktion mit allen nötigen Umfeldfunktion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ntraler Korrid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r allgemeinen und detailliert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über di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- und Qualitätssituation aller Produktionslini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 gemeinsam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beitsvorr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ung + Charg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s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ätsprüfung inklusive Verwendungsentsche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mmdatenpfle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umfang Add-on </a:t>
            </a: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ienferti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stützung der folgenden 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beitsvorbereit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n erzeu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kumente und Label druc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bereit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-Prozesskontro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Erfassung und Visualisierung von Prüfungen zu manuellen oder automatischen Prüfpunkten, abhängig von verwendeten Einstellungen im Modul Q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nagement von Qualitätsla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Beeinflusst durch Produktion und Q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enerfass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on Warenbewe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ontro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on Produktionsstatus, Beständen und Qualitäten in einer Mas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250920" y="4221000"/>
          <a:ext cx="284796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221000"/>
                    <a:ext cx="28479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755640" y="2492280"/>
          <a:ext cx="171360" cy="16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49228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9640" y="2349360"/>
          <a:ext cx="171720" cy="1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2349360"/>
                    <a:ext cx="171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95280" y="2205000"/>
          <a:ext cx="171360" cy="16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220500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55640" y="2708280"/>
          <a:ext cx="162000" cy="16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2708280"/>
                    <a:ext cx="16200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konfigurationen ERP-System - PP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e Lösung, wenn die angebotenen Funktionen, das Systemhandling und die Flexibilität den Anforderungen genü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rne Planung z.B. APO mit Schnittstellen zum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r dann zu empfehlen, wenn keine integrierte Lösung verfügbar 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er aus Gründen der Lastverteilung sowieso mehrere Systeme im Einsatz si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as ERP-System integrierte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e Lösung, wenn das Standard ERP-System den Anforderungen nicht genü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genübersich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514600"/>
            <a:ext cx="731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24000" y="1125360"/>
            <a:ext cx="8529120" cy="5040360"/>
            <a:chOff x="324000" y="1125360"/>
            <a:chExt cx="8529120" cy="5040360"/>
          </a:xfrm>
        </p:grpSpPr>
        <p:sp>
          <p:nvSpPr>
            <p:cNvPr id="156" name=""/>
            <p:cNvSpPr/>
            <p:nvPr/>
          </p:nvSpPr>
          <p:spPr>
            <a:xfrm>
              <a:off x="1859400" y="5896800"/>
              <a:ext cx="69937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61080" indent="-361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zahl der bereits gedruckten LVS 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896800"/>
              <a:ext cx="15354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274320" indent="-27432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VS-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59400" y="5412960"/>
              <a:ext cx="699372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iche Darstellung des 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00" y="5412960"/>
              <a:ext cx="15354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ä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59400" y="5131800"/>
              <a:ext cx="6993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E-Code im 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4000" y="5131800"/>
              <a:ext cx="15354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59400" y="4816800"/>
              <a:ext cx="699372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üflosnummer falls Material prüfpflicht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9400" y="3327840"/>
              <a:ext cx="6993720" cy="14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nicht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gesperrter Best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os: Qualitätsprüfbestand oder Bestand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59400" y="3058920"/>
              <a:ext cx="69937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61080" indent="-361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genwärtiger Chargenbestand (alle Bestandsart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59400" y="1964880"/>
              <a:ext cx="699372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64680" indent="-3646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Charge ist neu und kann bebucht we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4680" indent="-3646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Charge wurde bereits bearbeitet - Zubuchen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4680" indent="-3646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Charge wurde abgeschlossen - kein Zubuchen mehr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4680" indent="-3646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nweis: Chargen mit rotem Produktionsstatus und evtl. uneingeschränkt freiem Bestand (oder kein Bestand mehr) werden ausgeblend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59400" y="1662120"/>
              <a:ext cx="69937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um des letzten Wareneingangs in der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59400" y="1393560"/>
              <a:ext cx="69937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61080" indent="-361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reits zugebuchte Me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59400" y="1125360"/>
              <a:ext cx="6993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57120" indent="-35712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nnummer Sortierkriterium - jüngste Charge ganz o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4000" y="4816800"/>
              <a:ext cx="15354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4000" y="3327840"/>
              <a:ext cx="1535400" cy="14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s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4000" y="3058920"/>
              <a:ext cx="15354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274320" indent="-27432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4000" y="1964880"/>
              <a:ext cx="153540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us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4000" y="1662120"/>
              <a:ext cx="15354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tzter W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000" y="1393560"/>
              <a:ext cx="15354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274320" indent="-27432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4000" y="1125360"/>
              <a:ext cx="1535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271440" indent="-2714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4000" y="1125360"/>
              <a:ext cx="8529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4000" y="6165720"/>
              <a:ext cx="8529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4000" y="1125360"/>
              <a:ext cx="0" cy="5040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53120" y="1125360"/>
              <a:ext cx="0" cy="5040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4000" y="139356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4000" y="166212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000" y="196488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4000" y="305892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4000" y="332784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4000" y="481680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59400" y="1125360"/>
              <a:ext cx="0" cy="504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4000" y="513180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000" y="541296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4000" y="589680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325680" cy="2616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733920" y="1413000"/>
            <a:ext cx="5257800" cy="4701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28800" y="1523880"/>
            <a:ext cx="30481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189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ückmelden von Warenbew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4114800"/>
            <a:ext cx="3276720" cy="159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ugruppenrückmeldung: Gutmenge + Komponenten + Leis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ponentenrückmeldung: nur Komponenten (z.B. Mehrverbrau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rückmeldung (z.B. Ist-zeiterfassung Lab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775640" cy="25048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8600" y="4114800"/>
            <a:ext cx="2830680" cy="1057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icht nach Probenahme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gebnisse und Verlauf nach Probenahmes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810240" cy="777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851280" y="3789360"/>
            <a:ext cx="4537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59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 kundenindividuelles PPS in der kontinuierlichen Produktion (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 kundenindividuelles PPS in der kontinuierlichen Produktion (II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50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Die optimierte Produktion und Produktionsplanung im Bereich der Serienfertigung in der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Dipl. Phys. Steffen Roschek</a:t>
            </a:r>
            <a:br>
              <a:rPr sz="2200"/>
            </a:b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en-US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Wiesbaden, d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23. September 20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aussetzungen für ein integriertes SAP R/3 kundenindividuelles PP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reich 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äufig sehr wenig Basisprodukte pro Anlage o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spcBef>
                <a:spcPts val="57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.B. Anlage für die Methanolsynthese produziert ausschließlich Methanol (meistens in einer Qualität), das wiederum in wenigen Transportarten zum Endabnehmer transportiert wird =&gt; wenige Artikelnumm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649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 wird 90 % des Absatzes mit 1 bis 3 planungsrelevanten Endverbrauchern realisi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&gt; das Handling der SAP-Funktionen wird als zu schwer-fällig empfunden und meist durch eigene, wesentlich transparentere Excel-Tabellen oder ähnliches ersetz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reich Produktion und Produktionsab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 relativ klaren Prozessablauf stehen häufig komplex zu bedienende, aber in ihren Funktionen nur spärlich genutzte Fertigungs- oder Prozessaufträge zur Abrechnung gegenü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ötigt wird eine einfache Maske zur Datenerfassung der Waren- und Leistungsbewegungen mit auf die eigentliche Funktion reduzierten Kostensammlern (Aufträ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QM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Bereich Qualitätssicherung und In-Prozesskontrol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624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hängig vom gewählten PPS-Verfahren stehen brauchbare Arbeitsvorräte für IPC ungenügend zur Verfü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624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öhung des Prüfrhythmuses bei schlechter Qualitätslage nicht mögl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624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ine tabellarische oder graphische Anzeige der Ergebnisse (zur einfachen Darstellung des Prozessverlaufes oder der Qualitätsl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624"/>
              </a:spcBef>
              <a:buClr>
                <a:srgbClr val="ff00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ötigt wird eine einfache Maske zur Darstellung des Arbeitsvorrates (Produktionslinien, Probenahmestellen) sowie flexible Ergebniserfassung und -anzei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+ kunden-individuelles PPS in der kontinuierlichen Produktio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Weitere Bereich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rechnung der IPC Kosten, z.B. nach Method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 periodische Abrechnung der Produkt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ung: Jahresplan Funktionsumfa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 Jahresb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Version A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e Versionen A01 bis A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658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5:14:30Z</dcterms:created>
  <dc:creator>Roschek Steffen</dc:creator>
  <dc:description/>
  <dc:language>en-US</dc:language>
  <cp:lastModifiedBy>Dr. Jochen Winkler</cp:lastModifiedBy>
  <cp:lastPrinted>1999-11-17T11:38:50Z</cp:lastPrinted>
  <dcterms:modified xsi:type="dcterms:W3CDTF">2003-10-07T16:04:05Z</dcterms:modified>
  <cp:revision>357</cp:revision>
  <dc:subject/>
  <dc:title>Optimierte Planung und Produktion mit periodischem Produktcontrolling  in de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35950558</vt:r8>
  </property>
  <property fmtid="{D5CDD505-2E9C-101B-9397-08002B2CF9AE}" pid="3" name="_AuthorEmail">
    <vt:lpwstr>roschek@srcon.de</vt:lpwstr>
  </property>
  <property fmtid="{D5CDD505-2E9C-101B-9397-08002B2CF9AE}" pid="4" name="_AuthorEmailDisplayName">
    <vt:lpwstr>Roschek Steffen</vt:lpwstr>
  </property>
  <property fmtid="{D5CDD505-2E9C-101B-9397-08002B2CF9AE}" pid="5" name="_EmailSubject">
    <vt:lpwstr>Folienvortraege fuer WS 23.09.03 in Wiesbaden</vt:lpwstr>
  </property>
  <property fmtid="{D5CDD505-2E9C-101B-9397-08002B2CF9AE}" pid="6" name="_ReviewingToolsShownOnce">
    <vt:lpwstr/>
  </property>
</Properties>
</file>