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4FEE3ED-3211-4FA0-A158-FBBE8B6C678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3640" y="6477120"/>
            <a:ext cx="129924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3. Septembe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 (der Kunde </a:t>
            </a: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Sonsti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 (für die Disag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di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artige Oberfläche zur Visualisierung der gesamten Arbeitsumgebung in der Produktion mit allen nötigen Umfeldfunk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r K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r allgemeinen und detailliert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über di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- und Qualitätssituation aller Produktionslini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 gemeinsam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r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, abhängig von verwendeten Einstellungen im Modul Q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ment von Qualitätsla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eeinflusst durch Produktion und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Produktionsstatus,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4000" y="1125360"/>
            <a:ext cx="8529120" cy="5040360"/>
            <a:chOff x="324000" y="1125360"/>
            <a:chExt cx="8529120" cy="5040360"/>
          </a:xfrm>
        </p:grpSpPr>
        <p:sp>
          <p:nvSpPr>
            <p:cNvPr id="156" name=""/>
            <p:cNvSpPr/>
            <p:nvPr/>
          </p:nvSpPr>
          <p:spPr>
            <a:xfrm>
              <a:off x="1859400" y="589680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89680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59400" y="5412960"/>
              <a:ext cx="69937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00" y="5412960"/>
              <a:ext cx="15354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59400" y="5131800"/>
              <a:ext cx="6993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00" y="5131800"/>
              <a:ext cx="15354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59400" y="4816800"/>
              <a:ext cx="69937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3327840"/>
              <a:ext cx="699372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9400" y="305892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9400" y="1964880"/>
              <a:ext cx="699372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59400" y="1662120"/>
              <a:ext cx="69937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59400" y="139356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59400" y="1125360"/>
              <a:ext cx="6993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57120" indent="-3571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4816800"/>
              <a:ext cx="15354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3327840"/>
              <a:ext cx="153540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05892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1964880"/>
              <a:ext cx="153540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1662120"/>
              <a:ext cx="15354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139356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00" y="1125360"/>
              <a:ext cx="1535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271440" indent="-2714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4000" y="112536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4000" y="616572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5312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3935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4000" y="16621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196488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000" y="30589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000" y="332784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4000" y="481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9400" y="1125360"/>
              <a:ext cx="0" cy="50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000" y="5131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00" y="54129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00" y="589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icht nach Probenah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se und Verlauf nach Probenah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10240" cy="777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53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äufig sehr wenig Basisprodukte pro Anlage 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(meistens in einer Qualität), das wiederum in wenigen Transportarten zum Endabnehmer transportiert wird =&gt; wenige Artikelnumm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das Handling der SAP-Funktionen wird als zu schwer-fällig empfunden und meist durch eigene, wesentlich transparentere Excel-Tabellen oder ähnliches ersetz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häufig komplex zu bedienende,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QM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Qualitätssicherung und In-Prozesskontro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hängig vom gewählten PPS-Verfahren stehen brauchbare Arbeitsvorräte für IPC ungenügend zur Verfü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es bei schlechter Qualitätslage nicht mög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rstellung des Arbeitsvorrates (Produktionslinien,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der IPC Kosten, z.B. nach Metho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10-07T16:04:05Z</dcterms:modified>
  <cp:revision>357</cp:revision>
  <dc:subject/>
  <dc:title>Optimierte Planung und Produktion mit periodischem Produktcontrolling  in de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5950558</vt:r8>
  </property>
  <property fmtid="{D5CDD505-2E9C-101B-9397-08002B2CF9AE}" pid="3" name="_AuthorEmail">
    <vt:lpwstr>roschek@srcon.de</vt:lpwstr>
  </property>
  <property fmtid="{D5CDD505-2E9C-101B-9397-08002B2CF9AE}" pid="4" name="_AuthorEmailDisplayName">
    <vt:lpwstr>Roschek Steffen</vt:lpwstr>
  </property>
  <property fmtid="{D5CDD505-2E9C-101B-9397-08002B2CF9AE}" pid="5" name="_EmailSubject">
    <vt:lpwstr>Folienvortraege fuer WS 23.09.03 in Wiesbaden</vt:lpwstr>
  </property>
  <property fmtid="{D5CDD505-2E9C-101B-9397-08002B2CF9AE}" pid="6" name="_ReviewingToolsShownOnce">
    <vt:lpwstr/>
  </property>
</Properties>
</file>