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3D3-24D4-407A-B479-E01F1989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4A9-2BFA-47CA-A51B-1642E568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95A-4E20-4F5F-9FEB-2F7B3018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12B-D58B-4323-B6D5-02E723FD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F84-6217-4FCF-BEF6-E00C303C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642-9741-4402-8FBC-6D7A55B2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269-5D67-4305-BA6B-19EAE07F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B1F-501F-4580-8D9B-90E83030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767-CA7C-4D14-9CC9-21BB51C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0E6-1617-42F5-91AE-5363C78C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048-9F64-49F8-BE5A-39023B02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CEE-9C41-45D0-91A0-7057B718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FC9AC677-D84A-4AEE-BB5A-4927C42D491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83640" y="6477120"/>
            <a:ext cx="129924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3. Septembe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B60-3B8E-463F-BE91-7C165593F4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Nachkalkulation, Plankalkulation und ableitbare Kalkulationen für d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3. Septem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lisierung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79600" y="1295280"/>
          <a:ext cx="4383000" cy="31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295280"/>
                    <a:ext cx="438300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port mi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1680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alkulationsmöglichkeiten (Kalkulationsvariant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1680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öglichkeit zur Auswahl und Anzeige der Protoko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zeugung von Stücklisten und Planungsrezepten sowie Durch-führung von additiver u. Materialkalkulation als Funktionsbauste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koll einer 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Beispiel zeigt eine Nach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Darstellung von Fehlerwarnungen erfolgt orange bzw. violett unterleg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hler werden rot unterleg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s Protokoll wird in einer projektspezifischen Tabelle gespeichert und ist jederzeit abruf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95320" y="1143000"/>
          <a:ext cx="7354800" cy="30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143000"/>
                    <a:ext cx="735480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86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ücksichtigung der tatsächlichen Buchungen pro Erzeugnis v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verbrau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preiskorrekture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Material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Materialkalkulation wird solange wiederholt (mit Einsetzen der berechneten Erzeugnispreise), bis die Ergebnisse stabil s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stell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uflösungstermins u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ewertungstermins wird die tatsächliche Entwicklung der Verbräuche und Preise bewert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 und abgeleitete Kalkulation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ücksichtigung einer voraussehbaren Preisentwicklung für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Nachkalkulation, Plankalkulation und ableitbare Kalkulationen für d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3. Septem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aussetzungen zur Anwendung des Add-on‘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und Füllen einer projektspezifischen Informationsstruktur für Materialbuch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 Performancegründen werden die Materialbuchungen nicht der SAP-Tabelle MSEG, sondern einer Informationsstruktur entnommen, die kumulierte Daten enthäl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 und abgeleitete Kalkul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ndung des Add-on‘s </a:t>
            </a: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engen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geplanten Mengen pro Erzeugnis werden der Mengenbilanz entnom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lls vorhersehbare Änderungen von Rohstoffpreisen berücksichtigt werden sollen, muß der Bedarf für die entsprechenden Zeiträume und Rohstoffe in der Mengenbilanz bereitgestellt werd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zu sind die betreffenden Rohstoffe in den Materialstammdaten als ‚bilanzrelevant‘ (projektspezifisches Kennzeichen) zu kennzeich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sätzlich ist eine Tabelle der benötigten Rohstoffpreise zu pfleg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Materialkalkulation: SAP im Vergleich zu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837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AP erfolgt eine ‚strenge‘ Formatierung der Rechenergebnisse, d.h., jede weitere Berechnung erfolgt mit den angezeigten Zahlen. Dadurch wird eine manuelle Berechnung ‚nachempfunden‘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bezieht die Formatierung nur auf die Anzeige, d.h.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 Hintergrund wird üblicherweise mit genaueren Zahlen gerechnet, sofern nicht erhöhter Aufwand in die Formeln investiert wird. Das führt u.U. scheinbar zu Widersprüchen (vgl. Spalten D und 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e iterative Berechnung konvergiert daher unter SAP schlechter als z.B. unter Excel, d.h.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 komplexen Zusammenhängen muß ggf. eine Preisabweichung (zwischen zwei Zyklen) von 0,50 bis 1,00 Euro toleriert werde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Resultat ist trotzdem in jedem Fall realistischer als ohne It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14766" r="57950" b="60536"/>
          <a:stretch/>
        </p:blipFill>
        <p:spPr>
          <a:xfrm>
            <a:off x="2050920" y="907920"/>
            <a:ext cx="4102200" cy="180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idee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ktkalkulation auf der Basis der Standard-Transaktion CK11 (Materialkalkul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Add-on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tellt die notwendigen Daten bere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ereitete 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ereitete Planungsrezep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ereitete Rohstoff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olge der Verwendung der Standard-Transaktion CK1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Resultate werden in SAP-Standard-Tabellen gespeich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Ergebnisse sind mit SAP-Standard-Werkzeugen und Eigenentwicklungen des Anwenders auswert- und weiterverarbei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Materialkalkulation im SAP-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lös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Stücklisten und Planungsrezepte (Arbeitsplä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rt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Rohstoffpreise (u.a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836640"/>
          <a:ext cx="3287520" cy="34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328752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012000" y="981000"/>
          <a:ext cx="2523960" cy="2625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981000"/>
                    <a:ext cx="252396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Materialkalkulation im SAP-Standard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stammdaten / Kalkulationssicht 2 - für Planungszweck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künftiger Pre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 Planpreise mit Gültigkeitsda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x. 12 Planpreise (monatliche Prei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03280" y="1163520"/>
          <a:ext cx="5988240" cy="31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63520"/>
                    <a:ext cx="5988240" cy="31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357300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54000" rIns="18000" tIns="46800" bIns="4680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 Markierung der Materialstücklisten als ‚rekursiv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ig rekursive Stücklisten führen zu einer korrekten Kalkulation, die jedoch als fehlerhaft gekennzeichnet ist (-&gt; Sondermaßnahm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rative Materialkalkulation im 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ederholung der Kalkulation für alle Erzeugnisse unter Berücksichtigung der im vorherigen Zyklus berechneten Erzeugnispreise, b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zwischen zwei aufeinanderfolgenden Zyklen die Preisabweichung pro Erzeugnis einen vorgegebenen Grenzwert unterschreit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oder eine vorgegebene maximale Zyklusanzahl erreicht wird (Ausnahme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49480" y="121932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12724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wischen-Produk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1337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wischen-Produk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0481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887560" y="1752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182840" y="266652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01760" y="2666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97200" y="175212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01960" y="26665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905120"/>
            <a:ext cx="225108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1760" bIns="41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Infolge des Einsatzes von Chargen oos, Verschnitt us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14479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1447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95880" y="3276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kalkulation (Ist-Kalkul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- und Endperiode liegen in vergangenen Perio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buchte Materialbeweg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buchte Ressourcenverbräuche (Theorie), stattdess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teilung der Istkosten pro Kostenstelle auf die Erzeugniss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 der Grundlage der durch die Herstellung jedes Erzeugnisses verursachten Anlagenauslastung    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buchte Leistungen, Verrechnungen und Umlagen pro Erzeugn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additive Kalkulation (Standard-Transaktion CK7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Kalkulationsergebnisse werden nur gesichert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edoch nicht freigege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- und Endperiode liegen in künftigen Perio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1 Jah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bilanz für Er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lante Rohstoffpreise (jähr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additive Kalkulation (TA CK74) nach manuellen Vorgabe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Berücksichtigung geplanter Leistungen, Verrechnungen und Umla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Kalkulationsergebnisse werden freigegeben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.h., der kalkulierte Preis wird in einem separaten Arbeitsgang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ie Materialstammdaten eingetrag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periode liegt in künftig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periode liegt in künftiger oder aktuell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bilanz für Erzeugnisse und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lante Rohstoffpreise monatli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additive Kalkulation (TA CK74) nach manuellen Vorgab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geplante Leistungen, Verrechnungen und Umla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nkbare Weiterentwicklung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‚Hochrechnung‘ der zur Plankalkulation verwendeten 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ung gewichteter Rohstoffpreise auf der Grundlage der  geplanten Rohstoffpreise und der zugehörigen Monatsbilan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periode liegt in künftiger oder aktuell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eriode liegt in vergangen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raum für Ist- und Plan-Berechnung: jeweils max. 1 Jah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Jahreswechsel ist zwischen Ist- und Planberechnung mög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hung zwischen Nachkalkulation und Hoch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nd Gebert</dc:creator>
  <dc:description/>
  <dc:language>en-US</dc:language>
  <cp:lastModifiedBy>Dr. Jochen Winkler</cp:lastModifiedBy>
  <cp:lastPrinted>2003-01-28T09:42:42Z</cp:lastPrinted>
  <dcterms:modified xsi:type="dcterms:W3CDTF">2003-10-07T16:02:56Z</dcterms:modified>
  <cp:revision>176</cp:revision>
  <dc:subject/>
  <dc:title>Monatsabschluß BAS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4488763</vt:r8>
  </property>
  <property fmtid="{D5CDD505-2E9C-101B-9397-08002B2CF9AE}" pid="3" name="_AuthorEmail">
    <vt:lpwstr>roschek@srcon.de</vt:lpwstr>
  </property>
  <property fmtid="{D5CDD505-2E9C-101B-9397-08002B2CF9AE}" pid="4" name="_AuthorEmailDisplayName">
    <vt:lpwstr>Roschek Steffen</vt:lpwstr>
  </property>
  <property fmtid="{D5CDD505-2E9C-101B-9397-08002B2CF9AE}" pid="5" name="_EmailSubject">
    <vt:lpwstr>Folienvortraege fuer WS 23.09.03 in Wiesbaden</vt:lpwstr>
  </property>
  <property fmtid="{D5CDD505-2E9C-101B-9397-08002B2CF9AE}" pid="6" name="_ReviewingToolsShownOnce">
    <vt:lpwstr/>
  </property>
</Properties>
</file>