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wmf" ContentType="image/x-wmf"/>
  <Override PartName="/ppt/media/image7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AE77-312C-47CF-9B46-527B3869B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FBCD-46DB-45E0-A73E-3A1AA363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41D1-F3C4-4625-A660-32BFF565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2494-D72C-475E-9E00-C5BADE01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7E72-5F36-4EDE-A2E7-8F9573C8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50CE-CFF0-4118-AB8D-0EE75EF2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0AB6-7C6D-4CDF-AB93-8406BE99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2C08-6BDB-474C-9579-C5C1184B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28B8-C550-498F-98F7-B80F200A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D9F2-5DA8-4310-BAF9-A60E2C14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6D31-3AE5-4A66-B299-E9FCEBEBD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B666-1E9A-4AA4-BF7B-BDBE550E9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55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85800"/>
            <a:ext cx="83818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869600" y="6477120"/>
            <a:ext cx="713880" cy="1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lie </a:t>
            </a:r>
            <a:fld id="{E0465572-FDEF-4D28-8A40-DE6C702CA24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183640" y="6477120"/>
            <a:ext cx="1299240" cy="1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 23. September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5360" y="6095880"/>
            <a:ext cx="60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640080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ffen Rosche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390F-C2B8-4034-B1A6-87CE0BFC54B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6120000" cy="24429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000099"/>
                </a:solidFill>
                <a:latin typeface="Comic Sans MS"/>
              </a:rPr>
              <a:t>Nachkalkulation, Plankalkulation und ableitbare Kalkulationen für di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2440" y="3908520"/>
            <a:ext cx="84391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pl. Phys. Steffen Roschek</a:t>
            </a:r>
            <a:br>
              <a:rPr sz="2200"/>
            </a:br>
            <a:r>
              <a:rPr b="1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ulting GmbH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iesbaden, de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3. September 200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alisierung des Add-on‘s </a:t>
            </a:r>
            <a:r>
              <a:rPr b="0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Produktkalk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379600" y="1295280"/>
          <a:ext cx="4383000" cy="31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0" y="1295280"/>
                    <a:ext cx="4383000" cy="31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port mi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4480" indent="-316800">
              <a:spcBef>
                <a:spcPts val="40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4 Kalkulationsmöglichkeiten (Kalkulationsvariante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4480" indent="-316800">
              <a:spcBef>
                <a:spcPts val="40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öglichkeit zur Auswahl und Anzeige der Protokol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zeugung von Stücklisten und Planungsrezepten sowie Durch-führung von additiver u. Materialkalkulation als Funktionsbauste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koll einer Produktkalk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419076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s Beispiel zeigt eine Nachkalk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0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e Darstellung von Fehlerwarnungen erfolgt orange bzw. violett unterleg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0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hler werden rot unterleg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0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s Protokoll wird in einer projektspezifischen Tabelle gespeichert und ist jederzeit abrufb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895320" y="1143000"/>
          <a:ext cx="7354800" cy="303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5320" y="1143000"/>
                    <a:ext cx="7354800" cy="30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orteile des Add-on‘s </a:t>
            </a:r>
            <a:r>
              <a:rPr b="0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Produktkalk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52280"/>
            <a:ext cx="86868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chkalkulati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rücksichtigung der tatsächlichen Buchungen pro Erzeugnis v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erialverbrauc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istungen, Verrechnungen und Umlag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erialpreiskorrekturen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erative Materialkalk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e Materialkalkulation wird solange wiederholt (mit Einsetzen der berechneten Erzeugnispreise), bis die Ergebnisse stabil si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rechnung wahlweise für einen oder mehrere Mon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stell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in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uflösungstermins u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in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Bewertungstermins wird die tatsächliche Entwicklung der Verbräuche und Preise bewert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kalkulation und abgeleitete Kalkulatione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rücksichtigung einer voraussehbaren Preisentwicklung für ausgewählte Rohstoff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rechnung wahlweise für einen oder mehrere Mon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6120000" cy="24429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000099"/>
                </a:solidFill>
                <a:latin typeface="Comic Sans MS"/>
              </a:rPr>
              <a:t>Nachkalkulation, Plankalkulation und ableitbare Kalkulationen für di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2440" y="3908520"/>
            <a:ext cx="84391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pl. Phys. Steffen Roschek</a:t>
            </a:r>
            <a:br>
              <a:rPr sz="2200"/>
            </a:br>
            <a:r>
              <a:rPr b="1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ulting GmbH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iesbaden, de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3. September 200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oraussetzungen zur Anwendung des Add-on‘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981000"/>
            <a:ext cx="86868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ch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legen und Füllen einer projektspezifischen Informationsstruktur für Materialbuch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s Performancegründen werden die Materialbuchungen nicht der SAP-Tabelle MSEG, sondern einer Informationsstruktur entnommen, die kumulierte Daten enthäl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lankalkulation und abgeleitete Kalkula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wendung des Add-on‘s </a:t>
            </a:r>
            <a:r>
              <a:rPr b="1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Mengenbilan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geplanten Mengen pro Erzeugnis werden der Mengenbilanz entnomm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alls vorhersehbare Änderungen von Rohstoffpreisen berücksichtigt werden sollen, muß der Bedarf für die entsprechenden Zeiträume und Rohstoffe in der Mengenbilanz bereitgestellt werd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zu sind die betreffenden Rohstoffe in den Materialstammdaten als ‚bilanzrelevant‘ (projektspezifisches Kennzeichen) zu kennzeichn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usätzlich ist eine Tabelle der benötigten Rohstoffpreise zu pflege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rative Materialkalkulation: SAP im Vergleich zu Exc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2852280"/>
            <a:ext cx="837072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18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AP erfolgt eine ‚strenge‘ Formatierung der Rechenergebnisse, d.h., jede weitere Berechnung erfolgt mit den angezeigten Zahlen. Dadurch wird eine manuelle Berechnung ‚nachempfunden‘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l bezieht die Formatierung nur auf die Anzeige, d.h.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 Hintergrund wird üblicherweise mit genaueren Zahlen gerechnet, sofern nicht erhöhter Aufwand in die Formeln investiert wird. Das führt u.U. scheinbar zu Widersprüchen (vgl. Spalten D und E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ne iterative Berechnung konvergiert daher unter SAP schlechter als z.B. unter Excel, d.h.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i komplexen Zusammenhängen muß ggf. eine Preisabweichung (zwischen zwei Zyklen) von 0,50 bis 1,00 Euro toleriert werden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s Resultat ist trotzdem in jedem Fall realistischer als ohne Itera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14766" r="57950" b="60536"/>
          <a:stretch/>
        </p:blipFill>
        <p:spPr>
          <a:xfrm>
            <a:off x="2050920" y="907920"/>
            <a:ext cx="4102200" cy="18082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undidee des Add-on‘s </a:t>
            </a:r>
            <a:r>
              <a:rPr b="0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Produktkalkulation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6868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duktkalkulation auf der Basis der Standard-Transaktion CK11 (Materialkalkula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s Add-on </a:t>
            </a:r>
            <a:r>
              <a:rPr b="0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Produktkalkulation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stellt die notwendigen Daten berei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bereitete Stückli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bereitete Planungsrezep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bereitete Rohstoffprei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olge der Verwendung der Standard-Transaktion CK11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le Resultate werden in SAP-Standard-Tabellen gespeich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Ergebnisse sind mit SAP-Standard-Werkzeugen und Eigenentwicklungen des Anwenders auswert- und weiterverarbeitb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ndlagen der Materialkalkulation im SAP-Stand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45086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-36180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lösungstermi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4680" indent="-36180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ültigkeit der Stücklisten und Planungsrezepte (Arbeitsplän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wertungstermi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4680" indent="-36180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ültigkeit der Rohstoffpreise (u.a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11280" y="836640"/>
          <a:ext cx="3287520" cy="343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836640"/>
                    <a:ext cx="3287520" cy="34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6012000" y="981000"/>
          <a:ext cx="2523960" cy="2625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981000"/>
                    <a:ext cx="2523960" cy="26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ndlagen der Materialkalkulation im SAP-Standard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4419360"/>
            <a:ext cx="86868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stammdaten / Kalkulationssicht 2 - für Planungszweck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ukünftiger Pre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3 Planpreise mit Gültigkeitsdat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dd-on </a:t>
            </a:r>
            <a:r>
              <a:rPr b="0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Produktkalkulatio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x. 12 Planpreise (monatliche Preis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403280" y="1163520"/>
          <a:ext cx="5988240" cy="310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163520"/>
                    <a:ext cx="5988240" cy="31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kursive Stücklisten in der Materialkalk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3573000"/>
            <a:ext cx="8839080" cy="2590920"/>
          </a:xfrm>
          <a:prstGeom prst="rect">
            <a:avLst/>
          </a:prstGeom>
          <a:noFill/>
          <a:ln w="0">
            <a:noFill/>
          </a:ln>
        </p:spPr>
        <p:txBody>
          <a:bodyPr lIns="54000" rIns="18000" tIns="46800" bIns="46800" anchor="t">
            <a:normAutofit fontScale="99000"/>
          </a:bodyPr>
          <a:p>
            <a:pPr marL="376920" indent="-37692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: Markierung der Materialstücklisten als ‚rekursiv‘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tufig rekursive Stücklisten führen zu einer korrekten Kalkulation, die jedoch als fehlerhaft gekennzeichnet ist (-&gt; Sondermaßnahm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terative Materialkalkulation im Add-on </a:t>
            </a:r>
            <a:r>
              <a:rPr b="0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Produktkalkulatio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iederholung der Kalkulation für alle Erzeugnisse unter Berücksichtigung der im vorherigen Zyklus berechneten Erzeugnispreise, b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76920">
              <a:lnSpc>
                <a:spcPct val="90000"/>
              </a:lnSpc>
              <a:spcBef>
                <a:spcPts val="425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zwischen zwei aufeinanderfolgenden Zyklen die Preisabweichung pro Erzeugnis einen vorgegebenen Grenzwert unterschreitet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76920">
              <a:lnSpc>
                <a:spcPct val="80000"/>
              </a:lnSpc>
              <a:spcBef>
                <a:spcPts val="425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oder eine vorgegebene maximale Zyklusanzahl erreicht wird (Ausnahme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49480" y="1219320"/>
            <a:ext cx="1440000" cy="539640"/>
          </a:xfrm>
          <a:prstGeom prst="flowChartProcess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zeugn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2127240"/>
            <a:ext cx="1440000" cy="539640"/>
          </a:xfrm>
          <a:prstGeom prst="flowChartProcess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wischen-Produk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2133720"/>
            <a:ext cx="1439640" cy="539640"/>
          </a:xfrm>
          <a:prstGeom prst="flowChartProcess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wischen-Produk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3041640"/>
            <a:ext cx="1439640" cy="539640"/>
          </a:xfrm>
          <a:prstGeom prst="flowChartProcess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hstoff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3048120"/>
            <a:ext cx="1439640" cy="539640"/>
          </a:xfrm>
          <a:prstGeom prst="flowChartProcess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hstoff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041640"/>
            <a:ext cx="1439640" cy="539640"/>
          </a:xfrm>
          <a:prstGeom prst="flowChartProcess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zeugn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887560" y="175212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4182840" y="266652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201760" y="2666520"/>
            <a:ext cx="12193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97200" y="1752120"/>
            <a:ext cx="8380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801960" y="26665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57800" y="1905120"/>
            <a:ext cx="225108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41760" bIns="41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Infolge des Einsatzes von Chargen oos, Verschnitt usw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05320" y="1447920"/>
            <a:ext cx="4038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43800" y="14479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095880" y="32767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chkalkulation (Ist-Kalkula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harakteristik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ginn- und Endperiode liegen in vergangenen Period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alkulationszeitraum: max. 1 Jahr, ohne Jahreswechs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age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buchte Materialbeweg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buchte Ressourcenverbräuche (Theorie), stattdesse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erteilung der Istkosten pro Kostenstelle auf die Erzeugnisse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 der Grundlage der durch die Herstellung jedes Erzeugnisses verursachten Anlagenauslastung     od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buchte Leistungen, Verrechnungen und Umlagen pro Erzeugn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tomatische additive Kalkulation (Standard-Transaktion CK7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ür Leistungen, Verrechnungen und Umlag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onderhei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e Kalkulationsergebnisse werden nur gesichert,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jedoch nicht freigegeb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kalk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harakteristik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ginn- und Endperiode liegen in künftigen Period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alkulationszeitraum: 1 Jah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age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alkulations-Stücklis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onatsbilanz für Erzeugnis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plante Rohstoffpreise (jährlic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nuelle additive Kalkulation (TA CK74) nach manuellen Vorgaben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Berücksichtigung geplanter Leistungen, Verrechnungen und Umlage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onderhei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e Kalkulationsergebnisse werden freigegeben,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.h., der kalkulierte Preis wird in einem separaten Arbeitsgang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 die Materialstammdaten eingetrage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chrech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18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harakteristik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ginnperiode liegt in künftiger Peri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ndperiode liegt in künftiger oder aktueller Peri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alkulationszeitraum: max. 1 Jahr, ohne Jahreswechs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age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alkulations-Stücklis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onatsbilanz für Erzeugnisse und ausgewählte Rohstoff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plante Rohstoffpreise monatli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nuelle additive Kalkulation (TA CK74) nach manuellen Vorgaben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geplante Leistungen, Verrechnungen und Umlage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nkbare Weiterentwicklung: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‚Hochrechnung‘ der zur Plankalkulation verwendeten Dat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onderhei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rechnung gewichteter Rohstoffpreise auf der Grundlage der  geplanten Rohstoffpreise und der zugehörigen Monatsbilanz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51"/>
              </a:spcBef>
              <a:buNone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chkalk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akteristik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nperiode liegt in künftiger oder aktueller Peri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periode liegt in vergangener Peri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itraum für Ist- und Plan-Berechnung: jeweils max. 1 Jah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Jahreswechsel ist zwischen Ist- und Planberechnung möglic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undlag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chung zwischen Nachkalkulation und Hochrech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08:57:14Z</dcterms:created>
  <dc:creator>Arnd Gebert</dc:creator>
  <dc:description/>
  <dc:language>en-US</dc:language>
  <cp:lastModifiedBy>Dr. Jochen Winkler</cp:lastModifiedBy>
  <cp:lastPrinted>2003-01-28T09:42:42Z</cp:lastPrinted>
  <dcterms:modified xsi:type="dcterms:W3CDTF">2003-10-07T16:02:56Z</dcterms:modified>
  <cp:revision>176</cp:revision>
  <dc:subject/>
  <dc:title>Monatsabschluß BAS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34488763</vt:r8>
  </property>
  <property fmtid="{D5CDD505-2E9C-101B-9397-08002B2CF9AE}" pid="3" name="_AuthorEmail">
    <vt:lpwstr>roschek@srcon.de</vt:lpwstr>
  </property>
  <property fmtid="{D5CDD505-2E9C-101B-9397-08002B2CF9AE}" pid="4" name="_AuthorEmailDisplayName">
    <vt:lpwstr>Roschek Steffen</vt:lpwstr>
  </property>
  <property fmtid="{D5CDD505-2E9C-101B-9397-08002B2CF9AE}" pid="5" name="_EmailSubject">
    <vt:lpwstr>Folienvortraege fuer WS 23.09.03 in Wiesbaden</vt:lpwstr>
  </property>
  <property fmtid="{D5CDD505-2E9C-101B-9397-08002B2CF9AE}" pid="6" name="_ReviewingToolsShownOnce">
    <vt:lpwstr/>
  </property>
</Properties>
</file>