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10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B30-E12C-4449-9A7E-54D14E71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752-E219-4872-9695-579F4638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E42-0583-41FA-A90C-8F0BBF86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9B1-679D-464C-B084-36BFB87B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7C7E-2BFC-459D-93A3-50477CE8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4B6-A577-4E2D-8B17-8037A2B1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CEBB-F3AF-4802-99B2-0302CEA5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CAA-3C93-45D6-9459-3EB02FAC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964-B9D7-44D9-B456-BF36CABF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364-9731-4B29-A4D7-6812617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4CA-D652-42FC-A04E-4DA1D39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39A-FD77-4B41-8252-BEC7A20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28584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AE543570-2529-4DC5-9097-CD86F2C9A6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Wiesbaden, 23.09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load für Plan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odukt : tägliche und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oduktion,  Versand, Sekundärbedarf, Eigenbedarf, Zukauf, Bestand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 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 Planungshierarchien, Produkt, Kunde und Kennziffer wie Menge Inland, Menge Export, Erlöse, Menge Transportweg, …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nd monatlich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B34-7F94-49B3-8429-B9F7773C6C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7667" r="48684" b="14911"/>
          <a:stretch/>
        </p:blipFill>
        <p:spPr>
          <a:xfrm>
            <a:off x="380880" y="620640"/>
            <a:ext cx="822960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330-4561-4F33-BEF7-4F0094ABB3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246-9CA8-4E37-A260-3D98D44CFC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der Bilanzgleich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557360"/>
            <a:ext cx="1944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1557360"/>
            <a:ext cx="259236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7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kundärbedar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1844640"/>
            <a:ext cx="1944720" cy="71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292640"/>
            <a:ext cx="194472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437000"/>
            <a:ext cx="16574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4292640"/>
            <a:ext cx="2664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4365720"/>
            <a:ext cx="1944720" cy="718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3716280"/>
            <a:ext cx="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4500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ne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=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  P   +   Z   –   A   –   S   –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852640"/>
            <a:ext cx="1944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413000"/>
            <a:ext cx="93492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736000" y="2816280"/>
            <a:ext cx="647640" cy="719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852640"/>
            <a:ext cx="720720" cy="647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419280" y="2204640"/>
            <a:ext cx="1944360" cy="647640"/>
          </a:xfrm>
          <a:custGeom>
            <a:avLst/>
            <a:gdLst>
              <a:gd name="textAreaLeft" fmla="*/ 427320 w 1944360"/>
              <a:gd name="textAreaRight" fmla="*/ 1517040 w 194436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1116000" y="3499560"/>
            <a:ext cx="6696000" cy="360360"/>
          </a:xfrm>
          <a:custGeom>
            <a:avLst/>
            <a:gdLst>
              <a:gd name="textAreaLeft" fmla="*/ 1472400 w 6696000"/>
              <a:gd name="textAreaRight" fmla="*/ 5223600 w 6696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29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19280" y="3212640"/>
            <a:ext cx="1512720" cy="1079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3357720"/>
            <a:ext cx="1727280" cy="9349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557360"/>
            <a:ext cx="9349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1844640"/>
            <a:ext cx="115272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F51-0C3A-405A-A620-AFCF8E6C4D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ne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+    P   +   Z   –   A   –   S   –   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Ist-Daten erfolgt keine Berechnung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Plandaten kann 1 Term immer berechnet werden. Folgende Vorgehensweise ist sinnvoll, falls der Absatz vorgegeben is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kundärbedarf berech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oduktion berechnen (falls P sich aus Absatz ergibt;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nst P unverändert aus Schnittstel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 = A + S + E –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 berechnen      B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 P + Z – A – S – 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58A-C570-4388-B143-A6406FE90C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druckdamp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spezielle Bilan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70C-2FAE-44A5-A0A3-3AEFB873E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tel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gesamte Anfall von MD-Dampf soll einem Produkt X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eführt werden, dafür ist der Verbrauch von MD-Dampf bei diesem Produkt um die Menge des Anfalls zu reduzier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48360" y="2852640"/>
          <a:ext cx="3246480" cy="3003480"/>
        </p:xfrm>
        <a:graphic>
          <a:graphicData uri="http://schemas.openxmlformats.org/drawingml/2006/table">
            <a:tbl>
              <a:tblPr/>
              <a:tblGrid>
                <a:gridCol w="2163960"/>
                <a:gridCol w="108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ck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ierung v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sächlicher 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826920" y="3284640"/>
            <a:ext cx="25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422520"/>
            <a:ext cx="302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299736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1280" y="450864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132000" y="3645000"/>
            <a:ext cx="2016360" cy="792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2000" y="4508640"/>
            <a:ext cx="2016360" cy="576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5840" y="3351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354-2CE1-44A1-BB87-FD25A30885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Produktion MD-Dampf 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Standa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Add-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603520"/>
          <a:ext cx="403848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3520"/>
                    <a:ext cx="403848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076720" y="1197000"/>
          <a:ext cx="3384720" cy="3247920"/>
        </p:xfrm>
        <a:graphic>
          <a:graphicData uri="http://schemas.openxmlformats.org/drawingml/2006/table">
            <a:tbl>
              <a:tblPr/>
              <a:tblGrid>
                <a:gridCol w="1871640"/>
                <a:gridCol w="15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1197000"/>
          <a:ext cx="3240000" cy="4538520"/>
        </p:xfrm>
        <a:graphic>
          <a:graphicData uri="http://schemas.openxmlformats.org/drawingml/2006/table">
            <a:tbl>
              <a:tblPr/>
              <a:tblGrid>
                <a:gridCol w="1873080"/>
                <a:gridCol w="136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 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851280" y="2924280"/>
            <a:ext cx="360360" cy="2089080"/>
          </a:xfrm>
          <a:custGeom>
            <a:avLst/>
            <a:gdLst>
              <a:gd name="textAreaLeft" fmla="*/ 0 w 360360"/>
              <a:gd name="textAreaRight" fmla="*/ 129960 w 360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84720" y="3429000"/>
            <a:ext cx="72072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FF9-F3BC-427D-81D8-E26AF6AAD2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der MD-Bilanz kann eine ND-Bilanz aufgebaut werden. Beim Einsatz von MD-Dampf fällt ND-Dampf an. Der Anfall von ND-Dampf kann in einem anderen Produkt eingesetzt werd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5013360"/>
            <a:ext cx="3457800" cy="72072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Her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3716280"/>
            <a:ext cx="2881440" cy="647640"/>
          </a:xfrm>
          <a:prstGeom prst="flowChartAlternateProcess">
            <a:avLst/>
          </a:prstGeom>
          <a:gradFill rotWithShape="0">
            <a:gsLst>
              <a:gs pos="0">
                <a:srgbClr val="bbe0e3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&gt; Anfall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2349360"/>
            <a:ext cx="309564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Abbla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23640" y="4005360"/>
            <a:ext cx="647640" cy="11523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356000" y="2924280"/>
            <a:ext cx="2303640" cy="79200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0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584-E146-46A7-9408-4A9E6C5B82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1484280"/>
            <a:ext cx="561672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1844640"/>
            <a:ext cx="16574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92360" y="2133720"/>
            <a:ext cx="165564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1700280"/>
            <a:ext cx="165564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76360" y="3141720"/>
            <a:ext cx="5616720" cy="122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284640"/>
            <a:ext cx="16556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4869000"/>
            <a:ext cx="5616720" cy="1152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5013360"/>
            <a:ext cx="1656000" cy="287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112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2781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5445000"/>
            <a:ext cx="1656000" cy="287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3860640"/>
            <a:ext cx="1655640" cy="287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3573360"/>
            <a:ext cx="1657440" cy="289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5229360"/>
            <a:ext cx="1657080" cy="288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50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de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08360" y="17002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335772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501336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24210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4221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273-9D17-458A-A366-AF75E238FA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PP-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zu jwMengenbilanz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plan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9857-44E3-455E-B3CA-B543046A1A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wachsäu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ukauf von Salpetersäure wird berech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ktroenerg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ukauf wird berechnet aus der fehlenden Men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brauch – Anfall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enluf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Verteilung der Instrumentenluft wird berech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üssiger Stickstof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Zukauf wird berech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dga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eingesetzte Erdgas beeinflusst den Preis von  Ammoniak. Hier erfolgt eine Bilanz für einen wichtigen Rohstoff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2FB-CA8C-4375-8C8E-88C4E9AE92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DE2-0BDB-4B61-BEC5-388C068B19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B     10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A      1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Jeweils 100 to von A und B sollen verkauf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Ein Initialbestand von B  (10 to) sei vorhande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rekursive Stück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71640" y="220500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492360" y="299736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922200" y="1700280"/>
            <a:ext cx="1800" cy="129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1700280"/>
            <a:ext cx="576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9C1-A01D-447E-9488-69E8A1A7D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147160" cy="3405240"/>
        </p:xfrm>
        <a:graphic>
          <a:graphicData uri="http://schemas.openxmlformats.org/drawingml/2006/table">
            <a:tbl>
              <a:tblPr/>
              <a:tblGrid>
                <a:gridCol w="723960"/>
                <a:gridCol w="1285920"/>
                <a:gridCol w="1498320"/>
                <a:gridCol w="1428840"/>
                <a:gridCol w="1625760"/>
                <a:gridCol w="158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/2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/222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452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45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826920" y="5516640"/>
            <a:ext cx="77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s =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,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700360" y="2565360"/>
            <a:ext cx="431640" cy="719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41A-B806-4BEE-934C-B47CDC04C2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Iteration erfolgt also in der Fol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Sekundärbedarf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Produktion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Spec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Konvergenzkonstante  Epsil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- 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+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d in einer Customizing Table gesetzt.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ispiel  auf 0,00001, also auf 0,001 %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0EB-5A4A-4BC0-BB55-1CAF8B1E17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maximale Anzahl der Iterationen wird in einer Customizing Tabelle gesetzt. Sie beträgt gegenwärtig 5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Nichterreichen der Konvergenz wird gemeldet (Monat, Material-Nr., berechnetes Epsilon).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96A-FA94-49AE-9410-633DB72F7F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 erfolgt in den Schritten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2276640"/>
            <a:ext cx="2232000" cy="187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2349360"/>
            <a:ext cx="22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1640" y="4581360"/>
            <a:ext cx="244800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32000" y="479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6836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68360" y="328464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8360" y="3284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4365720"/>
            <a:ext cx="792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01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73C-A251-4282-9C13-B162B02A1D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 Monat werden 100 Produkte berechnet. Dafür werden im Durchschnitt 15 Iterationen benöti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die Bilanz für immer für 12 Monate benötigt wird ergeben si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x 15 x 12 = 18.000 Berechnung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 5-7 Min. für 12 Mon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szeit sinkt bei Mischversione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DCB-6602-4A8E-96C4-9ED9DB0373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A02-789A-4513-A4AA-2D6E9DDF2D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5280" y="1268280"/>
            <a:ext cx="5614920" cy="1979640"/>
            <a:chOff x="395280" y="1268280"/>
            <a:chExt cx="5614920" cy="19796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0" t="6989" r="57699" b="65955"/>
            <a:stretch/>
          </p:blipFill>
          <p:spPr>
            <a:xfrm>
              <a:off x="395280" y="1268280"/>
              <a:ext cx="56149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 txBox="1"/>
            <p:nvPr/>
          </p:nvSpPr>
          <p:spPr>
            <a:xfrm>
              <a:off x="395280" y="1268280"/>
              <a:ext cx="5614920" cy="19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39640" y="3789360"/>
            <a:ext cx="770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-Daten aktualisieren 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Analysiert alle IST - Bu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daten aktualisiere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tellt alle Plandaten einer   Planversion be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2060640"/>
            <a:ext cx="3313080" cy="288720"/>
          </a:xfrm>
          <a:prstGeom prst="wedgeRoundRectCallout">
            <a:avLst>
              <a:gd name="adj1" fmla="val -60495"/>
              <a:gd name="adj2" fmla="val 67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1989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nz Jahr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8360" y="2708280"/>
            <a:ext cx="3456000" cy="360360"/>
          </a:xfrm>
          <a:prstGeom prst="wedgeRoundRectCallout">
            <a:avLst>
              <a:gd name="adj1" fmla="val -67777"/>
              <a:gd name="adj2" fmla="val -57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8436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17B-0FC6-4904-A42F-1220AA7D1D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zu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sicht der exakten Mengenflüsse in einer Zeitein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ücksichtigung von Rekursivitäten und Specials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affung der Voraussetzung zur Ermittlung der exakten Produktkos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EA0-41A9-4E50-9517-58056D4CC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00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Ist-Da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Ax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Plan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Cxx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nach Version kann eine Bilanz aus Ist-Daten, Plandaten oder eine gemischte Version aus Ist- und Plandaten erstellt werde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9ED-DA5E-4C3A-A3A2-50419B943B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2752560"/>
          <a:ext cx="403848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914400" y="1219320"/>
            <a:ext cx="7112160" cy="598320"/>
            <a:chOff x="914400" y="1219320"/>
            <a:chExt cx="7112160" cy="59832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rcRect l="42120" t="10676" r="13253" b="82492"/>
            <a:stretch/>
          </p:blipFill>
          <p:spPr>
            <a:xfrm>
              <a:off x="914400" y="1219320"/>
              <a:ext cx="71121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 txBox="1"/>
            <p:nvPr/>
          </p:nvSpPr>
          <p:spPr>
            <a:xfrm>
              <a:off x="914400" y="1219320"/>
              <a:ext cx="7112160" cy="59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4"/>
          <a:srcRect l="19602" t="16686" r="25102" b="38145"/>
          <a:stretch/>
        </p:blipFill>
        <p:spPr>
          <a:xfrm>
            <a:off x="1476360" y="1916280"/>
            <a:ext cx="5923080" cy="3630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547640" y="57340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aktuelle Controlling Bilanz wird erzeug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42E-E06B-4B74-8731-04128C6D39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4360" y="1125360"/>
          <a:ext cx="74498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4498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826920" y="4437000"/>
            <a:ext cx="11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4292640"/>
            <a:ext cx="1079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87480" y="2343240"/>
            <a:ext cx="390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24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00815 Dünger 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AD5-E2F6-4F59-8EE2-9F752A0143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plette Mengenübersicht über die Planung aller Produkte (IST - Bilanz, Mischbilanz, Planbilanz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übersicht über die Specials (Medien, Zukauf, Rohstoff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raussetzung für die monatliche Produktkalkul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F2D-2C60-4344-9762-583BDEE585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Düsseldorf, 23.09.2003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lanung gilt für die Mengenbilanz als Voraussetzung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man auch Bilanzen für zukünftige Zeiträum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trachten möch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 gibt folgende Möglichkeiten: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 Standa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u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Lösun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chnittste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791-DB40-4808-BFA9-6C191F8AED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Produktion für einige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Hauptproduk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rfolgt kontinuierlich nach Kundenaufträgen und Erfahrungswerten. Sie ist planungsintensiv, weil sie abhängig ist v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Anlagenauslastung (kontinuierlich, möglichst 10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Produktverpflech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brauch für nachfolgende Produktio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Lagerkapazitä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ximale Lagerkapazität, Mindestlagerbestand, Mindestlagerz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Versand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bsatz, Transportwege, Außenlag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Anlagenkapazität (Wartung, Reparatu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 Saison (Kundenbedarf) 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m We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den im Excel gepl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034-8D35-4893-947E-A9CC284DBF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übrigen  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t nicht planungsrelevant. Sie erfolgt diskontinuierlich nach Kundenaufträgen und Erfahrungswer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geplanter Absatz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l der Verbrauch der Hauptprodukte an der Gesamtproduktion gering ist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rd im SAP gepla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24E5-63CF-426F-A405-8446683F40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1197000"/>
            <a:ext cx="7416720" cy="216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1341360"/>
            <a:ext cx="5977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AP ist das Master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Daten sind auf einer Datenbank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005360"/>
            <a:ext cx="7489800" cy="2232000"/>
          </a:xfrm>
          <a:prstGeom prst="rect">
            <a:avLst/>
          </a:prstGeom>
          <a:gradFill rotWithShape="0">
            <a:gsLst>
              <a:gs pos="0">
                <a:srgbClr val="bbe0e3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149720"/>
            <a:ext cx="741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xcel ist ein Operator zur Bestimmung der Abhängigkeiten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des Absatzes und der Produktion; Störungen, Nebenbedingungen, An- und Abfahrprozesse, Wetter, Erfahrungen, Kopf des Mens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rvorragendes Layout; flexible Zellreferenz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03640" y="3357360"/>
            <a:ext cx="0" cy="647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335772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2637000"/>
            <a:ext cx="2052720" cy="647640"/>
          </a:xfrm>
          <a:prstGeom prst="wedgeRoundRectCallout">
            <a:avLst>
              <a:gd name="adj1" fmla="val -186351"/>
              <a:gd name="adj2" fmla="val 120587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763-4372-4DC0-BE5E-048C559F85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load für Ist-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pro Produkt : tägliche und monatliche Ist-Daten (Produktion,  Versand, Sekundärbedarf, Eigenbedarf, Zukauf, Best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; pro Monat : monatliche Ist-Daten (bis     Monatsabschluss), Plandaten für Rest des Jahres (variabel kumuliert nach 3 Planungshierarchien, Produkt,      Kunde und Kennziffer wie Inland, Export, Erlöse,       Transportweg, …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: ausgewählter Verbrauch von  Zwischenprodu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EACA-8000-43BF-8DCF-41375C426B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26" r="56066" b="10039"/>
          <a:stretch/>
        </p:blipFill>
        <p:spPr>
          <a:xfrm>
            <a:off x="380880" y="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8EA-ABF0-4416-9D03-431C08B8E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dcterms:modified xsi:type="dcterms:W3CDTF">2003-10-07T16:01:24Z</dcterms:modified>
  <cp:revision>152</cp:revision>
  <dc:subject/>
  <dc:title>Bernd Mickley  jwConsulting   http:// www.jwconsulting.de</dc:title>
</cp:coreProperties>
</file>