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wmf" ContentType="image/x-wmf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7.wmf" ContentType="image/x-wmf"/>
  <Override PartName="/ppt/media/image12.wmf" ContentType="image/x-wmf"/>
  <Override PartName="/ppt/media/image13.png" ContentType="image/png"/>
  <Override PartName="/ppt/media/image10.png" ContentType="image/png"/>
  <Override PartName="/ppt/media/image6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669B-1490-4BF9-AE6C-C1121B546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49FC-6F9D-4496-BF56-F3DBA1DB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489C-6B1E-4355-986A-F562D45E6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B2FD-A418-4734-BC84-A4AD697C3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A222-0E07-4C35-B57F-6BF92EAE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F3A7-6C63-4AC2-877D-D05C0AD0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BECE-3197-4B9F-99DF-DEBDA26A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2F9C-6E17-413A-A858-222845E2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558E-76D6-4F35-B1C4-46A13341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3D4D-8A65-4044-9738-0EEEFB03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400E-D0DD-4CFE-97FB-40CC16C9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6490-D046-4411-8378-1670142D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54080" indent="-285840">
              <a:spcBef>
                <a:spcPts val="55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89216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1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1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1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rnd Mickl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2AF8CB9B-2398-48AB-976C-50BD1C55F20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066680"/>
            <a:ext cx="82296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image" Target="../media/image6.jpeg"/><Relationship Id="rId22" Type="http://schemas.openxmlformats.org/officeDocument/2006/relationships/image" Target="../media/image6.jpeg"/><Relationship Id="rId23" Type="http://schemas.openxmlformats.org/officeDocument/2006/relationships/image" Target="../media/image6.jpeg"/><Relationship Id="rId24" Type="http://schemas.openxmlformats.org/officeDocument/2006/relationships/image" Target="../media/image6.jpeg"/><Relationship Id="rId25" Type="http://schemas.openxmlformats.org/officeDocument/2006/relationships/image" Target="../media/image6.jpeg"/><Relationship Id="rId26" Type="http://schemas.openxmlformats.org/officeDocument/2006/relationships/image" Target="../media/image6.jpeg"/><Relationship Id="rId27" Type="http://schemas.openxmlformats.org/officeDocument/2006/relationships/image" Target="../media/image6.jpeg"/><Relationship Id="rId28" Type="http://schemas.openxmlformats.org/officeDocument/2006/relationships/image" Target="../media/image6.jpeg"/><Relationship Id="rId29" Type="http://schemas.openxmlformats.org/officeDocument/2006/relationships/image" Target="../media/image6.jpeg"/><Relationship Id="rId30" Type="http://schemas.openxmlformats.org/officeDocument/2006/relationships/image" Target="../media/image6.jpeg"/><Relationship Id="rId3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6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16000" y="5013360"/>
            <a:ext cx="6472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2b2b2"/>
                </a:solidFill>
                <a:latin typeface="Arial"/>
              </a:rPr>
              <a:t>Wiesbaden, 23.09.2003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9cc00"/>
                </a:solidFill>
                <a:latin typeface="Arial"/>
              </a:rPr>
              <a:t>http:// www.jwconsulting.d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464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476280"/>
            <a:ext cx="8713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genbilanz in der chemischen Indust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1197000"/>
            <a:ext cx="56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6000" y="11970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Bernd Mickley                                  </a:t>
            </a:r>
            <a:r>
              <a:rPr b="1" lang="en-US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Consulting Gmb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76720" y="2852640"/>
            <a:ext cx="156528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nittstelle für die Datenbereitstellu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t OLE2 wegen der Zellreferenzi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pload für Plandaten (Exceldatei mit 4 Mappe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 Produkt : tägliche und monatliche Plandat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roduktion,  Versand, Sekundärbedarf, Eigenbedarf, Zukauf, Bestand)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atz pro Produkt; pro Monat : monatliche   Plandat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 Planungshierarchien, Produkt, Kunde und Kennziffer wie Menge Inland, Menge Export, Erlöse, Menge Transportweg, … 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sand monatlich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6CA7-C0DB-4A89-B0EE-3E0DEC4759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7667" r="48684" b="14911"/>
          <a:stretch/>
        </p:blipFill>
        <p:spPr>
          <a:xfrm>
            <a:off x="380880" y="620640"/>
            <a:ext cx="8229600" cy="540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6892-C3EE-4B6E-8BE8-D99D61B4A1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 allgemeine Bilanzgleichu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rechnung von Term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12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120000"/>
              </a:lnSpc>
              <a:spcBef>
                <a:spcPts val="71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120000"/>
              </a:lnSpc>
              <a:spcBef>
                <a:spcPts val="71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D3C1-D4EE-48E9-B62C-B0E97FFA99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 der Bilanzgleich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557360"/>
            <a:ext cx="1944720" cy="86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56360" y="1557360"/>
            <a:ext cx="2592360" cy="93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5640" y="1700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372360" y="1773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kundärbedarf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6000" y="1844640"/>
            <a:ext cx="1944720" cy="716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4292640"/>
            <a:ext cx="1944720" cy="792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4437000"/>
            <a:ext cx="165744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uka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87640" y="4292640"/>
            <a:ext cx="2664000" cy="79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a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16720" y="4365720"/>
            <a:ext cx="1944720" cy="7189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genbeda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27640" y="3716280"/>
            <a:ext cx="0" cy="57636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5445000"/>
            <a:ext cx="792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(neu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=   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(alt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+    P   +   Z   –   A   –   S   –  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19640" y="2852640"/>
            <a:ext cx="194436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24360" y="1413000"/>
            <a:ext cx="934920" cy="7920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2736000" y="2816280"/>
            <a:ext cx="647640" cy="71928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64000" y="2852640"/>
            <a:ext cx="720720" cy="6476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3419280" y="2204640"/>
            <a:ext cx="1944360" cy="647640"/>
          </a:xfrm>
          <a:custGeom>
            <a:avLst/>
            <a:gdLst>
              <a:gd name="textAreaLeft" fmla="*/ 427320 w 1944360"/>
              <a:gd name="textAreaRight" fmla="*/ 1517040 w 1944360"/>
              <a:gd name="textAreaTop" fmla="*/ 142200 h 647640"/>
              <a:gd name="textAreaBottom" fmla="*/ 5054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1116000" y="3499560"/>
            <a:ext cx="6696000" cy="360360"/>
          </a:xfrm>
          <a:custGeom>
            <a:avLst/>
            <a:gdLst>
              <a:gd name="textAreaLeft" fmla="*/ 1472400 w 6696000"/>
              <a:gd name="textAreaRight" fmla="*/ 5223600 w 6696000"/>
              <a:gd name="textAreaTop" fmla="*/ 79200 h 360360"/>
              <a:gd name="textAreaBottom" fmla="*/ 2811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64000" y="2924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619280" y="3212640"/>
            <a:ext cx="1512720" cy="10796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24360" y="3357720"/>
            <a:ext cx="1727280" cy="93492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1557360"/>
            <a:ext cx="934920" cy="129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27280" y="1844640"/>
            <a:ext cx="1152720" cy="57636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865E-3CBA-425E-9956-C5BF2AB9FD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rechnung von Termen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(neu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(alt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+    P   +   Z   –   A   –   S   –   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i Ist-Daten erfolgt keine Berechnung 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i Plandaten kann 1 Term immer berechnet werden. Folgende Vorgehensweise ist sinnvoll, falls der Absatz vorgegeben is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ekundärbedarf berech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roduktion berechnen (falls P sich aus Absatz ergibt;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nst P unverändert aus Schnittstelle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 = A + S + E – Z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stand berechnen      B = B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(alt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  P + Z – A – S – E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08F0-6557-4AA2-839C-D4C111301B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tteldruckdampf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iederdruckdamp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mpfbilanzket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itere spezielle Bilanz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EDD7-AEA6-4C0B-8168-96F9EBCB79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tteldruckdamp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06436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 gesamte Anfall von MD-Dampf soll einem Produkt X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ugeführt werden, dafür ist der Verbrauch von MD-Dampf bei diesem Produkt um die Menge des Anfalls zu reduzier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148360" y="2852640"/>
          <a:ext cx="3246480" cy="3003480"/>
        </p:xfrm>
        <a:graphic>
          <a:graphicData uri="http://schemas.openxmlformats.org/drawingml/2006/table">
            <a:tbl>
              <a:tblPr/>
              <a:tblGrid>
                <a:gridCol w="2163960"/>
                <a:gridCol w="1082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 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ücklis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rauch von MD-Damp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74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zierung v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D-Damp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00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tsächlicher Verbrauch von MD-Damp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826920" y="3284640"/>
            <a:ext cx="252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3422520"/>
            <a:ext cx="3024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11280" y="2997360"/>
          <a:ext cx="2592360" cy="1047600"/>
        </p:xfrm>
        <a:graphic>
          <a:graphicData uri="http://schemas.openxmlformats.org/drawingml/2006/table">
            <a:tbl>
              <a:tblPr/>
              <a:tblGrid>
                <a:gridCol w="1512720"/>
                <a:gridCol w="107964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fall von MD-Damp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611280" y="4508640"/>
          <a:ext cx="2592360" cy="1047600"/>
        </p:xfrm>
        <a:graphic>
          <a:graphicData uri="http://schemas.openxmlformats.org/drawingml/2006/table">
            <a:tbl>
              <a:tblPr/>
              <a:tblGrid>
                <a:gridCol w="1512720"/>
                <a:gridCol w="107964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fall von MD-Damp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3132000" y="3645000"/>
            <a:ext cx="2016360" cy="79200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132000" y="4508640"/>
            <a:ext cx="2016360" cy="57600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95840" y="33512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BFC5-02C4-422F-BC1C-28523EBEB3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Produktion MD-Dampf </a:t>
            </a:r>
            <a:br>
              <a:rPr sz="24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Standar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Add-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2603520"/>
          <a:ext cx="4038480" cy="25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03520"/>
                    <a:ext cx="4038480" cy="25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5076720" y="1197000"/>
          <a:ext cx="3384720" cy="3247920"/>
        </p:xfrm>
        <a:graphic>
          <a:graphicData uri="http://schemas.openxmlformats.org/drawingml/2006/table">
            <a:tbl>
              <a:tblPr/>
              <a:tblGrid>
                <a:gridCol w="1871640"/>
                <a:gridCol w="1513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nnz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at x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at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k.Beda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72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k.Beda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72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k.Beda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95280" y="1197000"/>
          <a:ext cx="3240000" cy="4538520"/>
        </p:xfrm>
        <a:graphic>
          <a:graphicData uri="http://schemas.openxmlformats.org/drawingml/2006/table">
            <a:tbl>
              <a:tblPr/>
              <a:tblGrid>
                <a:gridCol w="1873080"/>
                <a:gridCol w="1366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nnz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at x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at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e Sek.Beda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k.Bedarf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k.Beda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k.Bedarf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k.Beda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3851280" y="2924280"/>
            <a:ext cx="360360" cy="2089080"/>
          </a:xfrm>
          <a:custGeom>
            <a:avLst/>
            <a:gdLst>
              <a:gd name="textAreaLeft" fmla="*/ 0 w 360360"/>
              <a:gd name="textAreaRight" fmla="*/ 129960 w 360360"/>
              <a:gd name="textAreaTop" fmla="*/ 54360 h 2089080"/>
              <a:gd name="textAreaBottom" fmla="*/ 203472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284720" y="3429000"/>
            <a:ext cx="720720" cy="503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9D44-FF86-4AB6-B2B8-09DA6F6017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og der MD-Bilanz kann eine ND-Bilanz aufgebaut werden. Beim Einsatz von MD-Dampf fällt ND-Dampf an. Der Anfall von ND-Dampf kann in einem anderen Produkt eingesetzt werde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ederdruckdamp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5013360"/>
            <a:ext cx="3457800" cy="720720"/>
          </a:xfrm>
          <a:prstGeom prst="flowChart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D-Dampf Herstel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71640" y="3716280"/>
            <a:ext cx="2881440" cy="647640"/>
          </a:xfrm>
          <a:prstGeom prst="flowChartAlternateProcess">
            <a:avLst/>
          </a:prstGeom>
          <a:gradFill rotWithShape="0">
            <a:gsLst>
              <a:gs pos="0">
                <a:srgbClr val="bbe0e3"/>
              </a:gs>
              <a:gs pos="100000">
                <a:srgbClr val="66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brauch &gt; Anfall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16360" y="2349360"/>
            <a:ext cx="3095640" cy="71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D-Dampf Abbla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123640" y="4005360"/>
            <a:ext cx="647640" cy="1152360"/>
          </a:xfrm>
          <a:prstGeom prst="line">
            <a:avLst/>
          </a:prstGeom>
          <a:ln w="3816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356000" y="2924280"/>
            <a:ext cx="2303640" cy="792000"/>
          </a:xfrm>
          <a:prstGeom prst="line">
            <a:avLst/>
          </a:prstGeom>
          <a:ln w="3816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19280" y="40053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84720" y="3500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61FE-B5BD-4614-9135-5212E39627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mpfbilanzket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76360" y="1484280"/>
            <a:ext cx="5616720" cy="115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84720" y="1844640"/>
            <a:ext cx="1657440" cy="289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k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92360" y="2133720"/>
            <a:ext cx="1655640" cy="287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bra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1700280"/>
            <a:ext cx="1655640" cy="287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76360" y="3141720"/>
            <a:ext cx="5616720" cy="122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92360" y="3284640"/>
            <a:ext cx="1655640" cy="288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76360" y="4869000"/>
            <a:ext cx="5616720" cy="1152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63640" y="5013360"/>
            <a:ext cx="1656000" cy="287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16360" y="1125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D-Damp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43280" y="278136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D-Damp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3640" y="5445000"/>
            <a:ext cx="1656000" cy="287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bra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92360" y="3860640"/>
            <a:ext cx="1655640" cy="2876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bra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56000" y="3573360"/>
            <a:ext cx="1657440" cy="289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k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27640" y="5229360"/>
            <a:ext cx="1657080" cy="288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k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87640" y="4508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den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708360" y="1700280"/>
            <a:ext cx="144360" cy="720720"/>
          </a:xfrm>
          <a:custGeom>
            <a:avLst/>
            <a:gdLst>
              <a:gd name="textAreaLeft" fmla="*/ 0 w 144360"/>
              <a:gd name="textAreaRight" fmla="*/ 5220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80000" y="3357720"/>
            <a:ext cx="144360" cy="720720"/>
          </a:xfrm>
          <a:custGeom>
            <a:avLst/>
            <a:gdLst>
              <a:gd name="textAreaLeft" fmla="*/ 0 w 144360"/>
              <a:gd name="textAreaRight" fmla="*/ 5220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80000" y="5013360"/>
            <a:ext cx="144360" cy="720720"/>
          </a:xfrm>
          <a:custGeom>
            <a:avLst/>
            <a:gdLst>
              <a:gd name="textAreaLeft" fmla="*/ 0 w 144360"/>
              <a:gd name="textAreaRight" fmla="*/ 5220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84360" y="242100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56000" y="4221000"/>
            <a:ext cx="0" cy="7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7691-2964-4710-87B2-9E4F6DAC17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P R/3 PP-Worksh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zu jwMengenbilanz 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atzplan und Produktionspl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gemeine Bilanzgleich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ial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kursivitä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s Add-on Mengenbilanz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tzen 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7E6B-600F-4313-917E-8BBAF13E60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itere spezielle Bilanz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0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wachsäur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r Zukauf von Salpetersäure wird berechne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ktroenergi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r Zukauf wird berechnet aus der fehlenden Meng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Verbrauch – Anfall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mentenluf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e Verteilung der Instrumentenluft wird berechne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üssiger Stickstoff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r Zukauf wird berechne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dga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s eingesetzte Erdgas beeinflusst den Preis von  Ammoniak. Hier erfolgt eine Bilanz für einen wichtigen Rohstoff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7D7B-72F2-4624-9109-19286D1175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kursivitä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ispi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ösung durch Iter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onvergenz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FD99-7C86-43E4-BB39-65713F26C4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dukt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100 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brauch B     10 to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dukt 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100 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brauch A      10 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Jeweils 100 to von A und B sollen verkauft werd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Ein Initialbestand von B  (10 to) sei vorhanden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549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für rekursive Stückl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771640" y="2205000"/>
            <a:ext cx="0" cy="287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492360" y="2997360"/>
            <a:ext cx="432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922200" y="1700280"/>
            <a:ext cx="1800" cy="1297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348000" y="1700280"/>
            <a:ext cx="576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03A2-2F39-4A35-9D2F-86824FD561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600200"/>
          <a:ext cx="8147160" cy="3405240"/>
        </p:xfrm>
        <a:graphic>
          <a:graphicData uri="http://schemas.openxmlformats.org/drawingml/2006/table">
            <a:tbl>
              <a:tblPr/>
              <a:tblGrid>
                <a:gridCol w="723960"/>
                <a:gridCol w="1285920"/>
                <a:gridCol w="1498320"/>
                <a:gridCol w="1428840"/>
                <a:gridCol w="1625760"/>
                <a:gridCol w="158436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/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/22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/222,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4524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45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00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826920" y="5516640"/>
            <a:ext cx="777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ps = Abs(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/ Abs(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+ Abs(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0,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2708280"/>
            <a:ext cx="216000" cy="1152360"/>
          </a:xfrm>
          <a:custGeom>
            <a:avLst/>
            <a:gdLst>
              <a:gd name="textAreaLeft" fmla="*/ 0 w 216000"/>
              <a:gd name="textAreaRight" fmla="*/ 78120 w 2160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700360" y="2565360"/>
            <a:ext cx="431640" cy="7192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95640" y="2708280"/>
            <a:ext cx="216000" cy="1152360"/>
          </a:xfrm>
          <a:custGeom>
            <a:avLst/>
            <a:gdLst>
              <a:gd name="textAreaLeft" fmla="*/ 0 w 216000"/>
              <a:gd name="textAreaRight" fmla="*/ 78120 w 2160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8360" y="549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ösung durch It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79AE-172F-4462-A26A-A9C436C799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Iteration erfolgt also in der Folg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Sekundärbedarf </a:t>
            </a:r>
            <a:r>
              <a:rPr b="1" lang="en-US" sz="2200" spc="-1" strike="noStrike">
                <a:solidFill>
                  <a:srgbClr val="6666ff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 Produktion </a:t>
            </a:r>
            <a:r>
              <a:rPr b="1" lang="en-US" sz="2200" spc="-1" strike="noStrike">
                <a:solidFill>
                  <a:srgbClr val="6666ff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 Specia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Konvergenzkonstante  Epsilo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-   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+  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ird in einer Customizing Table gesetzt.      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 Beispiel  auf 0,00001, also auf 0,001 %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nvergenz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3213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4292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1128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4292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1928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7964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11280" y="328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1025-8EA1-41F4-9A7B-DD600E90D8B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nvergenz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maximale Anzahl der Iterationen wird in einer Customizing Tabelle gesetzt. Sie beträgt gegenwärtig 50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 Nichterreichen der Konvergenz wird gemeldet (Monat, Material-Nr., berechnetes Epsilon). 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5E43-1DC3-46D5-ABFC-11318010B3C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Berechnung erfolgt in den Schritten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16360" y="2276640"/>
            <a:ext cx="2232000" cy="187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16360" y="2349360"/>
            <a:ext cx="2232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-Beda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71640" y="4581360"/>
            <a:ext cx="2448000" cy="86364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32000" y="47973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verg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95640" y="4076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268360" y="501336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268360" y="3284640"/>
            <a:ext cx="0" cy="172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68360" y="3284640"/>
            <a:ext cx="64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40000" y="4365720"/>
            <a:ext cx="792000" cy="3988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19640" y="501336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19640" y="443700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AA9F-7153-44FF-9C1D-485B5EFE169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 Monat werden 100 Produkte berechnet. Dafür werden im Durchschnitt 15 Iterationen benötig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 die Bilanz für immer für 12 Monate benötigt wird ergeben sich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0 x 15 x 12 = 18.000 Berechnunge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fahrungswert 5-7 Min. für 12 Mona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Berechnungszeit sinkt bei Mischversionen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0CDD-84E7-4FA7-9296-2127C72E63B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s Add-on Mengenbilan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tenbereitstel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sions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rolling Vers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/ Berech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120000"/>
              </a:lnSpc>
              <a:spcBef>
                <a:spcPts val="71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0292-9A5F-4293-9092-D1C9C0763EA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enbereitstellung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5280" y="1268280"/>
            <a:ext cx="5614920" cy="1979640"/>
            <a:chOff x="395280" y="1268280"/>
            <a:chExt cx="5614920" cy="197964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rcRect l="0" t="6989" r="57699" b="65955"/>
            <a:stretch/>
          </p:blipFill>
          <p:spPr>
            <a:xfrm>
              <a:off x="395280" y="1268280"/>
              <a:ext cx="561492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 txBox="1"/>
            <p:nvPr/>
          </p:nvSpPr>
          <p:spPr>
            <a:xfrm>
              <a:off x="395280" y="1268280"/>
              <a:ext cx="5614920" cy="197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78000" indent="-37800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539640" y="3789360"/>
            <a:ext cx="7704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052800" indent="-3052800">
              <a:spcBef>
                <a:spcPts val="125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t-Daten aktualisieren  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Analysiert alle IST - Buch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0" indent="-3052800">
              <a:spcBef>
                <a:spcPts val="125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daten aktualisieren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Stellt alle Plandaten einer   Planversion ber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95640" y="2060640"/>
            <a:ext cx="3313080" cy="288720"/>
          </a:xfrm>
          <a:prstGeom prst="wedgeRoundRectCallout">
            <a:avLst>
              <a:gd name="adj1" fmla="val -60495"/>
              <a:gd name="adj2" fmla="val 6703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68360" y="198900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lanz Jahr auswäh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68360" y="2708280"/>
            <a:ext cx="3456000" cy="360360"/>
          </a:xfrm>
          <a:prstGeom prst="wedgeRoundRectCallout">
            <a:avLst>
              <a:gd name="adj1" fmla="val -67777"/>
              <a:gd name="adj2" fmla="val -5749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84360" y="270828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sion auswäh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A22D-35DD-48B8-A084-7967A8E0E31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zu </a:t>
            </a:r>
            <a:r>
              <a:rPr b="1" lang="en-US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genbilanz ?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689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Übersicht der exakten Mengenflüsse in einer Zeiteinh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89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rücksichtigung von Rekursivitäten und Specials 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89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chaffung der Voraussetzung zur Ermittlung der exakten Produktkost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89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C342-F088-4424-88DD-08CF9B947A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sions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136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Version 000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  Ist-Dat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Version Axx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=  Pland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Version Cxx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rolling Vers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 nach Version kann eine Bilanz aus Ist-Daten, Plandaten oder eine gemischte Version aus Ist- und Plandaten erstellt werden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D140-7228-4467-9D00-35ABE265584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ling Ver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57200" y="2752560"/>
          <a:ext cx="4038480" cy="222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52560"/>
                    <a:ext cx="4038480" cy="22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5" name=""/>
          <p:cNvGrpSpPr/>
          <p:nvPr/>
        </p:nvGrpSpPr>
        <p:grpSpPr>
          <a:xfrm>
            <a:off x="914400" y="1219320"/>
            <a:ext cx="7112160" cy="598320"/>
            <a:chOff x="914400" y="1219320"/>
            <a:chExt cx="7112160" cy="598320"/>
          </a:xfrm>
        </p:grpSpPr>
        <p:pic>
          <p:nvPicPr>
            <p:cNvPr id="216" name="" descr=""/>
            <p:cNvPicPr/>
            <p:nvPr/>
          </p:nvPicPr>
          <p:blipFill>
            <a:blip r:embed="rId3"/>
            <a:srcRect l="42120" t="10676" r="13253" b="82492"/>
            <a:stretch/>
          </p:blipFill>
          <p:spPr>
            <a:xfrm>
              <a:off x="914400" y="1219320"/>
              <a:ext cx="711216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 txBox="1"/>
            <p:nvPr/>
          </p:nvSpPr>
          <p:spPr>
            <a:xfrm>
              <a:off x="914400" y="1219320"/>
              <a:ext cx="7112160" cy="59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78000" indent="-37800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" descr=""/>
          <p:cNvPicPr/>
          <p:nvPr/>
        </p:nvPicPr>
        <p:blipFill>
          <a:blip r:embed="rId4"/>
          <a:srcRect l="19602" t="16686" r="25102" b="38145"/>
          <a:stretch/>
        </p:blipFill>
        <p:spPr>
          <a:xfrm>
            <a:off x="1476360" y="1916280"/>
            <a:ext cx="5923080" cy="36306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547640" y="5734080"/>
            <a:ext cx="58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e aktuelle Controlling Bilanz wird erzeugt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5DB2-3155-437B-B578-0F0DDA76430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out / Berech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684360" y="1125360"/>
          <a:ext cx="7449840" cy="502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25360"/>
                    <a:ext cx="7449840" cy="50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826920" y="4437000"/>
            <a:ext cx="1152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55640" y="4292640"/>
            <a:ext cx="1079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500047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500047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500047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887480" y="2343240"/>
            <a:ext cx="3908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050920" y="242100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00815 Dünger xy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B76D-2074-46C2-8C8A-398E45F3B11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tz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mplette Mengenübersicht über die Planung aller Produkte (IST - Bilanz, Mischbilanz, Planbilanz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genübersicht über die Specials (Medien, Zukauf, Rohstoffe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raussetzung für die monatliche Produktkalkul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ADA5-6D42-4BA6-B75E-7C5EA631FB5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116000" y="5013360"/>
            <a:ext cx="6472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2b2b2"/>
                </a:solidFill>
                <a:latin typeface="Arial"/>
              </a:rPr>
              <a:t>Düsseldorf, 23.09.2003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9cc00"/>
                </a:solidFill>
                <a:latin typeface="Arial"/>
              </a:rPr>
              <a:t>http:// www.jwconsulting.d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6920" y="40464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9280" y="476280"/>
            <a:ext cx="8713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genbilanz in der chemischen Indust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03280" y="1197000"/>
            <a:ext cx="56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16000" y="11970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Bernd Mickley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Consulting Gmb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276720" y="2852640"/>
            <a:ext cx="156528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atz- und Produktionspl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21844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>
              <a:lnSpc>
                <a:spcPct val="90000"/>
              </a:lnSpc>
              <a:spcBef>
                <a:spcPts val="689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Planung gilt für die Mengenbilanz als Voraussetzung,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89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 man auch Bilanzen für zukünftige Zeiträume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89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trachten möch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89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89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s gibt folgende Möglichkeiten: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89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P Standard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89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lanun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89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terne Lösung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chnittstel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03CE-D265-4AD8-B9AC-13D18B67B7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zenario einer individuellen Absatz- und Produktionsplanu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13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e Produktion für einige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Hauptproduk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rfolgt kontinuierlich nach Kundenaufträgen und Erfahrungswerten. Sie ist planungsintensiv, weil sie abhängig ist von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r Anlagenauslastung (kontinuierlich, möglichst 100%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r Produktverpflecht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Verbrauch für nachfolgende Produktion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r Lagerkapazitä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aximale Lagerkapazität, Mindestlagerbestand, Mindestlagerzei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r Versandpla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bsatz, Transportwege, Außenlag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r Anlagenkapazität (Wartung, Reparatu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r Saison (Kundenbedarf) u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m Wet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oduk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bsatz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erden im Excel geplant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1BE2-FA16-4472-ACAD-CE63D4E52A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zenario einer individuellen Absatz- und Produktionspla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Produktion der </a:t>
            </a:r>
            <a:r>
              <a:rPr b="1" lang="en-US" sz="2200" spc="-1" strike="noStrike">
                <a:solidFill>
                  <a:srgbClr val="3366ff"/>
                </a:solidFill>
                <a:latin typeface="Arial"/>
              </a:rPr>
              <a:t>übrigen  Produkt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t nicht planungsrelevant. Sie erfolgt diskontinuierlich nach Kundenaufträgen und Erfahrungswert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ff"/>
                </a:solidFill>
                <a:latin typeface="Arial"/>
              </a:rPr>
              <a:t>Produktion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3366ff"/>
                </a:solidFill>
                <a:latin typeface="Arial"/>
              </a:rPr>
              <a:t>geplanter Absatz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il der Verbrauch der Hauptprodukte an der Gesamtproduktion gering ist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en-US" sz="2200" spc="-1" strike="noStrike">
                <a:solidFill>
                  <a:srgbClr val="3366ff"/>
                </a:solidFill>
                <a:latin typeface="Arial"/>
              </a:rPr>
              <a:t>Absatz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wird im SAP gepla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6913-3BD1-4369-AE9A-DBE840E0DF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299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ösungskonz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1197000"/>
            <a:ext cx="7416720" cy="2160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16000" y="1341360"/>
            <a:ext cx="59770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SAP ist das Master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le Daten sind auf einer Datenbank gespeiche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le betriebswirtschaftlichen Erfordernisse erfolgen im SAP Standard und/oder individuellen Re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4005360"/>
            <a:ext cx="7489800" cy="2232000"/>
          </a:xfrm>
          <a:prstGeom prst="rect">
            <a:avLst/>
          </a:prstGeom>
          <a:gradFill rotWithShape="0">
            <a:gsLst>
              <a:gs pos="0">
                <a:srgbClr val="bbe0e3">
                  <a:alpha val="84313"/>
                </a:srgbClr>
              </a:gs>
              <a:gs pos="100000">
                <a:srgbClr val="ffffff">
                  <a:alpha val="8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16000" y="4149720"/>
            <a:ext cx="74167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Excel ist ein Operator zur Bestimmung der Abhängigkeiten</a:t>
            </a: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mulation des Absatzes und der Produktion; Störungen, Nebenbedingungen, An- und Abfahrprozesse, Wetter, Erfahrungen, Kopf des Mensc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Hervorragendes Layout; flexible Zellreferenz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003640" y="3357360"/>
            <a:ext cx="0" cy="64764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59280" y="3357720"/>
            <a:ext cx="0" cy="64764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3500280"/>
            <a:ext cx="17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5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Arial"/>
              </a:rPr>
              <a:t>Ist-D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04000" y="2637000"/>
            <a:ext cx="2052720" cy="647640"/>
          </a:xfrm>
          <a:prstGeom prst="wedgeRoundRectCallout">
            <a:avLst>
              <a:gd name="adj1" fmla="val -186351"/>
              <a:gd name="adj2" fmla="val 120587"/>
              <a:gd name="adj3" fmla="val 16667"/>
            </a:avLst>
          </a:prstGeom>
          <a:solidFill>
            <a:srgbClr val="e6c0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48360" y="2781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nittstell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48360" y="3500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Pland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D838-9ED6-459E-8FA3-759C906EFD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nittstelle für die Datenbereitstellu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t OLE2 wegen der Zellreferenzi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wnload für Ist-Daten (Exceldatei mit 4 Mappe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4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 pro Produkt : tägliche und monatliche Ist-Daten (Produktion,  Versand, Sekundärbedarf, Eigenbedarf, Zukauf, Bestan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4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atz pro Produkt; pro Monat : monatliche Ist-Daten (bis     Monatsabschluss), Plandaten für Rest des Jahres (variabel kumuliert nach 3 Planungshierarchien, Produkt,      Kunde und Kennziffer wie Inland, Export, Erlöse,       Transportweg, … 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4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ücklisten: ausgewählter Verbrauch von  Zwischenproduk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6666ff"/>
                </a:solidFill>
                <a:latin typeface="Arial"/>
              </a:rPr>
              <a:t>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D4F4-0515-42CD-8675-85700100F1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7726" r="56066" b="10039"/>
          <a:stretch/>
        </p:blipFill>
        <p:spPr>
          <a:xfrm>
            <a:off x="380880" y="0"/>
            <a:ext cx="8229600" cy="612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2397-FFB7-43E2-83A7-B731E02288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16:02:42Z</dcterms:created>
  <dc:creator>PC 01</dc:creator>
  <dc:description/>
  <dc:language>en-US</dc:language>
  <cp:lastModifiedBy>Dr. Jochen Winkler</cp:lastModifiedBy>
  <dcterms:modified xsi:type="dcterms:W3CDTF">2003-10-07T16:01:24Z</dcterms:modified>
  <cp:revision>152</cp:revision>
  <dc:subject/>
  <dc:title>Bernd Mickley  jwConsulting   http:// www.jwconsulting.de</dc:title>
</cp:coreProperties>
</file>