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30D-01A5-41EA-8D1D-2DF74924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CD0-62AB-4EC0-ACEB-855C4A1F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D059-C64E-4DB1-BF39-B415E628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A8D-817F-4E84-8422-5FF8A2CA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85B-ECF5-42DC-8C4A-554A383B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0CDB-DEFB-40CD-B4B3-9C763F0A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9E4F-EE3E-41C3-8596-7029EC50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B3F-2083-4085-87F7-56BF2FD6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151-C0E7-4EB1-96A2-0F630ACC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44C-CA1A-407C-AA38-E14CA334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75D-B61D-4D2D-A0DE-9FEDF7B1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584-BFB2-410E-8EC6-56D2651F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4753210-AE85-4746-BAFF-4E00F8FCDCF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52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Produktionsplanung - Mengenbilanzierung - Produktcont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amada-Treff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esbad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57FB-12C9-436F-9723-9DAB33448A1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838080"/>
            <a:ext cx="8001000" cy="52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Produktionsplanung - Mengenbilanzierung - Produktcont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amada-Treff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esbad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16F-6C0F-4EBB-B7BC-CC366C60593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optimierte Produktion und Produktionsplanung mit voll integriertem Qualitätsmanagement für die In-Prozeß- und Endkontrollen im Bereich der Serien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ahresabsatz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ionsplanung von Produkten durch das Add-on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chaffung der Rohstoffe und Zwischenprodu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rechnung der Produktion auf Produktkostensamm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rgenbezogene prozessbegleitende Prüfung in der Serienfertig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bildung anfallender In-Prozeß- und Endkontroll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wertungen und Reporting im Bereich der Produktion und Qualitätssich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8F8-F2EA-4FA0-A311-8F46DE8DAC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ngenbilanzierung als Voraussetzung für das Produkt-controlling in der Chem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satz- und Produktplanung mit Excel-Schnitt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natliche Mengenbilanz aller Produkte für ein Jah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lgemeine Mengenbilanz – Voraussetzung für die Produktkalk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dienabbildung mit berechenbaren Stücklistenkomponen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kursivitäten mit Konvergenz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D2C-6BA1-476D-93C0-394430E196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controlling – Nachkalkulation, Plankalkulation und ableitbare Kalkul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undlagen der Materialkalkulation im SAP-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kursive Stücklisten in der Material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ch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2AA-E87F-48EE-B843-59C4B3C189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-miert seit Mai 2002 als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479-DB83-4476-92A2-DDC2EAB35B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ckhausen GmbH &amp; Co. KG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53E-11ED-4DA9-B811-702AA87FBF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840-209D-4D47-AB11-7EFB2A127C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C9C-498E-4BCD-802E-B3D2484A7C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8CF-931F-44CA-AA8F-E3DC914D3F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3-10-07T15:59:45Z</dcterms:modified>
  <cp:revision>232</cp:revision>
  <dc:subject/>
  <dc:title>Kein Folientitel</dc:title>
</cp:coreProperties>
</file>