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5CE7-D1F2-4A44-81E2-69E0A161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39F-04E4-402E-8B09-97070EAA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0A9-DA0E-4FA7-9AA4-053E8591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C722-884B-4A41-B255-1BEA6401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B632-EC7E-473E-8E3E-2640082E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276-1ED3-40D5-AC7D-621E36D3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565A-30BF-4FEC-A76E-6DCE637F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863-E80A-4D9D-BAF0-F6A29883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198D-FB07-4E2B-A2BB-7E7C02D8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F847-E25C-4C48-BE5C-C3A2F590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DFB7-BB3F-4D64-8317-40FD42A6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FB9-F50B-4369-A85C-181146B1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58CFC4F-0348-4A6E-B01C-5349E30D5F0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9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8001000" cy="52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Produktionsplanung - Mengenbilanzierung - Produktcont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amada-Treff Hotel,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esbad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4A97-1089-4367-85B2-9CF5DC54F0B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9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838080"/>
            <a:ext cx="8001000" cy="52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Produktionsplanung - Mengenbilanzierung - Produktcont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amada-Treff Hotel,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esbad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5F5-2DBC-47DA-8096-F551785BD79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9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3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optimierte Produktion und Produktionsplanung mit voll integriertem Qualitätsmanagement für die In-Prozeß- und Endkontrollen im Bereich der Serienferti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Jahresabsatzp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ionsplanung von Produkten durch das Add-on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chaffung der Rohstoffe und Zwischenprodu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rechnung der Produktion auf Produktkostensamm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argenbezogene prozessbegleitende Prüfung in der Serienfertig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bildung anfallender In-Prozeß- und Endkontroll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wertungen und Reporting im Bereich der Produktion und Qualitätssich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24B2-DA6D-4F95-8C52-7DEA7AC936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9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ngenbilanzierung als Voraussetzung für das Produkt-controlling in der Chem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satz- und Produktplanung mit Excel-Schnittst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natliche Mengenbilanz aller Produkte für ein Jah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llgemeine Mengenbilanz – Voraussetzung für die Produktkalk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dienabbildung mit berechenbaren Stücklistenkomponen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kursivitäten mit Konvergenzt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536-356F-45F0-ACBF-1C7720399A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9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controlling – Nachkalkulation, Plankalkulation und ableitbare Kalkul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undlagen der Materialkalkulation im SAP-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kursive Stücklisten in der Material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ch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7E56-20B6-49E9-98E2-AB59C0FEBD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9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. Juli 1996 von Dr. Jochen Winkler gegründet und fir-miert seit Mai 2002 als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GmbH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spektrum heute:  Unternehmensausrichtu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AP R/3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Chemische Industrie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dd-ons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eb-Applications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Mediz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66B2-B5BE-4DB7-AD23-F1E4B1DE62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9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BIC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EOS Phenol GmbH &amp; Co. KG, Gladbec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ockhausen GmbH &amp; Co. KG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762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61E-AF69-42C7-B012-88E5E2FBC8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9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CI Augsburg GmbH, Augsbu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580-8ABE-41F8-9641-7894D18588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9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2014-823F-4B54-A2C1-0BC478C0F1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3.09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el der Veranstalt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mitteln von Erfahrungen und Know-h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nehmen von neuen Kontak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572-26D6-41A8-8A50-47BF17F840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3-10-07T15:59:45Z</dcterms:modified>
  <cp:revision>232</cp:revision>
  <dc:subject/>
  <dc:title>Kein Folientitel</dc:title>
</cp:coreProperties>
</file>