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588994FA-ED01-4080-8C8D-0B8BA8D8BB4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1840" y="6477120"/>
            <a:ext cx="95472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03. Juli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Kurzer Überblick über das laufende QM-Projekt Harolds bei der BU Superabsorber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Marl, den 03. Juli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Kurzer Überblick über das laufende QM-Projekt Harolds bei der BU Superabsorber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Marl, den 03. Juli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QM-Projekt Harolds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ff3300"/>
                </a:solidFill>
                <a:uFillTx/>
                <a:latin typeface="Arial"/>
              </a:rPr>
              <a:t>Ha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oni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ff3300"/>
                </a:solidFill>
                <a:uFillTx/>
                <a:latin typeface="Arial"/>
              </a:rPr>
              <a:t>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a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lösen der heterogenen IT- Landschaft im Labor durch ein Zentrales Labor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gaben:  In-Prozess Prüfung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ukturierung der komplexen In-Prozess-Prüfung in SAP R/3 unter Nutzung von R/3 Prüfplä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benahmeste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-Lage abhängige Prüffrequen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en der Ergebnisse tabellarisch nach Datum, Uhrzeit der Probe im 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arische und graphische Darstellung der „Linienproben“ im „IRIS“ Monitor durch die Produktionsmitarbei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ert Monitor und Linien 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-Prüfung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 Prüfung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gaben: Endkontrolle der konfektionierten Charge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der SAP R/3 Prüfplä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istrierung Probeneingang aus IRIS ode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ebniserfassung aus IRIS im Lab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bellarische und graphische Probendaten in der Produk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-Meldung - Überwachung im IRIS Mon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32544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kontrolle der konfektionierten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gaben: Endkontrolle der konfektionierten Charge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abhängige Statistik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kzertifik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sb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ty-B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ich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gaben: Labor Leistungsabrechnung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statistik über Durchführung vom Prüfmethoden zur Ermittlung von Prüfergebniss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r: Prü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s: Methode Leistungs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ür Wen: </a:t>
            </a: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Lini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stenstelle PP Auftrag der Char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rücksichtigung von Mehrfachbestimm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bhängiges Leistungsverzeichn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hode: =&gt; Leistungsart und Leis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stenträgerabhängig werden die kumulierten Leistungen nach Leistungsart periodisch abgerechn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3-07-08T09:46:28Z</dcterms:modified>
  <cp:revision>342</cp:revision>
  <dc:subject/>
  <dc:title>Optimierte Planung und Produktion mit periodischem Produktcontrolling  in der </dc:title>
</cp:coreProperties>
</file>