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BC1C760-B444-4D02-BDAA-9DEF044518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1840" y="6477120"/>
            <a:ext cx="95472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3. Jul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Kurzer Überblick über das laufende QM-Projekt Harolds bei der BU Superabsorber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 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Kurzer Überblick über das laufende QM-Projekt Harolds bei der BU Superabsorber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 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QM-Projekt Harolds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3300"/>
                </a:solidFill>
                <a:uFillTx/>
                <a:latin typeface="Arial"/>
              </a:rPr>
              <a:t>Ha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a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lösen der heterogenen IT- Landschaft im Labor durch ein Zentrales Labor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gaben:  In-Prozess Prüfung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ung der komplexen In-Prozess-Prüfung in SAP R/3 unter Nutzung von R/3 Prüfplä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ahmeste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-Lage abhängige Prüffreque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en der Ergebnisse tabellarisch nach Datum, Uhrzeit der Probe im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und graphische Darstellung der „Linienproben“ im „IRIS“ Monitor durch die Produktionsmitarbei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ert Monitor und Linien 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-Prüfung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 Prüfung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Endkontrolle der konfektionierten Charge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der SAP R/3 Prüfplä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rierung Probeneingang aus IRIS ode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erfassung aus IRIS im 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larische und graphische Probendaten in der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-Meldung - Überwachung im IRIS Mon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2544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kontrolle der konfektionierten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Endkontrolle der konfektionierten Charge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bhängige Statist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zertifik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s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ty-B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Labor Leistungsabrechnung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statistik über Durchführung vom Prüfmethoden zur Ermittlung von Prüfergebnis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r: Prü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: Methode Leistungs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ür Wen: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Lin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stenstelle PP Auftrag der Char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ücksichtigung von Mehrfachbestimm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bhängiges Leistungsverzeichn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e: =&gt; Leistungsart und Leis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tenträgerabhängig werden die kumulierten Leistungen nach Leistungsart periodisch abgerechn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7-08T09:46:28Z</dcterms:modified>
  <cp:revision>342</cp:revision>
  <dc:subject/>
  <dc:title>Optimierte Planung und Produktion mit periodischem Produktcontrolling  in der </dc:title>
</cp:coreProperties>
</file>