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BD7E1EF1-F4C8-4435-B4B0-458E31A4D49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1840" y="6477120"/>
            <a:ext cx="95472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03. Juli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Die optimierte Produktion und Produktionsplanung am Beispiel der BU Superabsorber (Iris-Projekt)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Marl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03. Juli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(Verkaufsmateri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 (der Kunde </a:t>
            </a:r>
            <a:r>
              <a:rPr b="1" lang="de-DE" sz="2000" spc="-1" strike="noStrike">
                <a:solidFill>
                  <a:srgbClr val="00cc99"/>
                </a:solidFill>
                <a:latin typeface="Arial"/>
              </a:rPr>
              <a:t>Sonsti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=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ie (Arbeitsplatz Hierarchie für Kapazitätsbetracht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eferkalender (zur automatischen Disaggregation auf mögliche Liefert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sgröße (für die Disagregation des Monatsabsatzes auf ganzzahlige Vielfache dieser Losgröße (z.B. ganze Tankzü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en und Liefer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, von da ab kann in die folgenden Wochen, die immer montags beginnen, gesprungen wer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-rechnet (größter Wert zähl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artige Oberfläche zur Visualisierung der gesamten Arbeitsumgebung in der Produktion mit allen nötigen Umfeldfunk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r K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r allgemeinen und detailliert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über di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- und Qualitätssituation aller Produktionslini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 gemeinsam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r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bereit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 erzeu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kumente und Label druc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-Prozess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rfassung und Visualisierung von Prüfungen zu manuellen oder automatischen Prüfpunkten abhängig von verwendeten Einstellungen im Modul Q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agement von Qualitätsla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Beeinflusst durch Produktion und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enerfass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Produktionsstatus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 Planung z.B. APO mit Schnittstellen zum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 dann zu empfehlen, wenn keine integrierte Lösung verfügbar 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r aus Gründen der Lastverteilung sowieso mehrere Systeme im Einsatz si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nübersich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880" y="1066680"/>
            <a:ext cx="8457840" cy="5126040"/>
            <a:chOff x="380880" y="1066680"/>
            <a:chExt cx="8457840" cy="5126040"/>
          </a:xfrm>
        </p:grpSpPr>
        <p:sp>
          <p:nvSpPr>
            <p:cNvPr id="156" name=""/>
            <p:cNvSpPr/>
            <p:nvPr/>
          </p:nvSpPr>
          <p:spPr>
            <a:xfrm>
              <a:off x="1903320" y="591948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591948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03320" y="5427360"/>
              <a:ext cx="6935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5427360"/>
              <a:ext cx="15224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3320" y="5141520"/>
              <a:ext cx="69354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880" y="5141520"/>
              <a:ext cx="15224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3320" y="4821120"/>
              <a:ext cx="6935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3320" y="3306600"/>
              <a:ext cx="693540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nich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as Anpassen der Bestandsart an den VE-Code erfolgt über die Schaltfläche „VE-&gt;Bestandsart“ bzw. automatisch alle 10 min. durch den als periodischen Job eingeplanten Report „ZJWWMFREI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3320" y="30333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03320" y="1920600"/>
              <a:ext cx="6935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3320" y="1612800"/>
              <a:ext cx="6935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3320" y="13395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3320" y="1066680"/>
              <a:ext cx="69354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4821120"/>
              <a:ext cx="152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880" y="3306600"/>
              <a:ext cx="152244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30333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1920600"/>
              <a:ext cx="152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612800"/>
              <a:ext cx="152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13395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1066680"/>
              <a:ext cx="1522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880" y="106668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619272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88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3872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13395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16128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920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3033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3306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880" y="48211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3320" y="1066680"/>
              <a:ext cx="0" cy="512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51415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5427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591948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92360" y="3860640"/>
            <a:ext cx="4629240" cy="2481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7775640" cy="25048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" y="4114800"/>
            <a:ext cx="2830680" cy="1057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icht nach Probenahme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ebnisse und Verlauf nach Probenahme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Die optimierte Produktion und Produktionsplanung am Beispiel der BU Superabsorber (Iris-Projekt)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Marl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03. Juli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kundenindividuelles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2240" indent="-37224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9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äufig sehr wenig Basisprodukte pro Anlage 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5440" indent="-276480">
              <a:spcBef>
                <a:spcPts val="5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Anlage für die Methanolsynthese produziert ausschließlich Methanol (meistens in einer Qualität), welches wiederum in wenigen Transportarten zum Endabnehmer transportiert wird =&gt; wenige Artikelnumm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9080"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 wird 90 % des Absatzes mit 1 bis 3 planungsrelevanten Endverbrauchern realisi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das Handling der SAP Funktionen wird als zu schwerfällig empfunden und meist durch eigene, wesentlich transparentere Excel-Tabellen oder ähnliches ersetz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roduktion und Produktion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n Prozessablauf stehen häufig komplex zu bedienende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 (Aufträ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QM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reich Qualitätssicherung und In-Prozesskontro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hängig vom gewählten PPS-Verfahren stehen brauchbare Arbeitsvorräte für IPC ungenügend zur Verfü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 bei schlechter Qualitätslage nicht mögl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ötigt wird eine einfache Maske zur Darstellung des Arbeitsvorrates (Produktionslinien, Probe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Weitere Berei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rechnung der IPC Kosten z.B. nach Metho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 periodische Abrechnung der Produ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3-07-08T09:46:55Z</dcterms:modified>
  <cp:revision>342</cp:revision>
  <dc:subject/>
  <dc:title>Optimierte Planung und Produktion mit periodischem Produktcontrolling  in der </dc:title>
</cp:coreProperties>
</file>