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5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69600" y="6477120"/>
            <a:ext cx="71388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ie </a:t>
            </a:r>
            <a:fld id="{C887AF34-D956-4E7F-97D3-DC53C62F280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181840" y="6477120"/>
            <a:ext cx="95472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 03. Juli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32400" y="6405480"/>
            <a:ext cx="360" cy="1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5484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5360" y="6095880"/>
            <a:ext cx="6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362320" y="64008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5340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 algn="ctr">
              <a:spcBef>
                <a:spcPts val="12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66852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60320" indent="7588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Die optimierte Produktion und Produktionsplanung am Beispiel der BU Superabsorber (Iris-Projekt)</a:t>
            </a: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de-DE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Marl, d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03. Juli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3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plant werden vorher definierte Planungshierarchien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(Verkaufsmateria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 (der Kunde </a:t>
            </a:r>
            <a:r>
              <a:rPr b="1" lang="de-DE" sz="2000" spc="-1" strike="noStrike">
                <a:solidFill>
                  <a:srgbClr val="00cc99"/>
                </a:solidFill>
                <a:latin typeface="Arial"/>
              </a:rPr>
              <a:t>Sonsti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= 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##########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inie (Arbeitsplatz Hierarchie für Kapazitätsbetrachtu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ieferkalender (zur automatischen Disaggregation auf mögliche Liefert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osgröße (für die Disagregation des Monatsabsatzes auf ganzzahlige Vielfache dieser Losgröße (z.B. ganze Tankzüg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19051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29400" y="3886200"/>
            <a:ext cx="2209680" cy="1069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434340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61722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589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ulation der Tagesplanung aufgrund von Monats-Planzah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971800"/>
            <a:ext cx="243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446720" cy="2046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324480" y="3048120"/>
            <a:ext cx="106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829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atliche Verteilung von Jahres-Planzahlen nach Liefertagen und Lieferlosgröß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2860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6378840" cy="3222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257800" y="5257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343400" y="4114800"/>
            <a:ext cx="41608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Planung startet immer zum aktuellen Datum + die folgenden Tage, von da ab kann in die folgenden Wochen, die immer montags beginnen, gesprungen wer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monatlichen Absatzahlen (der aktiven Version) dienen als Grundlage für eine automatische Disaggregation in einen Tagesabsatzplan nach Lieferkalender und Losgröß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 den Tagesabsatzzahlen werden bereits erfasste Kunden-aufträge (zum Materialbereitstellungsdatum) angezeigt und (vorerst nur) mit den Planzahlen des selben Tages ver-rechnet (größter Wert zählt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Arial"/>
              </a:rPr>
              <a:t>Daily Planni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7189920" cy="3124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28600" y="3049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990720"/>
            <a:ext cx="822960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ht WA gebuchte vergangene Kundenaufträge werden als rückständiger Bedarf angezeigt (nicht mit Kundenaufträgen verrechnete vergangene Tagesabsatzzahlen verfall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wohl rückständige als auch zukünftige Bedarfe werden je Materialnummer verdichtet und die sich daraus ergebende Bestandssituation simuli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gen den Bestandsabbau wirkt ein editierbarer Produktions- und Abfüll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ht abgerechnete vergangene Produktionen bzw. Abfüllungen werden als rückständig angezeig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362320" y="4800600"/>
            <a:ext cx="525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35812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Produktions- und Abfüllplanmengen werden im System als SAP R/3 Standard Planaufträge des Typs „PE“ Produktionseinteilungen gespeichert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PE´s enthalten ebenfalls die Fertigungsversion und die zu verwendende Stückliste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Komponenten der Stückliste werden als Reservierungen in der SAP R/3 Standardtabelle „RESB“ gespeichert und können mit Standardmitteln eingesehen werden (z.B. Bedarfsplanung)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4479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949480" cy="1806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15000" y="198108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4724280" cy="4543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90920" y="2590920"/>
            <a:ext cx="14475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unktionsumfang Add-on jwSerienfertig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itorartige Oberfläche zur Visualisierung der gesamten Arbeitsumgebung in der Produktion mit allen nötigen Umfeldfunktio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ntraler Korrid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r allgemeinen und detaillierte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über di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- und Qualitätssituation aller Produktionslini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 gemeinsame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beitsvorr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ü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ung + Chargen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ons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ätsprüfung inklusive Verwendungsentsche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mmdatenpfle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unktionsumfang Add-on jwSerienfertig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stützung der folgenden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beitsvorbereit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gen erzeu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kumente und Label druc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bereit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-Prozesskontrol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Erfassung und Visualisierung von Prüfungen zu manuellen oder automatischen Prüfpunkten abhängig von verwendeten Einstellungen im Modul Q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nagement von Qualitätsla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Beeinflusst durch Produktion und Q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tenerfass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on Warenbewe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ontrol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on Produktionsstatus Beständen und Qualitäten in einer Mas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250920" y="4221000"/>
          <a:ext cx="284796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221000"/>
                    <a:ext cx="28479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755640" y="2492280"/>
          <a:ext cx="171360" cy="16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2492280"/>
                    <a:ext cx="1713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39640" y="2349360"/>
          <a:ext cx="171720" cy="1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2349360"/>
                    <a:ext cx="1717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95280" y="2205000"/>
          <a:ext cx="171360" cy="162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2205000"/>
                    <a:ext cx="1713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755640" y="2708280"/>
          <a:ext cx="162000" cy="16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2708280"/>
                    <a:ext cx="16200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konfigurationen ERP-System - PP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as ERP-System integrierte Standard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e Lösung, wenn die angebotenen Funktionen, das Systemhandling und die Flexibilität den Anforderungen genü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terne Planung z.B. APO mit Schnittstellen zum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P-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r dann zu empfehlen, wenn keine integrierte Lösung verfügbar 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er aus Gründen der Lastverteilung sowieso mehrere Systeme im Einsatz si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as ERP-System integrierte kundenoptimierte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e Lösung, wenn das Standard ERP-System den Anforderungen nicht genü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genübersich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514600"/>
            <a:ext cx="7315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80880" y="1066680"/>
            <a:ext cx="8457840" cy="5126040"/>
            <a:chOff x="380880" y="1066680"/>
            <a:chExt cx="8457840" cy="5126040"/>
          </a:xfrm>
        </p:grpSpPr>
        <p:sp>
          <p:nvSpPr>
            <p:cNvPr id="156" name=""/>
            <p:cNvSpPr/>
            <p:nvPr/>
          </p:nvSpPr>
          <p:spPr>
            <a:xfrm>
              <a:off x="1903320" y="5919480"/>
              <a:ext cx="6935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zahl der bereits gedruckten LVS Etiket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880" y="5919480"/>
              <a:ext cx="1522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VS-Etiket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03320" y="5427360"/>
              <a:ext cx="6935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bliche Darstellung des VE-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880" y="5427360"/>
              <a:ext cx="15224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itä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03320" y="5141520"/>
              <a:ext cx="69354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E-Code im Prüf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0880" y="5141520"/>
              <a:ext cx="15224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-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3320" y="4821120"/>
              <a:ext cx="6935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üflosnummer falls Material prüfpflicht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3320" y="3306600"/>
              <a:ext cx="693540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ün: freier 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lb: nicht freier 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: gesperrter Best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blos: Qualitätsprüfbestand oder Bestand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Das Anpassen der Bestandsart an den VE-Code erfolgt über die Schaltfläche „VE-&gt;Bestandsart“ bzw. automatisch alle 10 min. durch den als periodischen Job eingeplanten Report „ZJWWMFREI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03320" y="3033360"/>
              <a:ext cx="6935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genwärtiger Chargenbestand (alle Bestandsarte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03320" y="1920600"/>
              <a:ext cx="69354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ün: Charge ist neu und kann bebucht wer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lb: Charge wurde bereits bearbeitet - Zubuchen mögl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: Charge wurde abgeschlossen - kein Zubuchen mehr mögl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2240" indent="-3722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nweis: Chargen mit rotem Produktionsstatus und evtl. uneingeschränkt freiem Bestand (oder kein Bestand mehr) werden ausgeblend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03320" y="1612800"/>
              <a:ext cx="6935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um des letzten Wareneingangs in der 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03320" y="1339560"/>
              <a:ext cx="6935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reits zugebuchte Me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03320" y="1066680"/>
              <a:ext cx="69354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68640" indent="-3686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nnummer Sortierkriterium - jüngste Charge ganz ob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880" y="4821120"/>
              <a:ext cx="1522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üf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880" y="3306600"/>
              <a:ext cx="152244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stands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880" y="3033360"/>
              <a:ext cx="1522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0880" y="1920600"/>
              <a:ext cx="15224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tus 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1612800"/>
              <a:ext cx="1522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tzter W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880" y="1339560"/>
              <a:ext cx="1522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0880" y="1066680"/>
              <a:ext cx="1522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0880" y="1066680"/>
              <a:ext cx="8457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880" y="6192720"/>
              <a:ext cx="8457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880" y="1066680"/>
              <a:ext cx="0" cy="5126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38720" y="1066680"/>
              <a:ext cx="0" cy="5126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880" y="133956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880" y="161280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880" y="192060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880" y="303336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880" y="330660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0880" y="482112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03320" y="1066680"/>
              <a:ext cx="0" cy="512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880" y="514152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880" y="542736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880" y="5919480"/>
              <a:ext cx="84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325680" cy="2616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733920" y="1413000"/>
            <a:ext cx="5257800" cy="4701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28800" y="1523880"/>
            <a:ext cx="30481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3189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ückmelden von Warenbew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4114800"/>
            <a:ext cx="3276720" cy="1595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ugruppenrückmeldung: Gutmenge + Komponenten + Leis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ponentenrückmeldung: nur Komponenten (z.B. Mehrverbrau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stungsrückmeldung (z.B. Ist-zeiterfassung Lab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0572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492360" y="3860640"/>
            <a:ext cx="4629240" cy="2481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7775640" cy="25048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28600" y="4114800"/>
            <a:ext cx="2830680" cy="1057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icht nach Probenahmeste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gebnisse und Verlauf nach Probenahmest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 kundenindividuelles PPS in der kontinuierlichen Produktion (I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chere Produktionsstarts durch Aufbau auf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rze Einführungsz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Funktional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eidung von Schnitt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Datenredundan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 kundenindividuelles PPS in der kontinuierlichen Produktion (II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Hard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Masken, aber Standard SAP Oberflä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Bedie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n die individuellen Prozesse und Bedürfnisse des Kunden angepaßtes flexibles 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- und langfristig erheblichen Kostenvorteilen gegenüber einer externen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Die optimierte Produktion und Produktionsplanung am Beispiel der BU Superabsorber (Iris-Projekt)</a:t>
            </a:r>
            <a:r>
              <a:rPr b="1" lang="de-DE" sz="2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de-DE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Marl, d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03. Juli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aussetzungen für ein integriertes SAP R/3 kundenindividuelles PP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stützung aller unternehmensweit anfallenden Anforder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rzfristig verfüg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kunftssicheres 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zahl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dien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72240" indent="-37224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ereich 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289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äufig sehr wenig Basisprodukte pro Anlage o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5440" indent="-276480">
              <a:spcBef>
                <a:spcPts val="5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.B. Anlage für die Methanolsynthese produziert ausschließlich Methanol (meistens in einer Qualität), welches wiederum in wenigen Transportarten zum Endabnehmer transportiert wird =&gt; wenige Artikelnumme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289080"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 wird 90 % des Absatzes mit 1 bis 3 planungsrelevanten Endverbrauchern realisi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240" indent="-372240"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&gt; das Handling der SAP Funktionen wird als zu schwerfällig empfunden und meist durch eigene, wesentlich transparentere Excel-Tabellen oder ähnliches ersetz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ereich Produktion und Produktions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 relativ klaren Prozessablauf stehen häufig komplex zu bedienende aber in ihren Funktionen nur spärlich genutzte Fertigungs- oder Prozessaufträge zur Abrechnung gegenü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ötigt wird eine einfache Maske zur Datenerfassung der Waren- und Leistungsbewegungen mit auf die eigentliche Funktion reduzierten Kostensammlern (Aufträ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QM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Bereich Qualitätssicherung und In-Prozesskontrol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hängig vom gewählten PPS-Verfahren stehen brauchbare Arbeitsvorräte für IPC ungenügend zur Verfü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öhung des Prüfrhythmus bei schlechter Qualitätslage nicht mögl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tabellarische oder graphische Anzeige der Ergebnisse (zur einfachen Darstellung des Prozessverlaufes oder der Qualitätsl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ötigt wird eine einfache Maske zur Darstellung des Arbeitsvorrates (Produktionslinien, Probenahmestellen) sowie flexible Ergebniserfassung und -anzei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Weitere Berei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rechnung der IPC Kosten z.B. nach Method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 periodische Abrechnung der Produkt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sschutz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dit-Trail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s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 Jahresba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Version A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ve Versionen A01 bis A9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658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15:14:30Z</dcterms:created>
  <dc:creator>Roschek Steffen</dc:creator>
  <dc:description/>
  <dc:language>en-US</dc:language>
  <cp:lastModifiedBy>Dr. Jochen Winkler</cp:lastModifiedBy>
  <cp:lastPrinted>1999-11-17T11:38:50Z</cp:lastPrinted>
  <dcterms:modified xsi:type="dcterms:W3CDTF">2003-07-08T09:46:55Z</dcterms:modified>
  <cp:revision>342</cp:revision>
  <dc:subject/>
  <dc:title>Optimierte Planung und Produktion mit periodischem Produktcontrolling  in der </dc:title>
</cp:coreProperties>
</file>