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679-E1E5-4CED-A8CF-3675C774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E6F-3D07-4621-B867-B4EB0E1B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07F-7C32-4886-9CF4-53816338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C7C-D194-49E4-9AB9-47CA505C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22A-D8FD-4D7A-9C06-F7249B5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A78-2706-4D83-A449-8BAAACDB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B84-E1C4-40A4-8E14-943639BD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214-49BF-4B9C-AA9A-598AD8FC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6F0C-9EF0-42FE-9E94-79D15248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2A6-9862-4991-8A1C-75E84C6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1DD-CDFA-4888-A265-309979C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773-F83D-402E-872C-CF1FF065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A99DF37-907D-4B23-A92D-6BE34B95D74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Kundenprojekte in</a:t>
            </a:r>
            <a:r>
              <a:rPr b="1" lang="de-DE" sz="3200" spc="-1" strike="noStrike">
                <a:solidFill>
                  <a:srgbClr val="3333cc"/>
                </a:solidFill>
                <a:latin typeface="Braggadocio"/>
              </a:rPr>
              <a:t> 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Verbindung m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SAP R/3 und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Add-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C0E-E4A9-451F-9B81-0BAB5BFA44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838080"/>
            <a:ext cx="80010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Kundenprojekte in</a:t>
            </a:r>
            <a:r>
              <a:rPr b="1" lang="de-DE" sz="3200" spc="-1" strike="noStrike">
                <a:solidFill>
                  <a:srgbClr val="3333cc"/>
                </a:solidFill>
                <a:latin typeface="Braggadocio"/>
              </a:rPr>
              <a:t> 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Verbindung m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SAP R/3 und </a:t>
            </a:r>
            <a:r>
              <a:rPr b="1" lang="de-DE" sz="2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3333cc"/>
                </a:solidFill>
                <a:latin typeface="Arial"/>
              </a:rPr>
              <a:t>Add-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EF7-6887-4FB1-ADD1-8BDD13C109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axisbericht zum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Babylo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Projekt des GB Superabsorber und der GG STOKO® Skin Care sowie Wasserbehandlung, Degussa AG / Stockhausen GmbH &amp; Co. K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ze Vorstellung der BU Superabsor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-Ausgangssit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läuterungen zum Projekt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Babyl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- Integration des Greensboroer SAP R/3 Systems in das Krefelder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ünde für die Zusamme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ktver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 Heraus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DD8-1338-4C41-B6B5-38FFD01342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optimierte Produktion und Produktionsplanung am Beispiel der BU Superabsorber (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hresabsatz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 von Produkten durch das Add-on 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ochenplanung von just in time Abfüllung durch das Add-on Produktions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vorber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ertungen und Reporting im Bereich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Überblick über das laufende QM-Projekt 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Harold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bei der BU Superabsorber (Produktivstart: Aug. 2003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bildung anfallender In-Prozeß- und Endkontro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utzen eines integrierten Qualitätsmanag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B7C-2A06-40F6-83BB-112AE2CB03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ndenindividuelle Rezepturverwaltung mit Angebotserstellung (neues jwAdd-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borrezeptverwaltung mit kundeneigenen Tabellen, Funktionen und Eingabemas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botserstel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einer integrierten Rezeptu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C3E-681F-4993-8A3B-4CB718D9E5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454-791E-4D9C-B3B1-54CF0517BC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AEF-7C7D-4007-BD5B-5F87DEDFD4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61C-3B8C-44C9-802E-738492804D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0D5-88C6-4324-BFAF-AFE09828A2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3.07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377-B056-4318-84B0-C241A81389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06-27T08:19:43Z</dcterms:modified>
  <cp:revision>221</cp:revision>
  <dc:subject/>
  <dc:title>Kein Folientitel</dc:title>
</cp:coreProperties>
</file>