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2D7D-1CC5-47E6-9BF6-DA8812F1D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A5D0-AD21-49DD-ABE9-2A9466A70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13ED-170C-4638-9DBC-B0014990D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6278-AABD-4F3B-997D-6F1552EF2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29F2-D1C2-4869-9B1B-646ADF8DA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CA6A-0604-4D76-B6BB-913BFE647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943F-F06E-4844-AFC5-B498F1A3A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EB68-1A8A-45DC-B721-151B4EEF3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9BA1-A467-46D3-BE86-25A004940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073C-0FA4-4DE6-B15F-6B7E48A2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CDE0-2E90-496E-983C-E82AC7A5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3304-5D6E-44E5-B44A-54400442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550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2076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ff3300"/>
                </a:solidFill>
                <a:latin typeface="Braggadoci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Braggadocio"/>
              </a:rPr>
              <a:t>j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776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E0E348C8-1B26-4792-B5B1-AF8F647D5318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685800"/>
            <a:ext cx="83818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03.07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5238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838080"/>
            <a:ext cx="8001000" cy="52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Herzlich Willkommen zum 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AP R/3 Worksh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Kundenprojekte in</a:t>
            </a:r>
            <a:r>
              <a:rPr b="1" lang="de-DE" sz="3200" spc="-1" strike="noStrike">
                <a:solidFill>
                  <a:srgbClr val="3333cc"/>
                </a:solidFill>
                <a:latin typeface="Braggadocio"/>
              </a:rPr>
              <a:t> </a:t>
            </a: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Verbindung mi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SAP R/3 und </a:t>
            </a:r>
            <a:r>
              <a:rPr b="1" lang="de-DE" sz="2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Add-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arler congress hotel, 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arl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A9D2-EE36-4EC3-BE93-CF9C82BC6172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03.07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5238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838080"/>
            <a:ext cx="8001000" cy="455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AP R/3 Workshop</a:t>
            </a: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Kundenprojekte in</a:t>
            </a:r>
            <a:r>
              <a:rPr b="1" lang="de-DE" sz="3200" spc="-1" strike="noStrike">
                <a:solidFill>
                  <a:srgbClr val="3333cc"/>
                </a:solidFill>
                <a:latin typeface="Braggadocio"/>
              </a:rPr>
              <a:t> </a:t>
            </a: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Verbindung mi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SAP R/3 und </a:t>
            </a:r>
            <a:r>
              <a:rPr b="1" lang="de-DE" sz="2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Add-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arler congress hotel, 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arl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35A9-817A-47F4-B24F-1EBE7A9B046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03.07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Themen heute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axisbericht zum </a:t>
            </a:r>
            <a:r>
              <a:rPr b="1" i="1" lang="de-DE" sz="2200" spc="-1" strike="noStrike">
                <a:solidFill>
                  <a:srgbClr val="000000"/>
                </a:solidFill>
                <a:latin typeface="Arial"/>
              </a:rPr>
              <a:t>Babylon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-Projekt des GB Superabsorber und der GG STOKO® Skin Care sowie Wasserbehandlung, Degussa AG / Stockhausen GmbH &amp; Co. K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rze Vorstellung der BU Superabsorb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T-Ausgangssitu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läuterungen zum Projekt 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Babylo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- Integration des Greensboroer SAP R/3 Systems in das Krefelder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ünde für die Zusammenfüh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jektverlau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ondere Herausforder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9D16-4506-4E43-83DC-1F77143C0A9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03.07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Themen heute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ie optimierte Produktion und Produktionsplanung am Beispiel der BU Superabsorber (</a:t>
            </a:r>
            <a:r>
              <a:rPr b="1" i="1" lang="de-DE" sz="2200" spc="-1" strike="noStrike">
                <a:solidFill>
                  <a:srgbClr val="000000"/>
                </a:solidFill>
                <a:latin typeface="Arial"/>
              </a:rPr>
              <a:t>Iris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-Projekt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Jahresabsatzpl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ionsplanung von Produkten durch das Add-on Produktionsplan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ochenplanung von just in time Abfüllung durch das Add-on Produktionsplan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ionsvorberei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wertungen und Reporting im Bereich der Produk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Überblick über das laufende QM-Projekt </a:t>
            </a:r>
            <a:r>
              <a:rPr b="1" i="1" lang="de-DE" sz="2200" spc="-1" strike="noStrike">
                <a:solidFill>
                  <a:srgbClr val="000000"/>
                </a:solidFill>
                <a:latin typeface="Arial"/>
              </a:rPr>
              <a:t>Harolds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bei der BU Superabsorber (Produktivstart: Aug. 2003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bildung anfallender In-Prozeß- und Endkontroll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utzen eines integrierten Qualitätsmanage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25D3-8501-4C80-9FFF-09A8441AD6F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03.07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Themen heute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undenindividuelle Rezepturverwaltung mit Angebotserstellung (neues jwAdd-o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aborrezeptverwaltung mit kundeneigenen Tabellen, Funktionen und Eingabemask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gebotserstell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teile einer integrierten Rezepturverwal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AC72-A7C6-4980-BFAC-1CCA57BC19F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03.07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as Beratungsunternehmen 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Consulting wurde am </a:t>
            </a:r>
            <a:br>
              <a:rPr sz="2200"/>
            </a:b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1. Juli 1996 von Dr. Jochen Winkler gegründet und fir-miert seit Mai 2002 als 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Consulting GmbH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on Anfang an spezialisierte sich das Unternehmen auf die komplette Einführung von SAP R/3-Systemen in Unternehmen der Prozessindustri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duktspektrum heute:  Unternehmensausrichtung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SAP R/3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Wingdings"/>
                <a:ea typeface="Wingdings"/>
              </a:rPr>
              <a:t>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Chemische Industrie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	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Add-Ons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Wingdings"/>
                <a:ea typeface="Wingdings"/>
              </a:rPr>
              <a:t>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Pharmazeutische Industri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Web-Applications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Wingdings"/>
                <a:ea typeface="Wingdings"/>
              </a:rPr>
              <a:t>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Medizi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9907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r Start von </a:t>
            </a:r>
            <a:r>
              <a:rPr b="0" lang="en-US" sz="32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ul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AE01-FD16-40F2-A640-8AF42877770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03.07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ABIC Polyolefine GmbH, Gelsenkirch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Wacker Chemie GmbH, Nünchritz, Burghau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 / GB Aerosil &amp; Silanes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 / GB Superabsorber, Krefel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fracor GmbH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dustriepark Wolfgang GmbH, Hanau-Wolfga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EOS Phenol GmbH &amp; Co. KG, Gladbeck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tockhausen GmbH &amp; Co. KG, Krefel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innolit GmbH &amp; Co. KG, Isman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OXENO Olefinchemie GmbH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Goldschmidt AG, Es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7621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ug aus der Kundenli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A5EC-4786-458E-BB9D-6AFE08881F5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03.07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zupharma GmbH &amp; Co., Gerling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ventis Pharma Deutschland GmbH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gussa AG / GB Coatings &amp; Colorants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gussa AG / GB High Performance Polymers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ta Medica AG und Arzneimittelwerk Dresden GmbH (AWD), Radebeul, Künsebeck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gussa AG, Frankfurt (Charme-Projekt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F IT Services GmbH, Ludwigshaf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F Pigment GmbH (Masterbatch), Köl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KW Stickstoffwerke Piesteritz GmbH, Wittenber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CI Augsburg GmbH, Augsbur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7621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ug aus der Kundenli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3658-499B-4102-84D2-7C93186C400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03.07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hre direkten Ansprechpartner sind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xel Röthemei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www.jwconsulting.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sere Homepage im Internet. Hier finden Sie alles Wissenswerte zu unserem Geschäft, lernen Referenzen und Standorte kennen - Mausklick genüg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C210-9F51-4F00-B66E-CEF59018A8E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03.07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Ziel der Veranstalt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mitteln von Erfahrungen und Know-how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ufnehmen von neuen Kontak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1E58-3677-45EE-9EBA-EDB4098C7AF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08:57:14Z</dcterms:created>
  <dc:creator>ARS</dc:creator>
  <dc:description/>
  <dc:language>en-US</dc:language>
  <cp:lastModifiedBy>Dr. Jochen Winkler</cp:lastModifiedBy>
  <cp:lastPrinted>2001-02-12T08:25:41Z</cp:lastPrinted>
  <dcterms:modified xsi:type="dcterms:W3CDTF">2003-06-27T08:19:43Z</dcterms:modified>
  <cp:revision>221</cp:revision>
  <dc:subject/>
  <dc:title>Kein Folientitel</dc:title>
</cp:coreProperties>
</file>