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BA3-C342-4F34-A7CE-E578BFD2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A02-6B50-4D08-B47E-A285515A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2F2-A001-4AEB-A73F-6E7C6A31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362-A50F-4CF1-A736-25E6E902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0405-03BF-41E4-893D-BCDFE65C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282B-EE38-4E09-8263-06644529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A8F5-7047-4AC5-AF2E-DC323768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7476-1CC9-4067-A660-9B4F789E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DEAD-7A3D-46F8-A438-44D7141C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051F-A05B-494B-9B04-CC8BB062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0558-B95D-4115-BCD9-335DB769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01B-F6EE-4A3A-8D8F-3C62C789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9D7F-87ED-414F-BA85-7948F438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2E94-B897-4150-B423-EC9000D3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9A24-C976-4A3E-BDAC-3B2803FE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475B-1637-4AEB-8508-CF23E2A7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75DD-4DE2-4CA4-9D27-0EE6FB61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3D1-FE54-4263-A761-7DC3F09E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FEE-818D-49CE-B6A8-8599AAE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758-A8EB-4784-8578-E14B6089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701-804B-4B27-96F6-85D35310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CCE-A44B-4B70-9E72-C9C75256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99B-4EDC-481D-84AE-44FF820B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69F-695F-4B28-AD9C-67F4139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54040" y="325440"/>
            <a:ext cx="496800" cy="14508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45720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00800" y="1770120"/>
            <a:ext cx="1474920" cy="338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52960" y="192240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6A74-8835-405B-9697-7D7B8708AC5C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46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732E-293B-4FAB-B2E8-99C4A41FC7E8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106992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819520" y="7621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otheke </a:t>
            </a:r>
            <a:br>
              <a:rPr sz="1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 Universitätsklinikums Erla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228760"/>
            <a:ext cx="7010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Projekt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e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potheke des Universitätsklinikums Erlang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zu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Implementierung eines elektronisch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Online-Bestell- und Dokumentationssystemes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für Arzneimitt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3680" y="5211720"/>
            <a:ext cx="518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r. S. Krebs, Dr. F. Dörj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Satellitensymposi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9. ADKA-Fachtagung Mannheim 14.06.200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114720" y="682560"/>
            <a:ext cx="356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chnisch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oraussetzung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2209680"/>
            <a:ext cx="83818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System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zentral: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SAP R/3</a:t>
            </a:r>
            <a:r>
              <a:rPr b="0" lang="de-DE" sz="2000" spc="-1" strike="noStrike">
                <a:solidFill>
                  <a:srgbClr val="003366"/>
                </a:solidFill>
                <a:latin typeface="Symbol"/>
                <a:ea typeface="Symbol"/>
              </a:rPr>
              <a:t>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-Install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IS-H</a:t>
            </a:r>
            <a:r>
              <a:rPr b="0" lang="de-DE" sz="2000" spc="-1" strike="noStrike">
                <a:solidFill>
                  <a:srgbClr val="003366"/>
                </a:solidFill>
                <a:latin typeface="Symbol"/>
                <a:ea typeface="Symbol"/>
              </a:rPr>
              <a:t>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-Installation (nicht essentiel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atenbank (Oracle oder MySQ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Webserver (Apach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lokal: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für Webanbindung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MS Internet Explorer 5.5 oder höh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Station)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FTP (für Anbindung der Barcode-Lesegerät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irekter SAP-Zugriff: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SAP-GU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Apothek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rfassungsgeräte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Barcode-Lesegerät (nicht essentiel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868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jektpl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8720" y="2701800"/>
            <a:ext cx="7202520" cy="3240"/>
          </a:xfrm>
          <a:custGeom>
            <a:avLst/>
            <a:gdLst/>
            <a:ahLst/>
            <a:rect l="l" t="t" r="r" b="b"/>
            <a:pathLst>
              <a:path w="4537" h="2">
                <a:moveTo>
                  <a:pt x="0" y="2"/>
                </a:moveTo>
                <a:lnTo>
                  <a:pt x="4537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2543040"/>
            <a:ext cx="5040" cy="301680"/>
          </a:xfrm>
          <a:custGeom>
            <a:avLst/>
            <a:gdLst/>
            <a:ahLst/>
            <a:rect l="l" t="t" r="r" b="b"/>
            <a:pathLst>
              <a:path w="3" h="190">
                <a:moveTo>
                  <a:pt x="0" y="0"/>
                </a:moveTo>
                <a:lnTo>
                  <a:pt x="3" y="19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97160" y="2557440"/>
            <a:ext cx="3240" cy="301680"/>
          </a:xfrm>
          <a:custGeom>
            <a:avLst/>
            <a:gdLst/>
            <a:ahLst/>
            <a:rect l="l" t="t" r="r" b="b"/>
            <a:pathLst>
              <a:path w="3" h="190">
                <a:moveTo>
                  <a:pt x="0" y="0"/>
                </a:moveTo>
                <a:lnTo>
                  <a:pt x="3" y="19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7360" y="2557440"/>
            <a:ext cx="4680" cy="301680"/>
          </a:xfrm>
          <a:custGeom>
            <a:avLst/>
            <a:gdLst/>
            <a:ahLst/>
            <a:rect l="l" t="t" r="r" b="b"/>
            <a:pathLst>
              <a:path w="3" h="190">
                <a:moveTo>
                  <a:pt x="0" y="0"/>
                </a:moveTo>
                <a:lnTo>
                  <a:pt x="3" y="19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97560" y="2557440"/>
            <a:ext cx="4680" cy="301680"/>
          </a:xfrm>
          <a:custGeom>
            <a:avLst/>
            <a:gdLst/>
            <a:ahLst/>
            <a:rect l="l" t="t" r="r" b="b"/>
            <a:pathLst>
              <a:path w="3" h="190">
                <a:moveTo>
                  <a:pt x="0" y="0"/>
                </a:moveTo>
                <a:lnTo>
                  <a:pt x="3" y="19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12160" y="2543040"/>
            <a:ext cx="4680" cy="301680"/>
          </a:xfrm>
          <a:custGeom>
            <a:avLst/>
            <a:gdLst/>
            <a:ahLst/>
            <a:rect l="l" t="t" r="r" b="b"/>
            <a:pathLst>
              <a:path w="3" h="190">
                <a:moveTo>
                  <a:pt x="0" y="0"/>
                </a:moveTo>
                <a:lnTo>
                  <a:pt x="3" y="19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4120" y="21985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Kickof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6160" y="2860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5.10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66360" y="2860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5.12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66560" y="28465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1.03.0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81160" y="2860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1.03.0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560" y="2860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1.09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3228840"/>
            <a:ext cx="876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Meilensteine     Feinkonzept        Prototyp           Start Produktiv-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       Implementier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betrieb Bestellung       auf den Station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Start Produktiv-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betrieb Doku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320" y="4567320"/>
            <a:ext cx="90676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Bildung einer Projektgruppe: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Projektleitung Apothek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Mitarbeit im Projektteam: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Firma jwconsulting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Dezernat 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MIK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Pflege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IT-Beauftragter, Pflegeleitung, Stationsleitung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Transfusionsmedizi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09600" y="2424240"/>
            <a:ext cx="220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ilotphase Chirurgische Klinik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720880"/>
            <a:ext cx="144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0" y="252"/>
                </a:lnTo>
              </a:path>
            </a:pathLst>
          </a:custGeom>
          <a:noFill/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320" y="2133720"/>
            <a:ext cx="81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dd-on zur Durchführung einer web-basierten, SAP R/3 integrierte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patientenbezogene Dokumentation von frei definierbaren Arzneimittel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2895480"/>
            <a:ext cx="809136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Ziele und Nutze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hohe Qualität der Dokumen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größere Sicherheit durc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durchgängige Chargenverfolg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verbesserte und vereinfachte Recherche bei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ückrufaktion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lückenlose Kontrolle,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Dokumentation und Archivierung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der Abläufe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bei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d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chargendokumentationspflichtigen Arzneimittel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ereinfachte Arbeitsabläufe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fassung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mittels Barcodetechnik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Daten werden nur einmal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fass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vereinfachte und neue Analysemöglichkeiten (z.B. Audit der Station)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2160720"/>
            <a:ext cx="8458200" cy="43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Leistungsumfa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patientenbezogenen Chargendokumentation zur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füllung der gesetzlichen Auflagen des Transfusionsgesetz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möglichung der DRG-relevanten Kostenträgerrechnung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Implementierung von Analyse- und Rechercheverfahren zu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Chargenrückverfolgung (Recherchefunktion über alle Feldeinträg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leichterte Abrechnung von Sonderentgelt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Unterstützung bei der jährlichen Meldung ans Paul-Ehrlich-Institut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uswertung im WEB mittels Selektionsmaske über Patient, Fallnummer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rzneimittel, Charge, St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Eingabeunterstützung durch spezielle Suchhilf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ingabe über Barcodelesegerä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Materialsuche über PZN-Nummer oder Materialnam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Patientenzuordnung: namentlich oder über IS-H-Patientennumm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Zuordnung von Hämostasekriterien (ICD10-Werte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2209680"/>
            <a:ext cx="853416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Voraussetz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essentiell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Kennzeichnung der Arzneimittel im SAP-Materialstamm als dokumentations-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flichtig (TFG, DRG oder beides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für die eindeutige Chargenverfolgung zusätzlic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flege der Chargennummer in SAP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korrekte Chargenzuordnung im Wareneinga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hilfreich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IS-H-Installation: Unterstützung bei der Eingabe der Patientendat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scannbare Patientenfallnumm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scannbare Chargennummer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(wird von führenden Herstellern als Barcode geliefert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2220840"/>
            <a:ext cx="883944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Dokumentation auf den Station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manuelle Eingabe im Web-Frontend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von Patient, Medikament, Charge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diese wird vom System auf Plausibilität überprüft), Menge, Datum, Arzt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ingabehilfen: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uswahlfunktion für Medikament und Hämostasestörung (ICD1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Suchfunktion für Patient/Fallnumm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oder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ingabe per Scanner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: Patientenfallnummer  +  PZN  +  Charg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+ manuelle Eingabe der Menge am Scann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Eingabe des verantwortlichen Arztes per Barcode oder manuell am Scanner möglich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Weiterbearbeitung der Daten im Web-Fronte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Senden der Daten an SA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automatisch bereitgestellt werden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Informationen zur Station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über Eingabe der Org.-Einheit am Scanner und am Web-Fronte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Datum und Uhrzei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04920" y="24768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72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80880" y="236232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59092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895480"/>
            <a:ext cx="8384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14400" y="4267080"/>
            <a:ext cx="8380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2362320"/>
            <a:ext cx="8380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05120" y="2590920"/>
            <a:ext cx="8380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2895480"/>
            <a:ext cx="8380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4267080"/>
            <a:ext cx="609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4267080"/>
            <a:ext cx="609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2209680"/>
            <a:ext cx="8686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Versorgung von 134 Verbrauchsstellen des Universitätsklinikums Erlangen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sowie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19 Verbrauchsstellen der Fachklinik Herzogenaurach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mit Arzneimitteln in einer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2-3 maligen Belieferungsfrequenz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pro Woch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papiergebundene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Bestellung per handschriftlicher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intragung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in ein Bestellbuc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ransport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er Bestellbücher in vorwiegend namentlich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bezeichneten Stationskisten zur Apothek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Ausgabe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von chargendokumentationspflichtigen Arzneimittel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von der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Apotheke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und der Abt.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ransfusionsmediz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ein einheitliches (elektronisches) Dokumentationsverfahre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für chargendokumentationspflichtige Arzneimitt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ein Verfahren zur patientenbezogenen Dokumentation des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rzneimitteleinsatzes (DR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6600" y="86508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ST-Situation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2400480"/>
            <a:ext cx="830592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Kontrolle der Daten und Fehlerbearbeitu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grundsätzlich im SAP R/3 Syste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über eine spezielle Selektionsmask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räsentation des Selektionsergebnis als ALV-Grid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direkte Verknüpfung mit der Maske „Dokumentation Patientenabgabe“ zur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earbeitung der fehlerhaften oder unvollständigen Datensätz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verantwortlich: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Apothek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Transfusionsmedizi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28600" y="304920"/>
          <a:ext cx="8686800" cy="60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86800" cy="60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4120" y="2133720"/>
            <a:ext cx="853128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Auswert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SAP: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über Selektionsmasken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räsentation des Selektionsergebnis als ALV-Grid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Einrichtung von verschiedenen Anzeigevarianten möglic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Export der Daten möglich z.B.  in Excel, Word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WEB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über Selektionsmasken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räsentation des Selektionsergebnis als Tabel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Selektionsparameter: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rzneimittel und Chargennummer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Klinik, Station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Patientennummer, Fallnummer, Name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bgabedatum/Zeit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verordnender Arzt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fassungsdatum und Erfass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0880" y="236232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59092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235260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283860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4519440"/>
            <a:ext cx="8384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4983120"/>
            <a:ext cx="9144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5235480"/>
            <a:ext cx="1219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5486400"/>
            <a:ext cx="1219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5715000"/>
            <a:ext cx="1219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590920"/>
            <a:ext cx="6858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07980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83212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3543480"/>
            <a:ext cx="6858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3795840"/>
            <a:ext cx="6858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403848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427824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451944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498312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523548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548640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571500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4038480"/>
            <a:ext cx="9144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4278240"/>
            <a:ext cx="8384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379584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3079800"/>
            <a:ext cx="8384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354348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04920" y="24768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295280" y="1981080"/>
            <a:ext cx="20574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5280" y="2154240"/>
            <a:ext cx="21243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2309760"/>
            <a:ext cx="21243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2475000"/>
            <a:ext cx="21592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5280" y="2637000"/>
            <a:ext cx="20574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2787480"/>
            <a:ext cx="20574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2949480"/>
            <a:ext cx="2232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8600" y="11448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514600" y="609480"/>
            <a:ext cx="435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ST-Situation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estell-Vorga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2362320"/>
            <a:ext cx="457200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Probleme auf Statio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ransparenz und Aktualität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mangelnde Transparenz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ehlende Bestellhistori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Status der Bestellung/Liefer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ehlen einer stationsbezogenen Hitlis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rzneimittel-Hauslis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Handschriftliche Bestellung =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Quelle von Bestellfehler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hoher Zeitbedarf für d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Bestellvorga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2344680"/>
            <a:ext cx="42674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bleme in der Apothek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andschriftliche Bestellu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„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ntcodierung“ der Bestellung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gelhafte formale Qualitä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gelnde Transparenz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zeitraubende und kosten-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ächtige Transportvorgän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terschriftsberechtigu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895120" y="91440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Zusammenfassu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2346480"/>
            <a:ext cx="8458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Apotheke: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SAP R/3 integriertes Modul zur Sichtung von Online-Bestellungen und Abgabe von Arzneimittel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ebStationsanbindung: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web-basiertes SAP R/3 integriertes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elektronischen Bestellsystem für die Bestellung von Arzneimittel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uf S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ebPatientenabgab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dd-on zur Durchführung einer web-basierten, SAP R/3 integrierte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patientenbezogene Dokumentation von frei definierbaren Arzneimittel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013120" cy="41716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58320" y="91116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jektte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0320" y="2004840"/>
            <a:ext cx="511992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potheke: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Dr. Dörj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rau Dr. Kreb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MIK: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Dr. Wentz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Hoc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Löh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rau Rabenstei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Dezernat M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Emmer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Groneman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Pflege: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Fix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rau Gae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rau Kram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Schrüf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ransfusionsmedizin: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PD Dr. Zimmerma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Chirurgie: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PD Dr. Haup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jwConsulting: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Baier (SAP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Ficzel (SAP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Dr. Späth (Web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52480" y="609480"/>
            <a:ext cx="603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ST-Situation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argen-Dokument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133720"/>
            <a:ext cx="87631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Ausgabe von chargendokumentationspflichtigen AM durch di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Apotheke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ransfusionsmediz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stationsbezogene Ausgabe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nur patientenbezogene Ausgab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keine patientenbezogene Dokumentation)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Bestellung vorab oder bei Bedarf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Bestellung nur bei Bedar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Dokumentation in der Krankenakte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un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per „Blutbuch“ auf Station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in der Transfusionsmedizi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handschriftlich)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   (handschriftlich + elektronische Tabellen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BER: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Weitergabe von chargendokumentationspflichtigen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rzneimitteln an andere Stationen und Patienten!!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Mangelhafte Recherchemöglichkeiten!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2133720"/>
            <a:ext cx="861084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rfüllung der qualitativen Aufgaben der Arzneimittelkommiss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verbesserte Umsetzung der Arzneimittel-Hauslis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Sonderbestellungen: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Reduktion der Sonderbestellungen durch aut-idem Substitutio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utomatische Umleitung der Bestellung in ein elektronisches Sonderrezep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patientenbezogene Dokumentation definierter Arzneimitt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rfüllung der gesetzlichen Auflagen des Transfusionsgesetzes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durch Umsetzung  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ines lückenlosen patientenbezogenen (Bestell- und) Dokumentationsverfahren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rleichterte Abrechnung von Sonderentgelt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neue und verbesserte Analyse- und Rechercheverfahr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DRG-relevante Kostenträgerrechnung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ür ausgewählte z.B. hochpreisige AM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rweiterungsmöglichkeite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Verbesserte Insourcing-Potentiale durch Verwendung der Webtechnologi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Anbindung an eine (halb-)automatische Kommissionier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88560" y="86508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Ziele für das Klinik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2311560"/>
            <a:ext cx="853452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qualitative Verbesserung des Bestellprozesse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und erhöhte Transparenz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Bestellung aus der elektronischen Arzneimittel-Hauslis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Verfügbarkeit von Bestellhistorie, Stations-Hitlisten und Bestellstatu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rhöhte Flexibilität beim Bestellvorga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Fehlerreduktion bei Bestellung und Kommissionieru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Lageroptimierung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Warenwirtschaftliche Analysemöglichkeiten für die Stationsapotheke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Reduktion der Stations-Lagervorräte und der Anzahl verfallener Arzneimitte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Wirtschaftlichkeit </a:t>
            </a:r>
            <a:r>
              <a:rPr b="1" lang="de-DE" sz="2000" spc="-1" strike="noStrike">
                <a:solidFill>
                  <a:srgbClr val="003366"/>
                </a:solidFill>
                <a:latin typeface="Symbol"/>
                <a:ea typeface="Symbol"/>
              </a:rPr>
              <a:t>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durch Wegfall zeitraubender Transpor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ntlastung des Personals bei Bestellung und Dokumen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2720" y="685800"/>
            <a:ext cx="556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Ziele für di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onen und die Apothek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376360" y="88884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odule des Program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346480"/>
            <a:ext cx="815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Apotheke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SAP R/3 integriertes Modul zur Sichtung vo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Online-Bestellungen und Abgabe von Arzneimittel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ebStationsanbindung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web-basiertes SAP R/3 integriertes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elektronischen Bestellsystem für die Bestellung vo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rzneimitteln auf S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ebPatientenabgabe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web-basierte, SAP R/3 integrierte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patientenbezogene Dokumentation des Arzneimitteleinsatzes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(„frei definierbare Arzneimittel“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PLC-Anbindung:</a:t>
            </a:r>
            <a:r>
              <a:rPr b="0" i="1" lang="de-DE" sz="2000" spc="-1" strike="noStrike">
                <a:solidFill>
                  <a:srgbClr val="003366"/>
                </a:solidFill>
                <a:latin typeface="Arial"/>
              </a:rPr>
              <a:t> elektronische Bestellübermittlung zu den </a:t>
            </a:r>
            <a:r>
              <a:rPr b="0" i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3366"/>
                </a:solidFill>
                <a:latin typeface="Arial"/>
              </a:rPr>
              <a:t>Lieferanten aus SAP R/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36840" y="3317760"/>
            <a:ext cx="1203120" cy="3240"/>
          </a:xfrm>
          <a:custGeom>
            <a:avLst/>
            <a:gdLst/>
            <a:ahLst/>
            <a:rect l="l" t="t" r="r" b="b"/>
            <a:pathLst>
              <a:path w="758" h="2">
                <a:moveTo>
                  <a:pt x="0" y="2"/>
                </a:moveTo>
                <a:lnTo>
                  <a:pt x="758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554688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ransport der Apothekengüter in Mehrwegkiste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3240" y="249876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DV-ONLINE-Bestellu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19520" y="3032280"/>
            <a:ext cx="1247760" cy="54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AP-Serv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7280" y="3321000"/>
            <a:ext cx="1219320" cy="1800"/>
          </a:xfrm>
          <a:custGeom>
            <a:avLst/>
            <a:gdLst/>
            <a:ahLst/>
            <a:rect l="l" t="t" r="r" b="b"/>
            <a:pathLst>
              <a:path w="768" h="1">
                <a:moveTo>
                  <a:pt x="0" y="0"/>
                </a:moveTo>
                <a:lnTo>
                  <a:pt x="768" y="1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5400" y="3317760"/>
            <a:ext cx="654120" cy="1800"/>
          </a:xfrm>
          <a:custGeom>
            <a:avLst/>
            <a:gdLst/>
            <a:ahLst/>
            <a:rect l="l" t="t" r="r" b="b"/>
            <a:pathLst>
              <a:path w="412" h="1">
                <a:moveTo>
                  <a:pt x="0" y="0"/>
                </a:moveTo>
                <a:lnTo>
                  <a:pt x="412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11560" y="5546880"/>
            <a:ext cx="3984480" cy="1440"/>
          </a:xfrm>
          <a:custGeom>
            <a:avLst/>
            <a:gdLst/>
            <a:ahLst/>
            <a:rect l="l" t="t" r="r" b="b"/>
            <a:pathLst>
              <a:path w="2510" h="1">
                <a:moveTo>
                  <a:pt x="0" y="0"/>
                </a:moveTo>
                <a:lnTo>
                  <a:pt x="2510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5241960"/>
            <a:ext cx="1547640" cy="62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96960" y="868320"/>
            <a:ext cx="58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Datenfluss bei der Bestellu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3625920"/>
            <a:ext cx="106668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53280" y="3616200"/>
            <a:ext cx="3240" cy="1619280"/>
          </a:xfrm>
          <a:custGeom>
            <a:avLst/>
            <a:gdLst/>
            <a:ahLst/>
            <a:rect l="l" t="t" r="r" b="b"/>
            <a:pathLst>
              <a:path w="2" h="1020">
                <a:moveTo>
                  <a:pt x="0" y="1020"/>
                </a:moveTo>
                <a:lnTo>
                  <a:pt x="2" y="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5241960"/>
            <a:ext cx="609480" cy="62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F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3360" y="3301920"/>
            <a:ext cx="3240" cy="1936800"/>
          </a:xfrm>
          <a:custGeom>
            <a:avLst/>
            <a:gdLst/>
            <a:ahLst/>
            <a:rect l="l" t="t" r="r" b="b"/>
            <a:pathLst>
              <a:path w="2" h="1220">
                <a:moveTo>
                  <a:pt x="2" y="0"/>
                </a:moveTo>
                <a:lnTo>
                  <a:pt x="0" y="1220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1000" y="3301920"/>
            <a:ext cx="1440" cy="1936800"/>
          </a:xfrm>
          <a:custGeom>
            <a:avLst/>
            <a:gdLst/>
            <a:ahLst/>
            <a:rect l="l" t="t" r="r" b="b"/>
            <a:pathLst>
              <a:path w="1" h="1220">
                <a:moveTo>
                  <a:pt x="0" y="0"/>
                </a:moveTo>
                <a:lnTo>
                  <a:pt x="0" y="1220"/>
                </a:lnTo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1640" y="4175280"/>
            <a:ext cx="32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Arial"/>
              </a:rPr>
              <a:t>Buchung un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Arial"/>
              </a:rPr>
              <a:t>Aufbau eines Chargenpool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91200" y="3578400"/>
            <a:ext cx="1670040" cy="1666800"/>
          </a:xfrm>
          <a:custGeom>
            <a:avLst/>
            <a:gdLst/>
            <a:ahLst/>
            <a:rect l="l" t="t" r="r" b="b"/>
            <a:pathLst>
              <a:path w="1052" h="1050">
                <a:moveTo>
                  <a:pt x="1052" y="105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3565440"/>
            <a:ext cx="1676160" cy="167652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1056" y="0"/>
                </a:moveTo>
                <a:lnTo>
                  <a:pt x="0" y="1056"/>
                </a:lnTo>
              </a:path>
            </a:pathLst>
          </a:custGeom>
          <a:noFill/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76800" y="3575160"/>
            <a:ext cx="349200" cy="349200"/>
          </a:xfrm>
          <a:custGeom>
            <a:avLst/>
            <a:gdLst/>
            <a:ahLst/>
            <a:rect l="l" t="t" r="r" b="b"/>
            <a:pathLst>
              <a:path w="220" h="220">
                <a:moveTo>
                  <a:pt x="220" y="0"/>
                </a:moveTo>
                <a:lnTo>
                  <a:pt x="0" y="220"/>
                </a:ln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3581280"/>
            <a:ext cx="330120" cy="333360"/>
          </a:xfrm>
          <a:custGeom>
            <a:avLst/>
            <a:gdLst/>
            <a:ahLst/>
            <a:rect l="l" t="t" r="r" b="b"/>
            <a:pathLst>
              <a:path w="208" h="210">
                <a:moveTo>
                  <a:pt x="208" y="21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02520" y="5241960"/>
            <a:ext cx="1546200" cy="62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othek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3032280"/>
            <a:ext cx="1219320" cy="54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eb-Serv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733920" y="4343400"/>
            <a:ext cx="175248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AP-Serv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5927760"/>
            <a:ext cx="533520" cy="62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927760"/>
            <a:ext cx="1371600" cy="62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pothek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60160" y="868320"/>
            <a:ext cx="67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Datenfluss bei der Dokument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3308400"/>
            <a:ext cx="1218960" cy="549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eb-Serv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3308400"/>
            <a:ext cx="1371600" cy="549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Chargenpoo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97120" y="2590920"/>
            <a:ext cx="2165400" cy="1440"/>
          </a:xfrm>
          <a:custGeom>
            <a:avLst/>
            <a:gdLst/>
            <a:ahLst/>
            <a:rect l="l" t="t" r="r" b="b"/>
            <a:pathLst>
              <a:path w="1364" h="1">
                <a:moveTo>
                  <a:pt x="0" y="0"/>
                </a:moveTo>
                <a:lnTo>
                  <a:pt x="1364" y="0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3460680"/>
            <a:ext cx="21337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4575240"/>
            <a:ext cx="1828800" cy="1440"/>
          </a:xfrm>
          <a:custGeom>
            <a:avLst/>
            <a:gdLst/>
            <a:ahLst/>
            <a:rect l="l" t="t" r="r" b="b"/>
            <a:pathLst>
              <a:path w="1152" h="1">
                <a:moveTo>
                  <a:pt x="0" y="0"/>
                </a:moveTo>
                <a:lnTo>
                  <a:pt x="1152" y="1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9640" y="4805280"/>
            <a:ext cx="1825560" cy="1800"/>
          </a:xfrm>
          <a:custGeom>
            <a:avLst/>
            <a:gdLst/>
            <a:ahLst/>
            <a:rect l="l" t="t" r="r" b="b"/>
            <a:pathLst>
              <a:path w="1150" h="1">
                <a:moveTo>
                  <a:pt x="0" y="1"/>
                </a:moveTo>
                <a:lnTo>
                  <a:pt x="1150" y="0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3689280"/>
            <a:ext cx="213372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6480" y="2832120"/>
            <a:ext cx="3240" cy="479520"/>
          </a:xfrm>
          <a:custGeom>
            <a:avLst/>
            <a:gdLst/>
            <a:ahLst/>
            <a:rect l="l" t="t" r="r" b="b"/>
            <a:pathLst>
              <a:path w="2" h="302">
                <a:moveTo>
                  <a:pt x="2" y="0"/>
                </a:moveTo>
                <a:lnTo>
                  <a:pt x="0" y="302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2835360"/>
            <a:ext cx="1800" cy="473040"/>
          </a:xfrm>
          <a:custGeom>
            <a:avLst/>
            <a:gdLst/>
            <a:ahLst/>
            <a:rect l="l" t="t" r="r" b="b"/>
            <a:pathLst>
              <a:path w="1" h="298">
                <a:moveTo>
                  <a:pt x="0" y="0"/>
                </a:moveTo>
                <a:lnTo>
                  <a:pt x="0" y="298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1400" y="5038560"/>
            <a:ext cx="1440" cy="889200"/>
          </a:xfrm>
          <a:custGeom>
            <a:avLst/>
            <a:gdLst/>
            <a:ahLst/>
            <a:rect l="l" t="t" r="r" b="b"/>
            <a:pathLst>
              <a:path w="1" h="560">
                <a:moveTo>
                  <a:pt x="0" y="0"/>
                </a:moveTo>
                <a:lnTo>
                  <a:pt x="0" y="560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4191120"/>
            <a:ext cx="1600200" cy="1218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Analys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Recherch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Sonderentgelt-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abrechn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03400" y="2209680"/>
            <a:ext cx="18068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canner- od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uelle Eingab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080" y="312408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Plausibilitätsprüf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4419720"/>
            <a:ext cx="1371600" cy="54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rchivier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797360"/>
            <a:ext cx="1825560" cy="3240"/>
          </a:xfrm>
          <a:custGeom>
            <a:avLst/>
            <a:gdLst/>
            <a:ahLst/>
            <a:rect l="l" t="t" r="r" b="b"/>
            <a:pathLst>
              <a:path w="1150" h="2">
                <a:moveTo>
                  <a:pt x="0" y="2"/>
                </a:moveTo>
                <a:lnTo>
                  <a:pt x="1150" y="0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2480" bIns="-424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4568760"/>
            <a:ext cx="1825560" cy="3240"/>
          </a:xfrm>
          <a:custGeom>
            <a:avLst/>
            <a:gdLst/>
            <a:ahLst/>
            <a:rect l="l" t="t" r="r" b="b"/>
            <a:pathLst>
              <a:path w="1150" h="2">
                <a:moveTo>
                  <a:pt x="0" y="0"/>
                </a:moveTo>
                <a:lnTo>
                  <a:pt x="1150" y="2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2480" bIns="-424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6760" y="525780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Kontrolle der Dat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7880" y="525780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ehlerkorrektu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5410080"/>
            <a:ext cx="1440" cy="362160"/>
          </a:xfrm>
          <a:custGeom>
            <a:avLst/>
            <a:gdLst/>
            <a:ahLst/>
            <a:rect l="l" t="t" r="r" b="b"/>
            <a:pathLst>
              <a:path w="1" h="228">
                <a:moveTo>
                  <a:pt x="0" y="0"/>
                </a:moveTo>
                <a:lnTo>
                  <a:pt x="0" y="228"/>
                </a:lnTo>
              </a:path>
            </a:pathLst>
          </a:custGeom>
          <a:noFill/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9400" y="5775480"/>
            <a:ext cx="1713960" cy="3373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tenweitergab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5029200"/>
            <a:ext cx="1440" cy="895320"/>
          </a:xfrm>
          <a:custGeom>
            <a:avLst/>
            <a:gdLst/>
            <a:ahLst/>
            <a:rect l="l" t="t" r="r" b="b"/>
            <a:pathLst>
              <a:path w="1" h="564">
                <a:moveTo>
                  <a:pt x="0" y="0"/>
                </a:moveTo>
                <a:lnTo>
                  <a:pt x="0" y="564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286000"/>
            <a:ext cx="1218960" cy="549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a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2286000"/>
            <a:ext cx="1219320" cy="549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tie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3240" y="3857760"/>
            <a:ext cx="3240" cy="482400"/>
          </a:xfrm>
          <a:custGeom>
            <a:avLst/>
            <a:gdLst/>
            <a:ahLst/>
            <a:rect l="l" t="t" r="r" b="b"/>
            <a:pathLst>
              <a:path w="2" h="304">
                <a:moveTo>
                  <a:pt x="0" y="0"/>
                </a:moveTo>
                <a:lnTo>
                  <a:pt x="2" y="304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27520" y="3857760"/>
            <a:ext cx="3240" cy="485640"/>
          </a:xfrm>
          <a:custGeom>
            <a:avLst/>
            <a:gdLst/>
            <a:ahLst/>
            <a:rect l="l" t="t" r="r" b="b"/>
            <a:pathLst>
              <a:path w="2" h="306">
                <a:moveTo>
                  <a:pt x="0" y="0"/>
                </a:moveTo>
                <a:lnTo>
                  <a:pt x="2" y="306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07:13:25Z</dcterms:created>
  <dc:creator>KREBSSE</dc:creator>
  <dc:description/>
  <dc:language>en-US</dc:language>
  <cp:lastModifiedBy>uta roghmanns</cp:lastModifiedBy>
  <cp:lastPrinted>2003-06-07T13:32:45Z</cp:lastPrinted>
  <dcterms:modified xsi:type="dcterms:W3CDTF">2003-06-14T10:32:56Z</dcterms:modified>
  <cp:revision>49</cp:revision>
  <dc:subject/>
  <dc:title>PowerPoint-Präsentation</dc:title>
</cp:coreProperties>
</file>