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549-32F4-4EEF-9B81-C9EF2538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4E2-4297-4B0D-A011-5AB92BD7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AA0-A900-4573-8EF6-96AA2AF1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ACB-209A-48D5-8583-DB3FC511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A7C4-E5A3-416F-9896-A61208DC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3DF0-6B0A-45E4-BE8B-CF28AD1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0D9F-A783-4A65-8CAE-43760D8A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E5F-E2A0-4CB5-9530-8083BF89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1C27-38FB-452B-9EAE-842B8BAD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06B-F30A-4F80-BB32-6ABB4FA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428A-ADFD-4A9F-A02E-003BEEE9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0A1-4AA3-4ECB-84C9-73553A63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67D3-EEE1-4E4D-94E7-4F7A479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BE57-3F93-45A7-9C35-20D7E691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6BBA-D020-4BFD-B27C-08ECCE0D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B7B5-17E9-4D49-90C7-43026867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3DD9-E6B9-4756-81DF-A63CDDF1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913-FF29-492C-BEFA-8E4C4AB2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B31-4B48-4B1B-A314-D92F84AE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432-3B0C-4394-B4ED-B2B4129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5D7-E7B6-41E0-99B4-E08C662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BEF-1610-40A8-AF9E-5BB77E9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66E-293F-48F2-9F44-A5158E6B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3BF-B97C-4438-BDE4-C1E833AC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54040" y="325440"/>
            <a:ext cx="496800" cy="1450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4572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00800" y="1770120"/>
            <a:ext cx="1474920" cy="3380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52960" y="192240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DB5C-7B44-4150-B7CE-2290EAF8A350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46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48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B56-F3AF-4CB5-94D2-009946EFB0F2}" type="slidenum">
              <a:rPr b="0" lang="de-DE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106992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819520" y="7621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otheke </a:t>
            </a:r>
            <a:br>
              <a:rPr sz="1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 Universitätsklinikums Erla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228760"/>
            <a:ext cx="701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Projekt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e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potheke des Universitätsklinikums Erlang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zur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mplementierung eines elektronisch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Online-Bestell- und Dokumentationssystemes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ür Arzneimitt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3680" y="5211720"/>
            <a:ext cx="518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r. S. Krebs, Dr. F. Dörj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tellitensympos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9. ADKA-Fachtagung Mannheim 14.06.200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114720" y="682560"/>
            <a:ext cx="356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chnisch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oraussetzung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2209680"/>
            <a:ext cx="83818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System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zentral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P R/3</a:t>
            </a:r>
            <a:r>
              <a:rPr b="0" lang="de-DE" sz="2000" spc="-1" strike="noStrike">
                <a:solidFill>
                  <a:srgbClr val="003366"/>
                </a:solidFill>
                <a:latin typeface="Symbol"/>
                <a:ea typeface="Symbol"/>
              </a:rPr>
              <a:t>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-Install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IS-H</a:t>
            </a:r>
            <a:r>
              <a:rPr b="0" lang="de-DE" sz="2000" spc="-1" strike="noStrike">
                <a:solidFill>
                  <a:srgbClr val="003366"/>
                </a:solidFill>
                <a:latin typeface="Symbol"/>
                <a:ea typeface="Symbol"/>
              </a:rPr>
              <a:t>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-Installation (nicht essentiel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atenbank (Oracle oder MySQ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Webserver (Apach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lokal: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ür Webanbindung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MS Internet Explorer 5.5 oder höh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Station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TP (für Anbindung der Barcode-Lesegerät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irekter SAP-Zugriff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P-GU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Apothek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rfassungsgeräte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Barcode-Lesegerät (nicht essentiel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868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jekt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8720" y="2701800"/>
            <a:ext cx="7202520" cy="3240"/>
          </a:xfrm>
          <a:custGeom>
            <a:avLst/>
            <a:gdLst/>
            <a:ahLst/>
            <a:rect l="l" t="t" r="r" b="b"/>
            <a:pathLst>
              <a:path w="4537" h="2">
                <a:moveTo>
                  <a:pt x="0" y="2"/>
                </a:moveTo>
                <a:lnTo>
                  <a:pt x="4537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543040"/>
            <a:ext cx="504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97160" y="2557440"/>
            <a:ext cx="324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7360" y="2557440"/>
            <a:ext cx="468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97560" y="2557440"/>
            <a:ext cx="468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12160" y="2543040"/>
            <a:ext cx="4680" cy="301680"/>
          </a:xfrm>
          <a:custGeom>
            <a:avLst/>
            <a:gdLst/>
            <a:ahLst/>
            <a:rect l="l" t="t" r="r" b="b"/>
            <a:pathLst>
              <a:path w="3" h="190">
                <a:moveTo>
                  <a:pt x="0" y="0"/>
                </a:moveTo>
                <a:lnTo>
                  <a:pt x="3" y="190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4120" y="219852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Kickof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61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.10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663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5.12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66560" y="28465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1.03.0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811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1.03.0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560" y="28605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01.09.0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228840"/>
            <a:ext cx="876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eilensteine     Feinkonzept        Prototyp           Start Produktiv-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       Implementi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etrieb Bestellung       auf den Station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tart Produktiv-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etrieb Dok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320" y="4567320"/>
            <a:ext cx="90676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ildung einer Projektgruppe: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Projektleitung Apothek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itarbeit im Projektteam: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Firma jwconsulting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ezernat M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I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Pflege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IT-Beauftragter, Pflegeleitung, Stationsleitung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09600" y="2424240"/>
            <a:ext cx="220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ilotphase Chirurgische Klinik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720880"/>
            <a:ext cx="144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0" y="252"/>
                </a:lnTo>
              </a:path>
            </a:pathLst>
          </a:custGeom>
          <a:noFill/>
          <a:ln w="93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320" y="2133720"/>
            <a:ext cx="81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dd-on zur Durchführung einer web-basierten, SAP R/3 integrierte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tientenbezogene Dokumentation von frei definierbaren Arzneimittel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2895480"/>
            <a:ext cx="809136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Ziele und Nutze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hohe Qualität der Dokumen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größere Sicherheit durc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durchgängige Chargenverfolg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verbesserte und vereinfachte Recherche bei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Rückrufaktion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ückenlose Kontrolle,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okumentation und Archivierung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der Abläufe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bei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d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argendokumentationspflichtigen Arzneimittel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Vereinfachte Arbeitsabläuf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assung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mittels Barcodetechnik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Daten werden nur einmal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ass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vereinfachte und neue Analysemöglichkeiten (z.B. Audit der Station)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2160720"/>
            <a:ext cx="845820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Leistungsumfa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atientenbezogenen Chargendokumentation zur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üllung der gesetzlichen Auflagen des Transfusionsgesetz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möglichung der DRG-relevanten Kostenträgerrechnung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Implementierung von Analyse- und Rechercheverfahren zu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argenrückverfolgung (Recherchefunktion über alle Feldeinträg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leichterte Abrechnung von Sonderentgel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Unterstützung bei der jährlichen Meldung ans Paul-Ehrlich-Institut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uswertung im WEB mittels Selektionsmaske über Patient, Fallnummer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rzneimittel, Charge, St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Eingabeunterstützung durch spezielle Suchhilf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ingabe über Barcodelesegerä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Materialsuche über PZN-Nummer oder Materialnam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atientenzuordnung: namentlich oder über IS-H-Patientennumm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Wingdings"/>
                <a:ea typeface="Wingdings"/>
              </a:rPr>
              <a:t>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Zuordnung von Hämostasekriterien (ICD10-Werte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2209680"/>
            <a:ext cx="853416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Voraussetz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essentiell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Kennzeichnung der Arzneimittel im SAP-Materialstamm als dokumentations-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flichtig (TFG, DRG oder beides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für die eindeutige Chargenverfolgung zusätzlic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flege der Chargennummer in SA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korrekte Chargenzuordnung im Wareneinga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hilfreich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IS-H-Installation: Unterstützung bei der Eingabe der Patientendat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scannbare Patientenfallnumm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scannbare Chargennummer </a:t>
            </a: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(wird von führenden Herstellern als Barcode geliefert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220840"/>
            <a:ext cx="88394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Dokumentation auf den Station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manuelle Eingabe im Web-Frontend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von Patient, Medikament, Charge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diese wird vom System auf Plausibilität überprüft), Menge, Datum, Arzt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ingabehilfen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uswahlfunktion für Medikament und Hämostasestörung (ICD1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uchfunktion für Patient/Fallnumm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3366"/>
                </a:solidFill>
                <a:latin typeface="Arial"/>
              </a:rPr>
              <a:t>oder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ingabe per Scanner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: Patientenfallnummer  +  PZN  +  Charg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+ manuelle Eingabe der Menge am Scann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Eingabe des verantwortlichen Arztes per Barcode oder manuell am Scanner möglich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Weiterbearbeitung der Daten im Web-Front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enden der Daten an SA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utomatisch bereitgestellt werden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Informationen zur Statio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über Eingabe der Org.-Einheit am Scanner und am Web-Front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atum und Uhrze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04920" y="24768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80880" y="23623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5909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89548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42670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2362320"/>
            <a:ext cx="8380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05120" y="2590920"/>
            <a:ext cx="8380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895480"/>
            <a:ext cx="8380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426708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4267080"/>
            <a:ext cx="6094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2209680"/>
            <a:ext cx="8686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Versorgung von 134 Verbrauchsstellen des Universitätsklinikums Erlangen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sowie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19 Verbrauchsstellen der Fachklinik Herzogenaurach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mit Arzneimitteln in einer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2-3 maligen Belieferungsfrequenz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pro Woch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piergebundene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Bestellung per handschriftlicher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intragung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in ein Bestellbuc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port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er Bestellbücher in vorwiegend namentlich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bezeichneten Stationskisten zur Apothek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usgab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von chargendokumentationspflichtige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von der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potheke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und der Abt.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ein einheitliches (elektronisches) Dokumentationsverfahre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ür chargendokumentationspflichtige Arzneimitt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kein Verfahren zur patientenbezogenen Dokumentation d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rzneimitteleinsatzes (DRG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56600" y="86508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ST-Situation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2400480"/>
            <a:ext cx="830592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Kontrolle der Daten und Fehlerbearbeitu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grundsätzlich im SAP R/3 Syste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über eine spezielle Selektionsmask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räsentation des Selektionsergebnis als ALV-Gri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direkte Verknüpfung mit der Maske „Dokumentation Patientenabgabe“ zur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Bearbeitung der fehlerhaften oder unvollständigen Datensätz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verantwortlich: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Apothek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304920"/>
          <a:ext cx="8686800" cy="60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4120" y="2133720"/>
            <a:ext cx="85312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uswertu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AP: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über Selektionsmaske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räsentation des Selektionsergebnis als ALV-Gri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Einrichtung von verschiedenen Anzeigevarianten möglich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Export der Daten möglich z.B.  in Excel, Word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WEB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über Selektionsmasken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Präsentation des Selektionsergebnis als Tabel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elektionsparameter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rzneimittel und Chargennummer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Klinik, Statio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atientennummer, Fallnummer, Name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bgabedatum/Zeit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verordnender Arzt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rfassungsdatum und Erfass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0880" y="23623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59092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23526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283860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451944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983120"/>
            <a:ext cx="914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5235480"/>
            <a:ext cx="1219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5486400"/>
            <a:ext cx="1219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5715000"/>
            <a:ext cx="1219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590920"/>
            <a:ext cx="6858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30798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83212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3543480"/>
            <a:ext cx="6858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81080" y="3795840"/>
            <a:ext cx="6858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403848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81080" y="427824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451944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498312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523548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54864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715000"/>
            <a:ext cx="6858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4038480"/>
            <a:ext cx="914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27824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379584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3079800"/>
            <a:ext cx="838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3543480"/>
            <a:ext cx="838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04920" y="24768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295280" y="1981080"/>
            <a:ext cx="2057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95280" y="2154240"/>
            <a:ext cx="21243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2309760"/>
            <a:ext cx="21243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475000"/>
            <a:ext cx="215928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295280" y="2637000"/>
            <a:ext cx="20574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2787480"/>
            <a:ext cx="20574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2949480"/>
            <a:ext cx="223200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14600" y="609480"/>
            <a:ext cx="435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ST-Situation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estell-Vorga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362320"/>
            <a:ext cx="457200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Probleme auf Statio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parenz und Aktualität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mangelnde Transparenz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ehlende Bestellhistori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Status der Bestellung/Lief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ehlen einer stationsbezogenen Hit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rzneimittel-Haus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Handschriftliche Bestellung =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Quelle von Bestellfehler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hoher Zeitbedarf für 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Bestellvorga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2344680"/>
            <a:ext cx="4267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obleme in der Apothek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ndschriftliche Bestell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„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ntcodierung“ der Bestellung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gelhafte formale Qualitä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gelnde Transparenz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zeitraubende und kosten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rächtige Transportvorgäng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terschriftsberechtig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0160" y="94464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jwebPatientenabgab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895120" y="91440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Zusammenfassu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234648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Apotheke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SAP R/3 integriertes Modul zur Sichtung von Online-Bestellungen und Abgabe von Arzneimittel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Stationsanbindung: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web-basiertes SAP R/3 integriert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elektronischen Bestellsystem für die Bestellung vo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uf S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Patientenabgab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dd-on zur Durchführung einer web-basierten, SAP R/3 integrierte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tientenbezogene Dokumentation von frei definierbare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013120" cy="4171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58320" y="911160"/>
            <a:ext cx="25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jektte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0320" y="2004840"/>
            <a:ext cx="51199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potheke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Dr. Dörj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Dr. Kreb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MIK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Dr. Wentz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Hoc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Löh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Rabenstei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ezernat M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Emmer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Groneman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flege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Fix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Gae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rau Kram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Schrüf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ransfusionsmedizin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PD Dr. Zimmerma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Chirurgie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PD Dr. Hau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jwConsulting: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Baier (SAP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Ficzel (SAP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Herr Dr. Späth (Web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52480" y="609480"/>
            <a:ext cx="603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ST-Situation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argen-Dokum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2133720"/>
            <a:ext cx="87631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usgabe von chargendokumentationspflichtigen AM durch di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Apotheke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Transfusionsmediz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tationsbezogene Ausgab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nur patientenbezogene Ausgab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keine patientenbezogene Dokumentation)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Bestellung vorab oder bei Bedarf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Bestellung nur bei Bedar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Dokumentation in der Krankenakte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un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er „Blutbuch“ auf Station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in der Transfusionsmediz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(handschriftlich)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    (handschriftlich + elektronische Tabellen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BER: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Weitergabe von chargendokumentationspflichtigen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rzneimitteln an andere Stationen und Patienten!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Mangelhafte Recherchemöglichkeiten!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2133720"/>
            <a:ext cx="861084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rfüllung der qualitativen Aufgaben der Arzneimittelkommiss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verbesserte Umsetzung der Arzneimittel-Haus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onderbestellungen: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Reduktion der Sonderbestellungen durch aut-idem Substitutio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utomatische Umleitung der Bestellung in ein elektronisches Sonderrezep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patientenbezogene Dokumentation definierter Arzneimitt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rfüllung der gesetzlichen Auflagen des Transfusionsgesetzes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durch Umsetzung  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ines lückenlosen patientenbezogenen (Bestell- und) Dokumentationsverfahren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rleichterte Abrechnung von Sonderentgel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neue und verbesserte Analyse- und Rechercheverfahr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RG-relevante Kostenträgerrechnung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für ausgewählte z.B. hochpreisige AM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rweiterungsmöglichkeite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Verbesserte Insourcing-Potentiale durch Verwendung der Webtechnologi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nbindung an eine (halb-)automatische Kommissioni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88560" y="86508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Ziele für das Klinik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311560"/>
            <a:ext cx="853452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qualitative Verbesserung des Bestellprozesses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und erhöhte Transparen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Bestellung aus der elektronischen Arzneimittel-Hauslis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Verfügbarkeit von Bestellhistorie, Stations-Hitlisten und Bestellstatu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rhöhte Flexibilität beim Bestellvorga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Fehlerreduktion bei Bestellung und Kommissionieru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Lageroptimierung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Warenwirtschaftliche Analysemöglichkeiten für die Stationsapotheke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Reduktion der Stations-Lagervorräte und der Anzahl verfallener Arzneimitt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Wirtschaftlichkeit </a:t>
            </a:r>
            <a:r>
              <a:rPr b="1" lang="de-DE" sz="2000" spc="-1" strike="noStrike">
                <a:solidFill>
                  <a:srgbClr val="003366"/>
                </a:solidFill>
                <a:latin typeface="Symbol"/>
                <a:ea typeface="Symbol"/>
              </a:rPr>
              <a:t>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durch Wegfall zeitraubender Transpor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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Entlastung des Personals bei Bestellung und Dokumen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2720" y="685800"/>
            <a:ext cx="556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Ziele für di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onen und die Apothek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76360" y="8888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odule des Program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346480"/>
            <a:ext cx="815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Apotheke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SAP R/3 integriertes Modul zur Sichtung vo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Online-Bestellungen und Abgabe von Arzneimittel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Stationsanbindung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web-basiertes SAP R/3 integriert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elektronischen Bestellsystem für die Bestellung von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rzneimitteln auf St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jwebPatientenabgabe: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web-basierte, SAP R/3 integrierte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patientenbezogene Dokumentation des Arzneimitteleinsatzes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(„frei definierbare Arzneimittel“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de-DE" sz="2000" spc="-1" strike="noStrike">
                <a:solidFill>
                  <a:srgbClr val="003366"/>
                </a:solidFill>
                <a:latin typeface="Arial"/>
              </a:rPr>
              <a:t>PLC-Anbindung:</a:t>
            </a: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 elektronische Bestellübermittlung zu den </a:t>
            </a: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de-DE" sz="2000" spc="-1" strike="noStrike">
                <a:solidFill>
                  <a:srgbClr val="003366"/>
                </a:solidFill>
                <a:latin typeface="Arial"/>
              </a:rPr>
              <a:t>Lieferanten aus SAP R/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36840" y="3317760"/>
            <a:ext cx="1203120" cy="3240"/>
          </a:xfrm>
          <a:custGeom>
            <a:avLst/>
            <a:gdLst/>
            <a:ahLst/>
            <a:rect l="l" t="t" r="r" b="b"/>
            <a:pathLst>
              <a:path w="758" h="2">
                <a:moveTo>
                  <a:pt x="0" y="2"/>
                </a:moveTo>
                <a:lnTo>
                  <a:pt x="758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5468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ransport der Apothekengüter in Mehrwegkiste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3240" y="249876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V-ONLINE-Bestellu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9520" y="3032280"/>
            <a:ext cx="1247760" cy="54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P-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3321000"/>
            <a:ext cx="1219320" cy="1800"/>
          </a:xfrm>
          <a:custGeom>
            <a:avLst/>
            <a:gdLst/>
            <a:ahLst/>
            <a:rect l="l" t="t" r="r" b="b"/>
            <a:pathLst>
              <a:path w="768" h="1">
                <a:moveTo>
                  <a:pt x="0" y="0"/>
                </a:moveTo>
                <a:lnTo>
                  <a:pt x="768" y="1"/>
                </a:lnTo>
              </a:path>
            </a:pathLst>
          </a:custGeom>
          <a:noFill/>
          <a:ln w="381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5400" y="3317760"/>
            <a:ext cx="654120" cy="1800"/>
          </a:xfrm>
          <a:custGeom>
            <a:avLst/>
            <a:gdLst/>
            <a:ahLst/>
            <a:rect l="l" t="t" r="r" b="b"/>
            <a:pathLst>
              <a:path w="412" h="1">
                <a:moveTo>
                  <a:pt x="0" y="0"/>
                </a:moveTo>
                <a:lnTo>
                  <a:pt x="412" y="0"/>
                </a:lnTo>
              </a:path>
            </a:pathLst>
          </a:custGeom>
          <a:noFill/>
          <a:ln w="381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11560" y="5546880"/>
            <a:ext cx="3984480" cy="1440"/>
          </a:xfrm>
          <a:custGeom>
            <a:avLst/>
            <a:gdLst/>
            <a:ahLst/>
            <a:rect l="l" t="t" r="r" b="b"/>
            <a:pathLst>
              <a:path w="2510" h="1">
                <a:moveTo>
                  <a:pt x="0" y="0"/>
                </a:moveTo>
                <a:lnTo>
                  <a:pt x="2510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241960"/>
            <a:ext cx="154764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96960" y="868320"/>
            <a:ext cx="58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Datenfluss bei der Bestellu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3625920"/>
            <a:ext cx="10666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153280" y="3616200"/>
            <a:ext cx="3240" cy="1619280"/>
          </a:xfrm>
          <a:custGeom>
            <a:avLst/>
            <a:gdLst/>
            <a:ahLst/>
            <a:rect l="l" t="t" r="r" b="b"/>
            <a:pathLst>
              <a:path w="2" h="1020">
                <a:moveTo>
                  <a:pt x="0" y="1020"/>
                </a:moveTo>
                <a:lnTo>
                  <a:pt x="2" y="0"/>
                </a:lnTo>
              </a:path>
            </a:pathLst>
          </a:custGeom>
          <a:noFill/>
          <a:ln w="19080">
            <a:solidFill>
              <a:srgbClr val="0033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5241960"/>
            <a:ext cx="60948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3360" y="3301920"/>
            <a:ext cx="3240" cy="1936800"/>
          </a:xfrm>
          <a:custGeom>
            <a:avLst/>
            <a:gdLst/>
            <a:ahLst/>
            <a:rect l="l" t="t" r="r" b="b"/>
            <a:pathLst>
              <a:path w="2" h="1220">
                <a:moveTo>
                  <a:pt x="2" y="0"/>
                </a:moveTo>
                <a:lnTo>
                  <a:pt x="0" y="122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1000" y="3301920"/>
            <a:ext cx="1440" cy="1936800"/>
          </a:xfrm>
          <a:custGeom>
            <a:avLst/>
            <a:gdLst/>
            <a:ahLst/>
            <a:rect l="l" t="t" r="r" b="b"/>
            <a:pathLst>
              <a:path w="1" h="1220">
                <a:moveTo>
                  <a:pt x="0" y="0"/>
                </a:moveTo>
                <a:lnTo>
                  <a:pt x="0" y="1220"/>
                </a:lnTo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1640" y="4175280"/>
            <a:ext cx="321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Buchung un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00"/>
                </a:solidFill>
                <a:latin typeface="Arial"/>
              </a:rPr>
              <a:t>Aufbau eines Chargenpool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91200" y="3578400"/>
            <a:ext cx="1670040" cy="1666800"/>
          </a:xfrm>
          <a:custGeom>
            <a:avLst/>
            <a:gdLst/>
            <a:ahLst/>
            <a:rect l="l" t="t" r="r" b="b"/>
            <a:pathLst>
              <a:path w="1052" h="1050">
                <a:moveTo>
                  <a:pt x="1052" y="105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3565440"/>
            <a:ext cx="167616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1056" y="0"/>
                </a:moveTo>
                <a:lnTo>
                  <a:pt x="0" y="1056"/>
                </a:lnTo>
              </a:path>
            </a:pathLst>
          </a:custGeom>
          <a:noFill/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76800" y="3575160"/>
            <a:ext cx="349200" cy="349200"/>
          </a:xfrm>
          <a:custGeom>
            <a:avLst/>
            <a:gdLst/>
            <a:ahLst/>
            <a:rect l="l" t="t" r="r" b="b"/>
            <a:pathLst>
              <a:path w="220" h="220">
                <a:moveTo>
                  <a:pt x="220" y="0"/>
                </a:moveTo>
                <a:lnTo>
                  <a:pt x="0" y="220"/>
                </a:ln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581280"/>
            <a:ext cx="330120" cy="333360"/>
          </a:xfrm>
          <a:custGeom>
            <a:avLst/>
            <a:gdLst/>
            <a:ahLst/>
            <a:rect l="l" t="t" r="r" b="b"/>
            <a:pathLst>
              <a:path w="208" h="210">
                <a:moveTo>
                  <a:pt x="208" y="21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02520" y="5241960"/>
            <a:ext cx="154620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othek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3032280"/>
            <a:ext cx="1219320" cy="54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b-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33920" y="4343400"/>
            <a:ext cx="1752480" cy="6858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AP-Serv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5927760"/>
            <a:ext cx="53352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927760"/>
            <a:ext cx="1371600" cy="625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othek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60160" y="8683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66"/>
                </a:solidFill>
                <a:latin typeface="Arial"/>
              </a:rPr>
              <a:t>Datenfluss bei der Dokument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3308400"/>
            <a:ext cx="121896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Web-Serv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5200" y="3308400"/>
            <a:ext cx="137160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Chargenpo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7120" y="2590920"/>
            <a:ext cx="2165400" cy="1440"/>
          </a:xfrm>
          <a:custGeom>
            <a:avLst/>
            <a:gdLst/>
            <a:ahLst/>
            <a:rect l="l" t="t" r="r" b="b"/>
            <a:pathLst>
              <a:path w="1364" h="1">
                <a:moveTo>
                  <a:pt x="0" y="0"/>
                </a:moveTo>
                <a:lnTo>
                  <a:pt x="1364" y="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3460680"/>
            <a:ext cx="2133720" cy="0"/>
          </a:xfrm>
          <a:prstGeom prst="line">
            <a:avLst/>
          </a:prstGeom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4575240"/>
            <a:ext cx="1828800" cy="1440"/>
          </a:xfrm>
          <a:custGeom>
            <a:avLst/>
            <a:gdLst/>
            <a:ahLst/>
            <a:rect l="l" t="t" r="r" b="b"/>
            <a:pathLst>
              <a:path w="1152" h="1">
                <a:moveTo>
                  <a:pt x="0" y="0"/>
                </a:moveTo>
                <a:lnTo>
                  <a:pt x="1152" y="1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89640" y="4805280"/>
            <a:ext cx="1825560" cy="1800"/>
          </a:xfrm>
          <a:custGeom>
            <a:avLst/>
            <a:gdLst/>
            <a:ahLst/>
            <a:rect l="l" t="t" r="r" b="b"/>
            <a:pathLst>
              <a:path w="1150" h="1">
                <a:moveTo>
                  <a:pt x="0" y="1"/>
                </a:moveTo>
                <a:lnTo>
                  <a:pt x="1150" y="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3689280"/>
            <a:ext cx="21337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16480" y="2832120"/>
            <a:ext cx="3240" cy="479520"/>
          </a:xfrm>
          <a:custGeom>
            <a:avLst/>
            <a:gdLst/>
            <a:ahLst/>
            <a:rect l="l" t="t" r="r" b="b"/>
            <a:pathLst>
              <a:path w="2" h="302">
                <a:moveTo>
                  <a:pt x="2" y="0"/>
                </a:moveTo>
                <a:lnTo>
                  <a:pt x="0" y="302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2835360"/>
            <a:ext cx="1800" cy="473040"/>
          </a:xfrm>
          <a:custGeom>
            <a:avLst/>
            <a:gdLst/>
            <a:ahLst/>
            <a:rect l="l" t="t" r="r" b="b"/>
            <a:pathLst>
              <a:path w="1" h="298">
                <a:moveTo>
                  <a:pt x="0" y="0"/>
                </a:moveTo>
                <a:lnTo>
                  <a:pt x="0" y="298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1400" y="5038560"/>
            <a:ext cx="1440" cy="889200"/>
          </a:xfrm>
          <a:custGeom>
            <a:avLst/>
            <a:gdLst/>
            <a:ahLst/>
            <a:rect l="l" t="t" r="r" b="b"/>
            <a:pathLst>
              <a:path w="1" h="560">
                <a:moveTo>
                  <a:pt x="0" y="0"/>
                </a:moveTo>
                <a:lnTo>
                  <a:pt x="0" y="56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4191120"/>
            <a:ext cx="1600200" cy="1218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nalys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Recherch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Sonderentgelt-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abrechn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03400" y="2209680"/>
            <a:ext cx="180684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anner- od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uelle Eingab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080" y="312408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Plausibilitätsprüf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419720"/>
            <a:ext cx="1371600" cy="549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chivierun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797360"/>
            <a:ext cx="1825560" cy="3240"/>
          </a:xfrm>
          <a:custGeom>
            <a:avLst/>
            <a:gdLst/>
            <a:ahLst/>
            <a:rect l="l" t="t" r="r" b="b"/>
            <a:pathLst>
              <a:path w="1150" h="2">
                <a:moveTo>
                  <a:pt x="0" y="2"/>
                </a:moveTo>
                <a:lnTo>
                  <a:pt x="1150" y="0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4568760"/>
            <a:ext cx="1825560" cy="3240"/>
          </a:xfrm>
          <a:custGeom>
            <a:avLst/>
            <a:gdLst/>
            <a:ahLst/>
            <a:rect l="l" t="t" r="r" b="b"/>
            <a:pathLst>
              <a:path w="1150" h="2">
                <a:moveTo>
                  <a:pt x="0" y="0"/>
                </a:moveTo>
                <a:lnTo>
                  <a:pt x="1150" y="2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6760" y="525780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Kontrolle der Dat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7880" y="525780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ehlerkorrekt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5410080"/>
            <a:ext cx="1440" cy="362160"/>
          </a:xfrm>
          <a:custGeom>
            <a:avLst/>
            <a:gdLst/>
            <a:ahLst/>
            <a:rect l="l" t="t" r="r" b="b"/>
            <a:pathLst>
              <a:path w="1" h="228">
                <a:moveTo>
                  <a:pt x="0" y="0"/>
                </a:moveTo>
                <a:lnTo>
                  <a:pt x="0" y="228"/>
                </a:lnTo>
              </a:path>
            </a:pathLst>
          </a:custGeom>
          <a:noFill/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9400" y="5775480"/>
            <a:ext cx="1713960" cy="337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enweitergab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5029200"/>
            <a:ext cx="1440" cy="895320"/>
          </a:xfrm>
          <a:custGeom>
            <a:avLst/>
            <a:gdLst/>
            <a:ahLst/>
            <a:rect l="l" t="t" r="r" b="b"/>
            <a:pathLst>
              <a:path w="1" h="564">
                <a:moveTo>
                  <a:pt x="0" y="0"/>
                </a:moveTo>
                <a:lnTo>
                  <a:pt x="0" y="564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286000"/>
            <a:ext cx="121896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2286000"/>
            <a:ext cx="1219320" cy="549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tie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3240" y="3857760"/>
            <a:ext cx="3240" cy="482400"/>
          </a:xfrm>
          <a:custGeom>
            <a:avLst/>
            <a:gdLst/>
            <a:ahLst/>
            <a:rect l="l" t="t" r="r" b="b"/>
            <a:pathLst>
              <a:path w="2" h="304">
                <a:moveTo>
                  <a:pt x="0" y="0"/>
                </a:moveTo>
                <a:lnTo>
                  <a:pt x="2" y="304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27520" y="3857760"/>
            <a:ext cx="3240" cy="485640"/>
          </a:xfrm>
          <a:custGeom>
            <a:avLst/>
            <a:gdLst/>
            <a:ahLst/>
            <a:rect l="l" t="t" r="r" b="b"/>
            <a:pathLst>
              <a:path w="2" h="306">
                <a:moveTo>
                  <a:pt x="0" y="0"/>
                </a:moveTo>
                <a:lnTo>
                  <a:pt x="2" y="306"/>
                </a:lnTo>
              </a:path>
            </a:pathLst>
          </a:custGeom>
          <a:noFill/>
          <a:ln w="3816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07:13:25Z</dcterms:created>
  <dc:creator>KREBSSE</dc:creator>
  <dc:description/>
  <dc:language>en-US</dc:language>
  <cp:lastModifiedBy>uta roghmanns</cp:lastModifiedBy>
  <cp:lastPrinted>2003-06-07T13:32:45Z</cp:lastPrinted>
  <dcterms:modified xsi:type="dcterms:W3CDTF">2003-06-14T10:32:56Z</dcterms:modified>
  <cp:revision>49</cp:revision>
  <dc:subject/>
  <dc:title>PowerPoint-Präsentation</dc:title>
</cp:coreProperties>
</file>