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wmf" ContentType="image/x-wmf"/>
  <Override PartName="/ppt/media/image24.wmf" ContentType="image/x-wmf"/>
  <Override PartName="/ppt/media/image27.png" ContentType="image/png"/>
  <Override PartName="/ppt/media/image4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31.png" ContentType="image/png"/>
  <Override PartName="/ppt/media/image29.wmf" ContentType="image/x-wmf"/>
  <Override PartName="/ppt/media/image1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media/image2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907588" cy="7621588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15800" y="143352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15800" y="420552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5800" y="143352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01560" y="143352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15800" y="420552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01560" y="420552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15800" y="143352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07480" y="143352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99160" y="143352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15800" y="420552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07480" y="420552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99160" y="4205520"/>
            <a:ext cx="294408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15800" y="1433520"/>
            <a:ext cx="9144000" cy="53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15800" y="1433520"/>
            <a:ext cx="9144000" cy="53071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5800" y="1433520"/>
            <a:ext cx="4462200" cy="53071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1560" y="1433520"/>
            <a:ext cx="4462200" cy="53071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80880" y="423360"/>
            <a:ext cx="914400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15800" y="143352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01560" y="1433520"/>
            <a:ext cx="4462200" cy="53071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15800" y="420552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15800" y="1433520"/>
            <a:ext cx="4462200" cy="53071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01560" y="143352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01560" y="420552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15800" y="143352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01560" y="1433520"/>
            <a:ext cx="44622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15800" y="4205520"/>
            <a:ext cx="9144000" cy="25311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15800" y="1433520"/>
            <a:ext cx="9144000" cy="53071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07720">
              <a:spcBef>
                <a:spcPts val="550"/>
              </a:spcBef>
              <a:buClr>
                <a:srgbClr val="ff0000"/>
              </a:buClr>
              <a:buFont typeface="Wingdings" charset="2"/>
              <a:buChar char="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55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60520" indent="-208080">
              <a:spcBef>
                <a:spcPts val="55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4840" indent="-25092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9640" y="1015920"/>
            <a:ext cx="8017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00280" y="10159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01760" y="1100160"/>
            <a:ext cx="909144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633880" y="7086600"/>
            <a:ext cx="90612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958C46D5-F8A7-4E6F-965D-76E1E21DAC9E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781680" y="7086600"/>
            <a:ext cx="184320" cy="21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523880" y="7078680"/>
            <a:ext cx="436572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r. J. Winkler          http://www.jwconsulting.de/workshop/2003/030614jw.ppt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5181480" y="7086600"/>
            <a:ext cx="184320" cy="21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380880" y="6934320"/>
            <a:ext cx="8384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Braggadocio"/>
              </a:rPr>
              <a:t>j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twicklungen der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ulting Gmb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15800" y="1433520"/>
            <a:ext cx="9144000" cy="53071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r. Jochen Winkler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nheim, den 14.06.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dd-ons für Klinik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15800" y="1433160"/>
            <a:ext cx="9144000" cy="55450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8000"/>
          </a:bodyPr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7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de-DE" sz="17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Apothekenmanag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6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StationsanforderungArzneimitt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Patientenabgab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ABDA_Datenbankinteg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Substitu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Lieferapothek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Roboteranbind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BestellungArzneimitt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Eigenherstell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Chemotherapi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Personalverkau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AmbulantePatientenAbrechn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Wirtschaftsabteil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tationsanforderungWirtschaftsgü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Modulsyst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ff3535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Störungsmeldung (Instandhaltung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0376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300" spc="-1" strike="noStrike">
                <a:solidFill>
                  <a:srgbClr val="ff3300"/>
                </a:solidFill>
                <a:latin typeface="Braggadocio"/>
              </a:rPr>
              <a:t>	</a:t>
            </a:r>
            <a:endParaRPr b="1" lang="en-US" sz="300" spc="-1" strike="noStrike">
              <a:solidFill>
                <a:srgbClr val="000000"/>
              </a:solidFill>
              <a:latin typeface="Arial"/>
            </a:endParaRPr>
          </a:p>
          <a:p>
            <a:pPr marL="20376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300" spc="-1" strike="noStrike">
              <a:solidFill>
                <a:srgbClr val="000000"/>
              </a:solidFill>
              <a:latin typeface="Arial"/>
            </a:endParaRPr>
          </a:p>
          <a:p>
            <a:pPr marL="20376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300" spc="-1" strike="noStrike">
                <a:solidFill>
                  <a:srgbClr val="ff3300"/>
                </a:solidFill>
                <a:latin typeface="Braggadocio"/>
              </a:rPr>
              <a:t>	</a:t>
            </a:r>
            <a:endParaRPr b="1" lang="en-US" sz="300" spc="-1" strike="noStrike">
              <a:solidFill>
                <a:srgbClr val="000000"/>
              </a:solidFill>
              <a:latin typeface="Arial"/>
            </a:endParaRPr>
          </a:p>
          <a:p>
            <a:pPr marL="20376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300" spc="-1" strike="noStrike">
              <a:solidFill>
                <a:srgbClr val="000000"/>
              </a:solidFill>
              <a:latin typeface="Arial"/>
            </a:endParaRPr>
          </a:p>
          <a:p>
            <a:pPr marL="20376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reich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15800" y="1433520"/>
            <a:ext cx="9144000" cy="53071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zinischer Sachbedar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ürobedar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rtschaftsbedar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borbedar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ustechn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ul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terialanforderungen (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4520" y="1288800"/>
            <a:ext cx="8964720" cy="51022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arcodeleser (Stati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Unterstützt durch Hitlis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tationskatalog (Hauskatalog und stationsspezifischer Katalog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extanforder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0">
              <a:spcBef>
                <a:spcPts val="499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aterialanforderung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ür Artikel mit R/3 Materialstämm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ür teure oder patientenindividuelle Artikel bzw. ohne R/3 Matstam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0">
              <a:spcBef>
                <a:spcPts val="499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ichtung (Apotheke / Wirtschaftsabteilung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mmissionierung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lief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0">
              <a:spcBef>
                <a:spcPts val="499"/>
              </a:spcBef>
              <a:buNone/>
              <a:tabLst>
                <a:tab algn="l" pos="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terialanforderungen (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15800" y="1433520"/>
            <a:ext cx="9144000" cy="53071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rektartik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ückstandsbearbeit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agerartik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urchläuf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tellanforder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fassung der Materialanforderungen auf Station (Web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15800" y="1433520"/>
            <a:ext cx="9144000" cy="53071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fassung mittels Scann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arbeitung über Webbrow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che in Katalogen und Kliniklis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066680" y="175248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15800" y="1433520"/>
            <a:ext cx="9144000" cy="53071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15800" y="1433520"/>
            <a:ext cx="9144000" cy="53071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15800" y="1433520"/>
            <a:ext cx="9144000" cy="53071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68580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15800" y="1433520"/>
            <a:ext cx="9144000" cy="53071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6320" y="15228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15800" y="1433520"/>
            <a:ext cx="9144000" cy="53071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6320" y="15228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15800" y="1433520"/>
            <a:ext cx="9144000" cy="53071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gänzungs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ktmanag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15800" y="1433520"/>
            <a:ext cx="9144000" cy="53071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6320" y="15228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15800" y="1433520"/>
            <a:ext cx="9144000" cy="53071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6320" y="15228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15800" y="1433520"/>
            <a:ext cx="9144000" cy="53071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6320" y="15228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15800" y="1433520"/>
            <a:ext cx="9144000" cy="53071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6320" y="15228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15800" y="1433520"/>
            <a:ext cx="9144000" cy="53071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76320" y="15228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15800" y="1433520"/>
            <a:ext cx="9144000" cy="53071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6320" y="15228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5800" y="1433520"/>
            <a:ext cx="9144000" cy="53071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6320" y="15228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forderungsbearbeitung in der Wirtschaftsabteilung (R/3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15800" y="1433520"/>
            <a:ext cx="9144000" cy="53071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chtung der Stationsanforderu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inkau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mmissioni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slieferu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15800" y="1433520"/>
            <a:ext cx="9144000" cy="53071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82980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15800" y="1433520"/>
            <a:ext cx="9144000" cy="53071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15800" y="1433520"/>
            <a:ext cx="9144000" cy="53071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gänzungs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Projektmanag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15800" y="1433520"/>
            <a:ext cx="9144000" cy="53071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15800" y="1433520"/>
            <a:ext cx="9144000" cy="53071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dd-ons für Klinik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15800" y="1433160"/>
            <a:ext cx="9144000" cy="55450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8000"/>
          </a:bodyPr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7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de-DE" sz="17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Apothekenmanag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6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StationsanforderungArzneimitt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Patientenabgab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ABDA_Datenbankinteg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Substitu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Lieferapothek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Roboteranbind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BestellungArzneimitt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Eigenherstell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Chemotherapi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Personalverkau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AmbulantePatientenAbrechnung (in Planung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Wirtschaftsabteil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StationsanforderungWirtschaftsgü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dddddd"/>
                </a:solidFill>
                <a:latin typeface="Arial"/>
              </a:rPr>
              <a:t>Modulsyst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1800" spc="-1" strike="noStrike">
                <a:solidFill>
                  <a:srgbClr val="ff3535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törungsmeldung (Instandhaltung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0376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300" spc="-1" strike="noStrike">
                <a:solidFill>
                  <a:srgbClr val="ff3300"/>
                </a:solidFill>
                <a:latin typeface="Braggadocio"/>
              </a:rPr>
              <a:t>	</a:t>
            </a:r>
            <a:endParaRPr b="1" lang="en-US" sz="300" spc="-1" strike="noStrike">
              <a:solidFill>
                <a:srgbClr val="000000"/>
              </a:solidFill>
              <a:latin typeface="Arial"/>
            </a:endParaRPr>
          </a:p>
          <a:p>
            <a:pPr marL="20376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300" spc="-1" strike="noStrike">
              <a:solidFill>
                <a:srgbClr val="000000"/>
              </a:solidFill>
              <a:latin typeface="Arial"/>
            </a:endParaRPr>
          </a:p>
          <a:p>
            <a:pPr marL="20376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300" spc="-1" strike="noStrike">
                <a:solidFill>
                  <a:srgbClr val="ff3300"/>
                </a:solidFill>
                <a:latin typeface="Braggadocio"/>
              </a:rPr>
              <a:t>	</a:t>
            </a:r>
            <a:endParaRPr b="1" lang="en-US" sz="300" spc="-1" strike="noStrike">
              <a:solidFill>
                <a:srgbClr val="000000"/>
              </a:solidFill>
              <a:latin typeface="Arial"/>
            </a:endParaRPr>
          </a:p>
          <a:p>
            <a:pPr marL="20376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300" spc="-1" strike="noStrike">
              <a:solidFill>
                <a:srgbClr val="000000"/>
              </a:solidFill>
              <a:latin typeface="Arial"/>
            </a:endParaRPr>
          </a:p>
          <a:p>
            <a:pPr marL="20376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b-Einstie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15800" y="1217520"/>
            <a:ext cx="9001080" cy="35640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7977240" y="3954600"/>
            <a:ext cx="1379520" cy="206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rmalanforder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31800" y="1146240"/>
            <a:ext cx="8553600" cy="59450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8755200" y="1865160"/>
            <a:ext cx="1150920" cy="11844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8682120" y="3162240"/>
            <a:ext cx="1224000" cy="1308240"/>
          </a:xfrm>
          <a:prstGeom prst="rect">
            <a:avLst/>
          </a:prstGeom>
          <a:ln w="0">
            <a:noFill/>
          </a:ln>
        </p:spPr>
      </p:pic>
      <p:sp>
        <p:nvSpPr>
          <p:cNvPr id="169" name="Litebulb"/>
          <p:cNvSpPr/>
          <p:nvPr/>
        </p:nvSpPr>
        <p:spPr>
          <a:xfrm>
            <a:off x="8840880" y="4530600"/>
            <a:ext cx="1065240" cy="1430640"/>
          </a:xfrm>
          <a:prstGeom prst="pie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eldungsmonitor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906120" cy="57481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104320" y="209520"/>
            <a:ext cx="1801800" cy="29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184880" cy="703584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ldungs-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424160" y="1951200"/>
            <a:ext cx="848196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15800" y="1433520"/>
            <a:ext cx="9144000" cy="53071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Ergänzungs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ktmanag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dd-ons für Klinik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15800" y="1433160"/>
            <a:ext cx="9144000" cy="55450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8000"/>
          </a:bodyPr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othekenmanagement (Sichtung, Kommissionierung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ionsanforderung Arzneimitt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tientenabgab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DA Datenbankinteg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stitu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eferapothek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boteranbind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stellung Arzneimittel beim Lieferant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igenherstell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emotherapi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onalverkau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bulante Patientenabrechn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rtschaftsabteil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ionsanforderung Wirtschaftsgü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ulsyst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örungsmeldung (Instandhaltung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0376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300" spc="-1" strike="noStrike">
                <a:solidFill>
                  <a:srgbClr val="ff3300"/>
                </a:solidFill>
                <a:latin typeface="Braggadocio"/>
              </a:rPr>
              <a:t>	</a:t>
            </a:r>
            <a:endParaRPr b="1" lang="en-US" sz="300" spc="-1" strike="noStrike">
              <a:solidFill>
                <a:srgbClr val="000000"/>
              </a:solidFill>
              <a:latin typeface="Arial"/>
            </a:endParaRPr>
          </a:p>
          <a:p>
            <a:pPr marL="20376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300" spc="-1" strike="noStrike">
              <a:solidFill>
                <a:srgbClr val="000000"/>
              </a:solidFill>
              <a:latin typeface="Arial"/>
            </a:endParaRPr>
          </a:p>
          <a:p>
            <a:pPr marL="20376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300" spc="-1" strike="noStrike">
                <a:solidFill>
                  <a:srgbClr val="ff3300"/>
                </a:solidFill>
                <a:latin typeface="Braggadocio"/>
              </a:rPr>
              <a:t>	</a:t>
            </a:r>
            <a:endParaRPr b="1" lang="en-US" sz="300" spc="-1" strike="noStrike">
              <a:solidFill>
                <a:srgbClr val="000000"/>
              </a:solidFill>
              <a:latin typeface="Arial"/>
            </a:endParaRPr>
          </a:p>
          <a:p>
            <a:pPr marL="20376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300" spc="-1" strike="noStrike">
              <a:solidFill>
                <a:srgbClr val="000000"/>
              </a:solidFill>
              <a:latin typeface="Arial"/>
            </a:endParaRPr>
          </a:p>
          <a:p>
            <a:pPr marL="20376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ktmanagement (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15800" y="1433520"/>
            <a:ext cx="9144000" cy="53071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litä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nktionalitä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busthe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rweiterbarke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ku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rmi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ob- und Feinkonzep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toty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ktivstar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treuu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ktmanagement (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15800" y="1433520"/>
            <a:ext cx="9144000" cy="53071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-20808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sten !!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207720">
              <a:spcBef>
                <a:spcPts val="4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enges Kostencontrol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520" y="423360"/>
            <a:ext cx="952524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um sollten Sie </a:t>
            </a:r>
            <a:r>
              <a:rPr b="0" lang="en-US" sz="20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ulting in Ihre Projekte einbeziehen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15800" y="1433520"/>
            <a:ext cx="9144000" cy="53071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Consulting h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ehn Jahre Erfahrung bei der Einführung von R/3 Projekten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iele zufriedene Kunden (s. Referenzliste unter www.jwconsulting.de)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/3 integrierte Add-ons entwickelt und weltweit eingesetzt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rühzeitig webbasierte, R/3 integrierte Auftrags- und Anforderungssysteme mit modernster Technologie realisier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520" y="423360"/>
            <a:ext cx="952524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s wäre Ihr Vorteil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15800" y="1433520"/>
            <a:ext cx="9144000" cy="53071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74760" indent="0">
              <a:spcBef>
                <a:spcPts val="550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hr Vorteil wäre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fessionelle Beratung und Projektarbeit in der Medizin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b- und/oder R/3 basierte Speziallösungen entsprechend Ihrer Anforderungen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rantierte Termineinhaltung und e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rher vereinbartes Kostenbudge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twicklungen der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ulting Gmb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15800" y="1433520"/>
            <a:ext cx="9144000" cy="53071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275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499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0" algn="ctr">
              <a:spcBef>
                <a:spcPts val="6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r. Jochen Winkler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ttp://www.jwconsulting.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43828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nheim, den 14.06.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dd-ons für Kliniken (Vortrag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15800" y="1433160"/>
            <a:ext cx="9144000" cy="55450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8000"/>
          </a:bodyPr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othekenmanagement (Sichtung, Kommissionierung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ionsanforderung Arzneimitt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tientenabgab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dddddd"/>
                </a:solidFill>
                <a:latin typeface="Arial"/>
              </a:rPr>
              <a:t>ABDA Datenbankinteg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dddddd"/>
                </a:solidFill>
                <a:latin typeface="Arial"/>
              </a:rPr>
              <a:t>Substitu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dddddd"/>
                </a:solidFill>
                <a:latin typeface="Arial"/>
              </a:rPr>
              <a:t>Lieferapothek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dddddd"/>
                </a:solidFill>
                <a:latin typeface="Arial"/>
              </a:rPr>
              <a:t>Roboteranbind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dddddd"/>
                </a:solidFill>
                <a:latin typeface="Arial"/>
              </a:rPr>
              <a:t>Bestellung Arzneimittel beim Lieferant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dddddd"/>
                </a:solidFill>
                <a:latin typeface="Arial"/>
              </a:rPr>
              <a:t>Eigenherstell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dddddd"/>
                </a:solidFill>
                <a:latin typeface="Arial"/>
              </a:rPr>
              <a:t>Chemotherapi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dddddd"/>
                </a:solidFill>
                <a:latin typeface="Arial"/>
              </a:rPr>
              <a:t>Personalverkau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bulante Patientenabrechn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rtschaftsabteil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ionsanforderung Wirtschaftsgü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dddddd"/>
                </a:solidFill>
                <a:latin typeface="Arial"/>
              </a:rPr>
              <a:t>Modulsyst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örungsmeldung (Instandhaltung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0376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300" spc="-1" strike="noStrike">
                <a:solidFill>
                  <a:srgbClr val="ff3300"/>
                </a:solidFill>
                <a:latin typeface="Braggadocio"/>
              </a:rPr>
              <a:t>	</a:t>
            </a:r>
            <a:endParaRPr b="1" lang="en-US" sz="300" spc="-1" strike="noStrike">
              <a:solidFill>
                <a:srgbClr val="000000"/>
              </a:solidFill>
              <a:latin typeface="Arial"/>
            </a:endParaRPr>
          </a:p>
          <a:p>
            <a:pPr marL="20376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300" spc="-1" strike="noStrike">
              <a:solidFill>
                <a:srgbClr val="000000"/>
              </a:solidFill>
              <a:latin typeface="Arial"/>
            </a:endParaRPr>
          </a:p>
          <a:p>
            <a:pPr marL="20376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300" spc="-1" strike="noStrike">
                <a:solidFill>
                  <a:srgbClr val="ff3300"/>
                </a:solidFill>
                <a:latin typeface="Braggadocio"/>
              </a:rPr>
              <a:t>	</a:t>
            </a:r>
            <a:endParaRPr b="1" lang="en-US" sz="300" spc="-1" strike="noStrike">
              <a:solidFill>
                <a:srgbClr val="000000"/>
              </a:solidFill>
              <a:latin typeface="Arial"/>
            </a:endParaRPr>
          </a:p>
          <a:p>
            <a:pPr marL="20376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300" spc="-1" strike="noStrike">
              <a:solidFill>
                <a:srgbClr val="000000"/>
              </a:solidFill>
              <a:latin typeface="Arial"/>
            </a:endParaRPr>
          </a:p>
          <a:p>
            <a:pPr marL="20376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de-DE" sz="2000" spc="-1" strike="noStrike">
                <a:solidFill>
                  <a:srgbClr val="ff3535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dd-ons für Klinik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5800" y="1433160"/>
            <a:ext cx="9144000" cy="55450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8000"/>
          </a:bodyPr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dddddd"/>
                </a:solidFill>
                <a:latin typeface="Arial"/>
              </a:rPr>
              <a:t>Apothekenmanagement (Sichtung, Kommissionierung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6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dddddd"/>
                </a:solidFill>
                <a:latin typeface="Arial"/>
              </a:rPr>
              <a:t>Stationsanforderung Arzneimitt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dddddd"/>
                </a:solidFill>
                <a:latin typeface="Arial"/>
              </a:rPr>
              <a:t>Patientenabgab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dddddd"/>
                </a:solidFill>
                <a:latin typeface="Arial"/>
              </a:rPr>
              <a:t>ABDA Datenbankinteg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dddddd"/>
                </a:solidFill>
                <a:latin typeface="Arial"/>
              </a:rPr>
              <a:t>Substitu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dddddd"/>
                </a:solidFill>
                <a:latin typeface="Arial"/>
              </a:rPr>
              <a:t>Lieferapothek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dddddd"/>
                </a:solidFill>
                <a:latin typeface="Arial"/>
              </a:rPr>
              <a:t>Roboteranbind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dddddd"/>
                </a:solidFill>
                <a:latin typeface="Arial"/>
              </a:rPr>
              <a:t>Bestellung Arzneimittel beim Lieferant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dddddd"/>
                </a:solidFill>
                <a:latin typeface="Arial"/>
              </a:rPr>
              <a:t>Eigenherstell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dddddd"/>
                </a:solidFill>
                <a:latin typeface="Arial"/>
              </a:rPr>
              <a:t>Chemotherapi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dddddd"/>
                </a:solidFill>
                <a:latin typeface="Arial"/>
              </a:rPr>
              <a:t>Personalverkau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bulante Patientenabrechn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dddddd"/>
                </a:solidFill>
                <a:latin typeface="Arial"/>
              </a:rPr>
              <a:t>Wirtschaftsabteilu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dddddd"/>
                </a:solidFill>
                <a:latin typeface="Arial"/>
              </a:rPr>
              <a:t>Stationsanforderung Wirtschaftsgü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18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dddddd"/>
                </a:solidFill>
                <a:latin typeface="Arial"/>
              </a:rPr>
              <a:t>Modulsyst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-2037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dddddd"/>
                </a:solidFill>
                <a:latin typeface="Arial"/>
              </a:rPr>
              <a:t>Störungsmeldung (Instandhaltung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7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0376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300" spc="-1" strike="noStrike">
                <a:solidFill>
                  <a:srgbClr val="ff3300"/>
                </a:solidFill>
                <a:latin typeface="Braggadocio"/>
              </a:rPr>
              <a:t>	</a:t>
            </a:r>
            <a:endParaRPr b="1" lang="en-US" sz="300" spc="-1" strike="noStrike">
              <a:solidFill>
                <a:srgbClr val="000000"/>
              </a:solidFill>
              <a:latin typeface="Arial"/>
            </a:endParaRPr>
          </a:p>
          <a:p>
            <a:pPr marL="20376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300" spc="-1" strike="noStrike">
              <a:solidFill>
                <a:srgbClr val="000000"/>
              </a:solidFill>
              <a:latin typeface="Arial"/>
            </a:endParaRPr>
          </a:p>
          <a:p>
            <a:pPr marL="20376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300" spc="-1" strike="noStrike">
                <a:solidFill>
                  <a:srgbClr val="ff3300"/>
                </a:solidFill>
                <a:latin typeface="Braggadocio"/>
              </a:rPr>
              <a:t>	</a:t>
            </a:r>
            <a:endParaRPr b="1" lang="en-US" sz="300" spc="-1" strike="noStrike">
              <a:solidFill>
                <a:srgbClr val="000000"/>
              </a:solidFill>
              <a:latin typeface="Arial"/>
            </a:endParaRPr>
          </a:p>
          <a:p>
            <a:pPr marL="20376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300" spc="-1" strike="noStrike">
              <a:solidFill>
                <a:srgbClr val="000000"/>
              </a:solidFill>
              <a:latin typeface="Arial"/>
            </a:endParaRPr>
          </a:p>
          <a:p>
            <a:pPr marL="20376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15440" y="1433520"/>
            <a:ext cx="4496040" cy="53071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15440" y="1433520"/>
            <a:ext cx="4496040" cy="53071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423360"/>
            <a:ext cx="9144000" cy="592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halt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15440" y="1433520"/>
            <a:ext cx="4496040" cy="53071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208080" indent="0"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451"/>
              </a:spcBef>
              <a:buNone/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697960" cy="40687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80880" y="1488960"/>
            <a:ext cx="9144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15800" y="3448080"/>
            <a:ext cx="914400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5T12:09:53Z</dcterms:created>
  <dc:creator>Dr.Jochen Winkler</dc:creator>
  <dc:description/>
  <dc:language>en-US</dc:language>
  <cp:lastModifiedBy>Dr. Jochen Winkler</cp:lastModifiedBy>
  <cp:lastPrinted>2000-01-20T10:19:05Z</cp:lastPrinted>
  <dcterms:modified xsi:type="dcterms:W3CDTF">2003-06-12T08:57:48Z</dcterms:modified>
  <cp:revision>467</cp:revision>
  <dc:subject/>
  <dc:title>Kein Folientitel</dc:title>
</cp:coreProperties>
</file>