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5800" y="420552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5800" y="4205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1560" y="4205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7480" y="1433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99160" y="1433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5800" y="4205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7480" y="4205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99160" y="4205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5800" y="4205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1560" y="4205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5800" y="420552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38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9A8FB58-EE16-42FA-8626-3F4BC43482D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78680"/>
            <a:ext cx="43657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   http://www.jwconsulting.de/workshop/2003/030614jw.ppt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14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en der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heim, den 14.06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pothek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tationsanforderung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DA_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estellung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mbulantePatienten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ionsanforderung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ff3535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zinischer Sach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üro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tschafts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us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4520" y="12888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rcodeleser (S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terstützt durch Hitlis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ionskatalog (Hauskatalog und stationsspezifischer Katalo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tanford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99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anforder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Artikel mit R/3 Materialstäm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teure oder patientenindividuelle Artikel bzw. ohne R/3 Matstam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99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tung (Apotheke / Wirtschaftsabtei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missionier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lief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99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rekt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ands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ger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läu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l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assung der Materialanforderungen auf Station (We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ssung mittels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rbeitung über Web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in Katalogen und Klinik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17524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85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änzungs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sbearbeitung in der Wirtschaftsabteilung (R/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htung der Stations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k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mission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lief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98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änzungs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pothek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tationsanforderung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DA_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estellung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mbulantePatientenAbrechnung (in Plan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tationsanforderung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ff3535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Einstie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5800" y="1217520"/>
            <a:ext cx="9001080" cy="3564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977240" y="3954600"/>
            <a:ext cx="13795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anford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1800" y="1146240"/>
            <a:ext cx="8553600" cy="5945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55200" y="1865160"/>
            <a:ext cx="1150920" cy="118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682120" y="3162240"/>
            <a:ext cx="1224000" cy="1308240"/>
          </a:xfrm>
          <a:prstGeom prst="rect">
            <a:avLst/>
          </a:prstGeom>
          <a:ln w="0">
            <a:noFill/>
          </a:ln>
        </p:spPr>
      </p:pic>
      <p:sp>
        <p:nvSpPr>
          <p:cNvPr id="169" name="Litebulb"/>
          <p:cNvSpPr/>
          <p:nvPr/>
        </p:nvSpPr>
        <p:spPr>
          <a:xfrm>
            <a:off x="8840880" y="4530600"/>
            <a:ext cx="1065240" cy="14306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906120" cy="5748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104320" y="209520"/>
            <a:ext cx="18018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84880" cy="7035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24160" y="1951200"/>
            <a:ext cx="8481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rgänzungs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othekenmanagement (Sichtung, Kommissionier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anforderung 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DA 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ellung Arzneimittel beim Liefera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ulante Patienten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anforderung 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management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ktionalitä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usthe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k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b- und Feinkonze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ty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vst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reu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management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!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es Kostencontro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hn Jahre Erfahrung bei der Einführung von R/3 Projekt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le zufriedene Kunden (s. Referenzliste unter www.jwconsulting.d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ntegrierte Add-ons entwickelt und weltweit eingesetzt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ühzeitig webbasierte, R/3 integrierte Auftrags- und Anforderungssysteme mit modernster Technologie realisie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elle Beratung und Projektarbeit in der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en der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heim, den 14.06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 (Vortra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othekenmanagement (Sichtung, Kommissionier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anforderung 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ABDA 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Bestellung Arzneimittel beim Liefera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ulante Patienten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anforderung 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Apothekenmanagement (Sichtung, Kommissionier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tationsanforderung 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ABDA 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Bestellung Arzneimittel beim Liefera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ulante Patienten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tationsanforderung 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1433520"/>
            <a:ext cx="449604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1433520"/>
            <a:ext cx="449604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alt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1433520"/>
            <a:ext cx="449604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97960" cy="406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5800" y="3448080"/>
            <a:ext cx="9144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3-06-12T08:57:48Z</dcterms:modified>
  <cp:revision>467</cp:revision>
  <dc:subject/>
  <dc:title>Kein Folientitel</dc:title>
</cp:coreProperties>
</file>