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23.png" ContentType="image/png"/>
  <Override PartName="/ppt/media/image22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31.wmf" ContentType="image/x-wmf"/>
  <Override PartName="/ppt/media/image11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2ED99E9B-0D1E-4DAF-A0B6-FDB0D86CE72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70600" y="7101000"/>
            <a:ext cx="5770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.03.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1800" y="7101000"/>
            <a:ext cx="2244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bbasiertes Dienstleistungs-Bestell-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basiertes Dienstleistungs-Bestell-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ftragsvergabe im Intranet bzw.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20880" y="114624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ftragsvergabe im Intranet bzw.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961240" y="3881520"/>
          <a:ext cx="304776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1240" y="3881520"/>
                    <a:ext cx="30477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057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Vorstellung des Projektes eLab als ein Beispi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60000"/>
              </a:lnSpc>
              <a:spcBef>
                <a:spcPts val="624"/>
              </a:spcBef>
              <a:spcAft>
                <a:spcPts val="1562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für ein Webbasiertes Bestell-Syste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Integration im SAP / R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basiertes Dienstleistungs-Bestell-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2160" y="114624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rechnung von Kosten und Erlö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20880" y="114624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rechnung von Kosten und Erlö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676520" y="1447920"/>
            <a:ext cx="6400800" cy="5585760"/>
            <a:chOff x="1676520" y="1447920"/>
            <a:chExt cx="6400800" cy="5585760"/>
          </a:xfrm>
        </p:grpSpPr>
        <p:grpSp>
          <p:nvGrpSpPr>
            <p:cNvPr id="148" name=""/>
            <p:cNvGrpSpPr/>
            <p:nvPr/>
          </p:nvGrpSpPr>
          <p:grpSpPr>
            <a:xfrm>
              <a:off x="1676520" y="1447920"/>
              <a:ext cx="2857680" cy="2279160"/>
              <a:chOff x="1676520" y="1447920"/>
              <a:chExt cx="2857680" cy="2279160"/>
            </a:xfrm>
          </p:grpSpPr>
          <p:sp>
            <p:nvSpPr>
              <p:cNvPr id="149" name=""/>
              <p:cNvSpPr/>
              <p:nvPr/>
            </p:nvSpPr>
            <p:spPr>
              <a:xfrm>
                <a:off x="1676520" y="1447920"/>
                <a:ext cx="2857680" cy="2279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476800" y="2017440"/>
                <a:ext cx="114120" cy="1253880"/>
              </a:xfrm>
              <a:custGeom>
                <a:avLst/>
                <a:gdLst>
                  <a:gd name="textAreaLeft" fmla="*/ 0 w 114120"/>
                  <a:gd name="textAreaRight" fmla="*/ 41040 w 114120"/>
                  <a:gd name="textAreaTop" fmla="*/ 32400 h 1253880"/>
                  <a:gd name="textAreaBottom" fmla="*/ 1221480 h 125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1676520" y="1447920"/>
              <a:ext cx="6400800" cy="5585760"/>
              <a:chOff x="1676520" y="1447920"/>
              <a:chExt cx="6400800" cy="5585760"/>
            </a:xfrm>
          </p:grpSpPr>
          <p:sp>
            <p:nvSpPr>
              <p:cNvPr id="152" name=""/>
              <p:cNvSpPr/>
              <p:nvPr/>
            </p:nvSpPr>
            <p:spPr>
              <a:xfrm>
                <a:off x="4991400" y="1447920"/>
                <a:ext cx="2057400" cy="1482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34120" y="1903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77200" y="2246040"/>
                <a:ext cx="2057400" cy="15951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19920" y="2587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91400" y="1447920"/>
                <a:ext cx="2050920" cy="229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34120" y="1903320"/>
                <a:ext cx="2051280" cy="229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77200" y="2246040"/>
                <a:ext cx="2050920" cy="226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19920" y="2587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eistungen :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H-Wertbestimmu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usseh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791000" y="4525560"/>
                <a:ext cx="2905200" cy="1595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48200" y="4981320"/>
                <a:ext cx="2905200" cy="1596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705400" y="5438520"/>
                <a:ext cx="2905200" cy="1595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3047760" y="4070160"/>
                <a:ext cx="297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048120" y="4070160"/>
                <a:ext cx="0" cy="34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34200" y="258732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76520" y="1447920"/>
                <a:ext cx="2857680" cy="2279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Kundenauftrag : 1LW.02..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eistungen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H-Wertbestimm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4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Ausseh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91000" y="4525560"/>
                <a:ext cx="2879640" cy="2664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 Leistung: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H-Wertbes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48200" y="4981320"/>
                <a:ext cx="2879640" cy="2664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1 Leistung: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Ausseh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705400" y="5438520"/>
                <a:ext cx="2879640" cy="15951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 Leistung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Dichtebest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erkmale + Method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emperatur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362320" y="1904760"/>
              <a:ext cx="114480" cy="1333080"/>
            </a:xfrm>
            <a:custGeom>
              <a:avLst/>
              <a:gdLst>
                <a:gd name="textAreaLeft" fmla="*/ 0 w 114480"/>
                <a:gd name="textAreaRight" fmla="*/ 41400 w 114480"/>
                <a:gd name="textAreaTop" fmla="*/ 34560 h 1333080"/>
                <a:gd name="textAreaBottom" fmla="*/ 1298520 h 13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jekt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tragbasierendes LI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der Geschäftsprozesse über das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einfachung und Harmonisierung der Geschäfts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rekte Kopplung von Kunden (SAP und Non-SAP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stärkung der Kundenbind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reichen neuer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rechnung von Kosten und Erlö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Fakturierung kann erfolge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tragsbezo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eriodisch (z.B. monatlich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0">
              <a:spcBef>
                <a:spcPts val="55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Kosten können abgerechnet werden auf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Laborkosten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rechnung von Kosten und Erlö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ktura als Folgebeleg aus CS-Aufträg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ne Verrechnung der PM-Aufträg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chnung geht über EDI, Fax oder Post zum Kund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errechnen auch an andere Objekte möglich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terne Faktur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-Auftrag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ostenstelle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44520" y="1433520"/>
            <a:ext cx="9352080" cy="5342040"/>
            <a:chOff x="344520" y="1433520"/>
            <a:chExt cx="9352080" cy="5342040"/>
          </a:xfrm>
        </p:grpSpPr>
        <p:sp>
          <p:nvSpPr>
            <p:cNvPr id="177" name=""/>
            <p:cNvSpPr/>
            <p:nvPr/>
          </p:nvSpPr>
          <p:spPr>
            <a:xfrm>
              <a:off x="3513240" y="3594240"/>
              <a:ext cx="5713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45240" y="3594240"/>
              <a:ext cx="5713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631800" y="5754600"/>
              <a:ext cx="100800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344520" y="3594240"/>
              <a:ext cx="8478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089240" y="2801880"/>
              <a:ext cx="1503360" cy="24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16160" y="3089160"/>
              <a:ext cx="1143000" cy="2081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32160" y="3738600"/>
              <a:ext cx="57132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32160" y="3665520"/>
              <a:ext cx="1225800" cy="647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kumen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40160" y="3809880"/>
              <a:ext cx="609480" cy="228600"/>
            </a:xfrm>
            <a:prstGeom prst="leftRightArrow">
              <a:avLst>
                <a:gd name="adj1" fmla="val 50000"/>
                <a:gd name="adj2" fmla="val 530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65960" y="222552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1600" y="3089160"/>
              <a:ext cx="1143000" cy="2081160"/>
            </a:xfrm>
            <a:prstGeom prst="rect">
              <a:avLst/>
            </a:prstGeom>
            <a:solidFill>
              <a:srgbClr val="b6fd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37240" y="3736800"/>
              <a:ext cx="720720" cy="4572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73600" y="3809880"/>
              <a:ext cx="609840" cy="228600"/>
            </a:xfrm>
            <a:prstGeom prst="leftRightArrow">
              <a:avLst>
                <a:gd name="adj1" fmla="val 50000"/>
                <a:gd name="adj2" fmla="val 5310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0520" y="237024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8408880" y="1433520"/>
              <a:ext cx="78264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8553600" y="3449520"/>
              <a:ext cx="1079280" cy="10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>
              <a:off x="488880" y="1433520"/>
              <a:ext cx="100800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6"/>
            <a:stretch/>
          </p:blipFill>
          <p:spPr>
            <a:xfrm>
              <a:off x="8337600" y="5897520"/>
              <a:ext cx="7761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166600">
              <a:off x="1568160" y="2585880"/>
              <a:ext cx="609480" cy="144720"/>
            </a:xfrm>
            <a:prstGeom prst="leftRightArrow">
              <a:avLst>
                <a:gd name="adj1" fmla="val 50000"/>
                <a:gd name="adj2" fmla="val 838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52520" y="3881520"/>
              <a:ext cx="609480" cy="144360"/>
            </a:xfrm>
            <a:prstGeom prst="leftRightArrow">
              <a:avLst>
                <a:gd name="adj1" fmla="val 50000"/>
                <a:gd name="adj2" fmla="val 840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8842400">
              <a:off x="1624680" y="5481720"/>
              <a:ext cx="609480" cy="144720"/>
            </a:xfrm>
            <a:prstGeom prst="leftRightArrow">
              <a:avLst>
                <a:gd name="adj1" fmla="val 50000"/>
                <a:gd name="adj2" fmla="val 838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211400">
              <a:off x="7689960" y="2441160"/>
              <a:ext cx="609480" cy="144360"/>
            </a:xfrm>
            <a:prstGeom prst="leftRightArrow">
              <a:avLst>
                <a:gd name="adj1" fmla="val 50000"/>
                <a:gd name="adj2" fmla="val 840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331600">
              <a:off x="7616520" y="5538960"/>
              <a:ext cx="609480" cy="144360"/>
            </a:xfrm>
            <a:prstGeom prst="leftRightArrow">
              <a:avLst>
                <a:gd name="adj1" fmla="val 50000"/>
                <a:gd name="adj2" fmla="val 840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61240" y="4025880"/>
              <a:ext cx="609480" cy="144360"/>
            </a:xfrm>
            <a:prstGeom prst="leftRightArrow">
              <a:avLst>
                <a:gd name="adj1" fmla="val 50000"/>
                <a:gd name="adj2" fmla="val 840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4520" y="453060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1800" y="654696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53600" y="438624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93240" y="654696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84520" y="6618240"/>
            <a:ext cx="671184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0160" y="641520"/>
            <a:ext cx="950580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16160" y="281160"/>
          <a:ext cx="4719600" cy="71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6160" y="281160"/>
                    <a:ext cx="4719600" cy="7111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5360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 können Objekten  zugeordnet werde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tragskop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mmdaten (Dienstleistungen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lle Arten von Dokumenten sind verwendba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Browser lesbare Formate empfohl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08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ilder (jpg, gif, bm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08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crobat (pd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08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rd (do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08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cel (xl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0808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s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jekt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47800" y="1506600"/>
            <a:ext cx="8569080" cy="4174920"/>
            <a:chOff x="847800" y="1506600"/>
            <a:chExt cx="8569080" cy="4174920"/>
          </a:xfrm>
        </p:grpSpPr>
        <p:sp>
          <p:nvSpPr>
            <p:cNvPr id="58" name=""/>
            <p:cNvSpPr/>
            <p:nvPr/>
          </p:nvSpPr>
          <p:spPr>
            <a:xfrm>
              <a:off x="847800" y="2225520"/>
              <a:ext cx="5184720" cy="3456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36520" y="2873520"/>
              <a:ext cx="2664000" cy="2160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8121600" y="2370240"/>
              <a:ext cx="78264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8048520" y="4457880"/>
              <a:ext cx="1079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448160" y="2873520"/>
              <a:ext cx="1224000" cy="2160360"/>
            </a:xfrm>
            <a:prstGeom prst="rect">
              <a:avLst/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Web-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48520" y="1506600"/>
              <a:ext cx="1297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und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0520" y="3881520"/>
              <a:ext cx="647640" cy="144360"/>
            </a:xfrm>
            <a:prstGeom prst="leftRightArrow">
              <a:avLst>
                <a:gd name="adj1" fmla="val 50000"/>
                <a:gd name="adj2" fmla="val 8931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745240" y="2801520"/>
              <a:ext cx="230328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16520" y="4314960"/>
              <a:ext cx="2089080" cy="7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96880" y="4097160"/>
              <a:ext cx="2057400" cy="360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1f1f"/>
                  </a:solidFill>
                  <a:latin typeface="Braggadocio"/>
                </a:rPr>
                <a:t>jw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M-System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08880" y="3449520"/>
              <a:ext cx="100800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2C oder B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49600" y="1506600"/>
              <a:ext cx="1297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3809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383400" indent="-3834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Zugriff vom SAP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059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send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059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reibe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3400" indent="-3834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Zugriff vom Webserver über Browser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059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se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059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reibe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3400" indent="-3834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Zugriffe werden über Berechtigungen gesteuer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3809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nheitliches und übergreifendes Syste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olle Integration im SAP R/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utzung aller Vorteile eines integrierten System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ichte Bedienbarkeit durch auf den Prozess und User abgestimmte Screens und Abläuf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ffizientere Auftragsabwicklu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ößere Transparenz in den Prozess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lexibel anpassbar und erweiterba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8880" y="1289160"/>
            <a:ext cx="8991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88520" y="2730240"/>
            <a:ext cx="8991720" cy="384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Consulting hat Erfahrung im Umgang mit neuesten Web und SAP-Technologien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Nutzung von praxiserprobten Lösung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Umfangreiches Branchen-Know-How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Professionelle Beratung und Projektdurchführu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Hohe Kundenzufriedenhe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0520" y="1362240"/>
            <a:ext cx="770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nsulting in Ihre Projekte einbezie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basiertes Dienstleistungs-Bestell-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undenanbindung B2B und B2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B2C – Business to Custome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unde kommuniziert manuell über Browser  mit dem Webser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B2B – Business to Busines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undensystem übergibt automatisch 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undensystem übernimmt automatisch 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55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ojekt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371600" y="1295280"/>
            <a:ext cx="6172200" cy="5715000"/>
            <a:chOff x="1371600" y="1295280"/>
            <a:chExt cx="6172200" cy="5715000"/>
          </a:xfrm>
        </p:grpSpPr>
        <p:sp>
          <p:nvSpPr>
            <p:cNvPr id="74" name=""/>
            <p:cNvSpPr/>
            <p:nvPr/>
          </p:nvSpPr>
          <p:spPr>
            <a:xfrm>
              <a:off x="1371600" y="1981080"/>
              <a:ext cx="184320" cy="214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33720" y="5410080"/>
              <a:ext cx="5143320" cy="1600200"/>
            </a:xfrm>
            <a:prstGeom prst="rect">
              <a:avLst/>
            </a:prstGeom>
            <a:solidFill>
              <a:srgbClr val="a7b5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1828800"/>
              <a:ext cx="1828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08520" y="3738600"/>
              <a:ext cx="868320" cy="687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d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3768840"/>
              <a:ext cx="901800" cy="687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d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7600" y="5610240"/>
              <a:ext cx="2057400" cy="360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1f1f"/>
                  </a:solidFill>
                  <a:latin typeface="Braggadocio"/>
                </a:rPr>
                <a:t>jw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M-System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84520" y="6473880"/>
              <a:ext cx="17146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/ R3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52880" y="5033880"/>
              <a:ext cx="2971800" cy="34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6200" y="2168640"/>
              <a:ext cx="1600200" cy="342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29480" y="2168640"/>
              <a:ext cx="1600200" cy="342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628720" y="2282400"/>
              <a:ext cx="1028520" cy="8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57680" y="2282760"/>
              <a:ext cx="952200" cy="76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48320" y="2590920"/>
              <a:ext cx="0" cy="5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724280" y="25905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486400" y="2590920"/>
              <a:ext cx="91440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715000" y="2590560"/>
              <a:ext cx="9525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6252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07664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1964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3412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5788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080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3352680"/>
              <a:ext cx="114480" cy="1143000"/>
            </a:xfrm>
            <a:custGeom>
              <a:avLst/>
              <a:gdLst>
                <a:gd name="textAreaLeft" fmla="*/ 0 w 114480"/>
                <a:gd name="textAreaRight" fmla="*/ 41400 w 1144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72200" y="3581280"/>
              <a:ext cx="137160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chtung von  Auftrag und Prüfergebniss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19440" y="3425760"/>
              <a:ext cx="2057400" cy="343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72080" y="1825560"/>
              <a:ext cx="1828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15000" y="1825560"/>
              <a:ext cx="1828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n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im SAP / R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Entwicklung mit der SAP-Workbench in ABAP 4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Volle Integration in den SAP-Standar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Interaktion mit anderen Modulen wie z.B.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QM, MM, SD, FI, CO, CS, …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Einheitliches und übergreifendes System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Nutzung aller Vorteile eines integrierten System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im SAP / R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Keine Modifikationen am SAP-Standar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Gewährleistung der Releasesicherhe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SAP R/3 ist Master bezüglich aller Stammdaten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Synchronisation mit Webserver erfolgt periodisch oder auf Anforderu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Kein direkter Zugriff auf SAP-Tabellen vom </a:t>
            </a:r>
            <a:br>
              <a:rPr sz="2500"/>
            </a:b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uftragsvergabe im Intranet bzw. Interne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uftragsbearbeitung und Prüfabwicklung im SAP (</a:t>
            </a:r>
            <a:r>
              <a:rPr b="0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Verrechnung von Kosten und Erlösen eines Auftrag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Dr. Jochen Winkler</cp:lastModifiedBy>
  <cp:lastPrinted>2000-08-22T08:01:00Z</cp:lastPrinted>
  <dcterms:modified xsi:type="dcterms:W3CDTF">2003-03-27T20:18:16Z</dcterms:modified>
  <cp:revision>114</cp:revision>
  <dc:subject/>
  <dc:title>Kein Folientitel</dc:title>
</cp:coreProperties>
</file>