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31.wmf" ContentType="image/x-wmf"/>
  <Override PartName="/ppt/media/image11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B8B27AF2-65B8-4FA9-8D32-51FC627530F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1800" y="7101000"/>
            <a:ext cx="2244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20880" y="114624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961240" y="3881520"/>
          <a:ext cx="304776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1240" y="3881520"/>
                    <a:ext cx="3047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057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orstellung des Projektes eLab als ein Beispi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60000"/>
              </a:lnSpc>
              <a:spcBef>
                <a:spcPts val="624"/>
              </a:spcBef>
              <a:spcAft>
                <a:spcPts val="1562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für ein Webbasiertes Bestell-Syste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2160" y="11462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20880" y="114624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76520" y="1447920"/>
            <a:ext cx="6400800" cy="5585760"/>
            <a:chOff x="1676520" y="1447920"/>
            <a:chExt cx="6400800" cy="5585760"/>
          </a:xfrm>
        </p:grpSpPr>
        <p:grpSp>
          <p:nvGrpSpPr>
            <p:cNvPr id="148" name=""/>
            <p:cNvGrpSpPr/>
            <p:nvPr/>
          </p:nvGrpSpPr>
          <p:grpSpPr>
            <a:xfrm>
              <a:off x="1676520" y="1447920"/>
              <a:ext cx="2857680" cy="2279160"/>
              <a:chOff x="1676520" y="1447920"/>
              <a:chExt cx="2857680" cy="2279160"/>
            </a:xfrm>
          </p:grpSpPr>
          <p:sp>
            <p:nvSpPr>
              <p:cNvPr id="149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476800" y="2017440"/>
                <a:ext cx="114120" cy="1253880"/>
              </a:xfrm>
              <a:custGeom>
                <a:avLst/>
                <a:gdLst>
                  <a:gd name="textAreaLeft" fmla="*/ 0 w 114120"/>
                  <a:gd name="textAreaRight" fmla="*/ 41040 w 114120"/>
                  <a:gd name="textAreaTop" fmla="*/ 32400 h 1253880"/>
                  <a:gd name="textAreaBottom" fmla="*/ 1221480 h 125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676520" y="1447920"/>
              <a:ext cx="6400800" cy="5585760"/>
              <a:chOff x="1676520" y="1447920"/>
              <a:chExt cx="6400800" cy="5585760"/>
            </a:xfrm>
          </p:grpSpPr>
          <p:sp>
            <p:nvSpPr>
              <p:cNvPr id="152" name=""/>
              <p:cNvSpPr/>
              <p:nvPr/>
            </p:nvSpPr>
            <p:spPr>
              <a:xfrm>
                <a:off x="4991400" y="1447920"/>
                <a:ext cx="2057400" cy="1482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34120" y="1903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77200" y="2246040"/>
                <a:ext cx="2057400" cy="15951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91400" y="1447920"/>
                <a:ext cx="205092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34120" y="1903320"/>
                <a:ext cx="205128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77200" y="2246040"/>
                <a:ext cx="2050920" cy="226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eistungen :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H-Wertbestimmu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91000" y="452556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48200" y="4981320"/>
                <a:ext cx="2905200" cy="1596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05400" y="543852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3047760" y="4070160"/>
                <a:ext cx="297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48120" y="4070160"/>
                <a:ext cx="0" cy="34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34200" y="258732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Kundenauftrag : 1LW.02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eistungen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H-Wertbestimm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4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Ausseh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91000" y="452556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H-Wertbes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48200" y="498132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05400" y="5438520"/>
                <a:ext cx="2879640" cy="1595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ichtebest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erkmale + Method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emperatur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362320" y="1904760"/>
              <a:ext cx="114480" cy="133308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34560 h 1333080"/>
                <a:gd name="textAreaBottom" fmla="*/ 1298520 h 13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tragbasierend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der Geschäftsprozesse über das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und Harmonisierung d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rekte Kopplung von Kunden (SAP und Non-SAP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stärkung der Kundenbind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reichen neuer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Fakturierung kann erfolge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tragsbezo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eriodisch (z.B. monatlich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osten können abgerechnet werden auf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aborkosten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ktura als Folgebeleg aus CS-Aufträ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e Verrechnung der PM-Aufträg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chnung geht über EDI, Fax oder Post zum Kund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errechnen auch an andere Objekte möglich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terne Faktur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-Auftrag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ostenstelle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44520" y="1433520"/>
            <a:ext cx="9352080" cy="5342040"/>
            <a:chOff x="344520" y="1433520"/>
            <a:chExt cx="9352080" cy="5342040"/>
          </a:xfrm>
        </p:grpSpPr>
        <p:sp>
          <p:nvSpPr>
            <p:cNvPr id="177" name=""/>
            <p:cNvSpPr/>
            <p:nvPr/>
          </p:nvSpPr>
          <p:spPr>
            <a:xfrm>
              <a:off x="3513240" y="3594240"/>
              <a:ext cx="5713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45240" y="3594240"/>
              <a:ext cx="5713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31800" y="5754600"/>
              <a:ext cx="10080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344520" y="3594240"/>
              <a:ext cx="8478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089240" y="2801880"/>
              <a:ext cx="1503360" cy="24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16160" y="3089160"/>
              <a:ext cx="1143000" cy="2081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32160" y="3738600"/>
              <a:ext cx="57132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32160" y="3665520"/>
              <a:ext cx="1225800" cy="647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kumen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40160" y="3809880"/>
              <a:ext cx="609480" cy="228600"/>
            </a:xfrm>
            <a:prstGeom prst="leftRightArrow">
              <a:avLst>
                <a:gd name="adj1" fmla="val 50000"/>
                <a:gd name="adj2" fmla="val 530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65960" y="222552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1600" y="3089160"/>
              <a:ext cx="1143000" cy="2081160"/>
            </a:xfrm>
            <a:prstGeom prst="rect">
              <a:avLst/>
            </a:prstGeom>
            <a:solidFill>
              <a:srgbClr val="b6fd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37240" y="3736800"/>
              <a:ext cx="720720" cy="457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73600" y="3809880"/>
              <a:ext cx="609840" cy="228600"/>
            </a:xfrm>
            <a:prstGeom prst="leftRightArrow">
              <a:avLst>
                <a:gd name="adj1" fmla="val 50000"/>
                <a:gd name="adj2" fmla="val 531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0520" y="237024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8408880" y="1433520"/>
              <a:ext cx="78264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8553600" y="3449520"/>
              <a:ext cx="107928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488880" y="1433520"/>
              <a:ext cx="100800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6"/>
            <a:stretch/>
          </p:blipFill>
          <p:spPr>
            <a:xfrm>
              <a:off x="8337600" y="5897520"/>
              <a:ext cx="7761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166600">
              <a:off x="1568160" y="2585880"/>
              <a:ext cx="609480" cy="144720"/>
            </a:xfrm>
            <a:prstGeom prst="leftRightArrow">
              <a:avLst>
                <a:gd name="adj1" fmla="val 50000"/>
                <a:gd name="adj2" fmla="val 838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52520" y="388152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8842400">
              <a:off x="1624680" y="5481720"/>
              <a:ext cx="609480" cy="144720"/>
            </a:xfrm>
            <a:prstGeom prst="leftRightArrow">
              <a:avLst>
                <a:gd name="adj1" fmla="val 50000"/>
                <a:gd name="adj2" fmla="val 838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211400">
              <a:off x="7689960" y="244116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331600">
              <a:off x="7616520" y="553896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61240" y="402588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4520" y="453060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1800" y="654696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53600" y="438624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93240" y="654696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84520" y="6618240"/>
            <a:ext cx="671184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0160" y="641520"/>
            <a:ext cx="95058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16160" y="281160"/>
          <a:ext cx="4719600" cy="71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6160" y="281160"/>
                    <a:ext cx="4719600" cy="7111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5360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 können Objekten  zugeordnet werde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tragskop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(Dienstleistungen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lle Arten von Dokumenten sind verwendba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Browser lesbare Formate empfohl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08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lder (jpg, gif, bm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08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crobat (pd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08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rd (do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08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cel (x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08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47800" y="1506600"/>
            <a:ext cx="8569080" cy="4174920"/>
            <a:chOff x="847800" y="1506600"/>
            <a:chExt cx="8569080" cy="4174920"/>
          </a:xfrm>
        </p:grpSpPr>
        <p:sp>
          <p:nvSpPr>
            <p:cNvPr id="58" name=""/>
            <p:cNvSpPr/>
            <p:nvPr/>
          </p:nvSpPr>
          <p:spPr>
            <a:xfrm>
              <a:off x="847800" y="2225520"/>
              <a:ext cx="5184720" cy="3456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6520" y="2873520"/>
              <a:ext cx="2664000" cy="216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8121600" y="2370240"/>
              <a:ext cx="78264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8048520" y="4457880"/>
              <a:ext cx="1079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448160" y="2873520"/>
              <a:ext cx="1224000" cy="216036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Web-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48520" y="1506600"/>
              <a:ext cx="129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un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0520" y="3881520"/>
              <a:ext cx="647640" cy="144360"/>
            </a:xfrm>
            <a:prstGeom prst="leftRightArrow">
              <a:avLst>
                <a:gd name="adj1" fmla="val 50000"/>
                <a:gd name="adj2" fmla="val 8931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745240" y="2801520"/>
              <a:ext cx="230328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16520" y="4314960"/>
              <a:ext cx="208908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96880" y="4097160"/>
              <a:ext cx="2057400" cy="360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1f1f"/>
                  </a:solidFill>
                  <a:latin typeface="Braggadocio"/>
                </a:rPr>
                <a:t>jw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M-System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08880" y="3449520"/>
              <a:ext cx="100800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2C oder B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9600" y="1506600"/>
              <a:ext cx="129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383400" indent="-3834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griff vom SAP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0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sen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0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3400" indent="-3834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griff vom Webserver über Browser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0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se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0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3400" indent="-3834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griffe werden über Berechtigungen gesteuer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olle Integration im SAP R/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ichte Bedienbarkeit durch auf den Prozess und User abgestimmte Screens und Abläuf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izientere Auftragsabwickl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ößere Transparenz in den Prozess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lexibel anpassbar und erweiterba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8880" y="1289160"/>
            <a:ext cx="899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88520" y="2730240"/>
            <a:ext cx="8991720" cy="384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onsulting hat Erfahrung im Umgang mit neuesten Web und SAP-Technologi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von praxiserprobten Lösun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Umfangreiches Branchen-Know-H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ofessionelle Beratung und Projektdurchführ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 Kundenzufrieden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0520" y="1362240"/>
            <a:ext cx="770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sulting in Ihre Projekte einbezie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B2C – Business to Custom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 kommuniziert manuell über Browser  mit dem Web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B2B – Business to Busines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nsystem übergibt automatisch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nsystem übernimmt automatisch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371600" y="1295280"/>
            <a:ext cx="6172200" cy="5715000"/>
            <a:chOff x="1371600" y="1295280"/>
            <a:chExt cx="6172200" cy="5715000"/>
          </a:xfrm>
        </p:grpSpPr>
        <p:sp>
          <p:nvSpPr>
            <p:cNvPr id="74" name=""/>
            <p:cNvSpPr/>
            <p:nvPr/>
          </p:nvSpPr>
          <p:spPr>
            <a:xfrm>
              <a:off x="1371600" y="1981080"/>
              <a:ext cx="184320" cy="214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33720" y="5410080"/>
              <a:ext cx="5143320" cy="1600200"/>
            </a:xfrm>
            <a:prstGeom prst="rect">
              <a:avLst/>
            </a:prstGeom>
            <a:solidFill>
              <a:srgbClr val="a7b5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182880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08520" y="3738600"/>
              <a:ext cx="86832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d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768840"/>
              <a:ext cx="90180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d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5610240"/>
              <a:ext cx="2057400" cy="360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1f1f"/>
                  </a:solidFill>
                  <a:latin typeface="Braggadocio"/>
                </a:rPr>
                <a:t>jw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M-System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84520" y="6473880"/>
              <a:ext cx="17146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/ R3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52880" y="5033880"/>
              <a:ext cx="2971800" cy="34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6200" y="2168640"/>
              <a:ext cx="1600200" cy="342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29480" y="2168640"/>
              <a:ext cx="160020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628720" y="2282400"/>
              <a:ext cx="102852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57680" y="2282760"/>
              <a:ext cx="952200" cy="7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8320" y="2590920"/>
              <a:ext cx="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724280" y="25905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486400" y="2590920"/>
              <a:ext cx="91440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715000" y="2590560"/>
              <a:ext cx="952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25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076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19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341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5788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3352680"/>
              <a:ext cx="114480" cy="114300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72200" y="3581280"/>
              <a:ext cx="137160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chtung von  Auftrag und Prüfergebnis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19440" y="3425760"/>
              <a:ext cx="2057400" cy="34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208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1500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n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Entwicklung mit der SAP-Workbench in ABAP 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olle Integration in den SAP-Standar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Interaktion mit anderen Modulen wie z.B.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QM, MM, SD, FI, CO, CS, …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Einheitliches und übergreifendes System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eine Modifikationen am SAP-Standar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Gewährleistung der Releasesicher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SAP R/3 ist Master bezüglich aller Stammdat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Synchronisation mit Webserver erfolgt periodisch oder auf Anforder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ein direkter Zugriff auf SAP-Tabellen vom </a:t>
            </a:r>
            <a:br>
              <a:rPr sz="2500"/>
            </a:b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uftragsbearbeitung und Prüfabwicklung im SAP (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errechnung von Kosten und Erlösen eines Auftrag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3-03-27T20:18:16Z</dcterms:modified>
  <cp:revision>114</cp:revision>
  <dc:subject/>
  <dc:title>Kein Folientitel</dc:title>
</cp:coreProperties>
</file>