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682440"/>
            <a:ext cx="8456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68244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240" y="368244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4040" y="129528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3160" y="129528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68244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4040" y="368244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3160" y="368244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4564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66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240" y="1295280"/>
            <a:ext cx="41266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4564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240" y="1295280"/>
            <a:ext cx="41266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68244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66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24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240" y="368244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24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682440"/>
            <a:ext cx="8456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914400"/>
            <a:ext cx="84582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248520"/>
            <a:ext cx="914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9880" y="6400800"/>
            <a:ext cx="13874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8800" y="6400800"/>
            <a:ext cx="14479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Peter Spä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400800"/>
            <a:ext cx="12956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.03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01000" y="6400800"/>
            <a:ext cx="838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9F7D2E7F-2A32-4230-A6A6-829098632C09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04920" y="1295280"/>
            <a:ext cx="8456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53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5680" indent="-382680">
              <a:spcBef>
                <a:spcPts val="53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44720" indent="-228600">
              <a:spcBef>
                <a:spcPts val="53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63760" indent="-228600">
              <a:spcBef>
                <a:spcPts val="53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63760" indent="-228600">
              <a:spcBef>
                <a:spcPts val="53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63760" indent="-228600">
              <a:spcBef>
                <a:spcPts val="53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Strategie der </a:t>
            </a: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3000"/>
              </a:lnSpc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. Peter Späth</a:t>
            </a:r>
            <a:br>
              <a:rPr sz="2400"/>
            </a:br>
            <a:r>
              <a:rPr b="0" lang="en-GB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Vorstellung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erfassung durch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nuelle Eingabe am Rechner 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anner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hel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38680" y="2895480"/>
            <a:ext cx="147636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3733920"/>
            <a:ext cx="1523880" cy="1149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400800" y="4572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bindung zum SAP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74680" y="1871640"/>
            <a:ext cx="63435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netzung als ein Spiegel unserer Gesellschaft</a:t>
            </a:r>
            <a:br>
              <a:rPr sz="2200"/>
            </a:br>
            <a:br>
              <a:rPr sz="2200"/>
            </a:b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ie Vernetzung ist nicht nur ein technokratisches Phänomen !</a:t>
            </a: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Spra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Schr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Telegra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Telef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s Softwaredesign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Model - View - Controll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Schema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dächtn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MODELL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torik (Sprechen) +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nsorik (Hören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VIEW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rstan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CONTROL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s Softwaredesign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Model - View - Controll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Schema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icher (mit Schema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MODELL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nitor +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tatu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VIEW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PU/Softwa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CONTROLL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 We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nken in Systemen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58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in feste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Prozessschem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öglich da:</a:t>
            </a: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3333cc"/>
                </a:solidFill>
                <a:latin typeface="Arial"/>
              </a:rPr>
              <a:t>Unser Denken über Systeme ist eine Spiegelung unseres Selbstverständnisses, ingenieurs-mässige Wissenschaften sind an der Materie orientier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 We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nger Kundenkontakt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beit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vor 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Individuel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bstimmung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r Mensch ist das Maß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bstimmung mit dem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Endbenutzer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Laborperson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meinsames Ziel: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Optimieru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von Bestellvorgä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Strategie der </a:t>
            </a: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3000"/>
              </a:lnSpc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. Peter Späth</a:t>
            </a:r>
            <a:br>
              <a:rPr sz="2400"/>
            </a:br>
            <a:r>
              <a:rPr b="0" lang="en-GB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eb</a:t>
            </a:r>
            <a:br>
              <a:rPr sz="2200"/>
            </a:b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IT-Luftschlösser und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andards</a:t>
            </a:r>
            <a:br>
              <a:rPr sz="2200"/>
            </a:b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lehnung an SAP, aber mit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Vorfilteru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Vorgrif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r Geschich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Erfolg von SAP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umfassen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W-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monolithisc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W-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tes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Bera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Ne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er Kunden-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Konta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ßangeleg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chulun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r Geschich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ilte Lösung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n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-mail, Telnet, X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prietä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tzwerk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ient-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Architek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e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d seine Protok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5680" indent="-382680">
              <a:spcBef>
                <a:spcPts val="437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5680" indent="-382680">
              <a:spcBef>
                <a:spcPts val="437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(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5680" indent="-382680">
              <a:spcBef>
                <a:spcPts val="437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zentral verteilt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Knot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gendwann in der Zukunft: Di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otale Vernetz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r Geschich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ySAP und NetWeaver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Aufweiche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es monolithischen Konzepte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Integr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 und mit Fremdsysteme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twicklung neuer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Kommunikation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Komponente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Jav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r Geschich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jwConsulting meets Web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in Kundenwunsch: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vorgelager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entmilitarisiertes) System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Spiege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Datenbank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dnutzerrechner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ohne zusätzlich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r Geschicht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Webseiten kommunizieren mit einem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eb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HTML und 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Webseiten kommunizieren mit einem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wendungs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HTML und JS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Vorstellung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e alte (nicht veraltete!) Technologie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68600" y="2482920"/>
            <a:ext cx="54720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Vorstellung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e neue Technologie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3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84440" y="2482920"/>
            <a:ext cx="5443560" cy="309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Jochen Winkler</cp:lastModifiedBy>
  <dcterms:modified xsi:type="dcterms:W3CDTF">2003-03-21T09:08:23Z</dcterms:modified>
  <cp:revision>12</cp:revision>
  <dc:subject/>
  <dc:title>Web-Strategie der jwConsulting</dc:title>
</cp:coreProperties>
</file>