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404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316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404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316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4564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03E11B9-0CA2-4F86-95AD-6DB8F8026832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3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53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28600">
              <a:spcBef>
                <a:spcPts val="53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erfassung durch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nuelle Eingabe am Rechner 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anner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h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14763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1523880" cy="114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00800" y="4572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bindung zum SAP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74680" y="1871640"/>
            <a:ext cx="6343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netzung als ein Spiegel unserer Gesellschaft</a:t>
            </a: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e Vernetzung ist nicht nur ein technokratisches Phänomen !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pr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chr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Telegra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Telef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odel - View - Controll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dächtn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torik (Sprechen) +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nsorik (Hören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st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Model - View - Controll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icher (mit Schema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nitor +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statu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PU/Softwa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nken in Systemen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8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in festes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rozessschem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öglich da:</a:t>
            </a: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3333cc"/>
                </a:solidFill>
                <a:latin typeface="Arial"/>
              </a:rPr>
              <a:t>Unser Denken über Systeme ist eine Spiegelung unseres Selbstverständnisses, ingenieurs-mässige Wissenschaften sind an der Materie orientier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ger Kundenkontakt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beit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vor 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dividuel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bstimmung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 Mensch ist das Maß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bstimmung mit dem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Endbenutzer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Laborperso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meinsames Ziel: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ptimieru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Bestellvorgä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eb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-Luftschlösser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ndards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ehnung an SAP, aber mi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filteru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gri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rfolg von SAP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umfassen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monolithis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Bera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Ne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er Kunden-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nta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ßangeleg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chulu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ilte Lösung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-mail, Telnet, X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prietä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tzwerk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ent-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rchitek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seine Protok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zentral verteilt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not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gendwann in der Zukunft: Di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tale Vernetz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ySAP und NetWeaver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Aufweich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des monolithischen Konzept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Integr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und mit Fremdsystem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twicklung neuer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Kommunikation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Komponente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Jav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wConsulting meets Web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n Kundenwunsch: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vorgelager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entmilitarisiertes) System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Spiege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Datenbank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nutzerrechner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ohne zusätzlich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Geschich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wendungs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J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alte (nicht veraltete!) Technologi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68600" y="2482920"/>
            <a:ext cx="5472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e neue Technologie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84440" y="2482920"/>
            <a:ext cx="5443560" cy="309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21T09:08:23Z</dcterms:modified>
  <cp:revision>12</cp:revision>
  <dc:subject/>
  <dc:title>Web-Strategie der jwConsulting</dc:title>
</cp:coreProperties>
</file>