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3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680640"/>
            <a:ext cx="8453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68064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6080" y="368064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2600" y="129492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0640" y="129492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68064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2600" y="368064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0640" y="3680640"/>
            <a:ext cx="27216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294920"/>
            <a:ext cx="84531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31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0"/>
            <a:ext cx="845316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68064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6080" y="368064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6080" y="1294920"/>
            <a:ext cx="41248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680640"/>
            <a:ext cx="8453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13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914400"/>
            <a:ext cx="8458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248520"/>
            <a:ext cx="914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463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9880" y="6400800"/>
            <a:ext cx="13874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8800" y="6400800"/>
            <a:ext cx="14479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400800"/>
            <a:ext cx="1295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01000" y="6400800"/>
            <a:ext cx="838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C739177-ECCD-4969-A1A2-278AD8E80ABB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3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4560" y="1294920"/>
            <a:ext cx="84531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513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79440">
              <a:spcBef>
                <a:spcPts val="513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41480" indent="-228600">
              <a:spcBef>
                <a:spcPts val="513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60520" indent="-228600"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60520" indent="-228600"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60520" indent="-228600"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per Web              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3000"/>
              </a:lnSpc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GB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buNone/>
              <a:tabLst>
                <a:tab algn="l" pos="0"/>
                <a:tab algn="l" pos="73080"/>
                <a:tab algn="l" pos="522360"/>
                <a:tab algn="l" pos="971640"/>
                <a:tab algn="l" pos="1420920"/>
                <a:tab algn="l" pos="1870200"/>
                <a:tab algn="l" pos="2319480"/>
                <a:tab algn="l" pos="2768760"/>
                <a:tab algn="l" pos="3218040"/>
                <a:tab algn="l" pos="3666960"/>
                <a:tab algn="l" pos="4116240"/>
                <a:tab algn="l" pos="4565520"/>
                <a:tab algn="l" pos="5014800"/>
                <a:tab algn="l" pos="5464080"/>
                <a:tab algn="l" pos="5913360"/>
                <a:tab algn="l" pos="6362640"/>
                <a:tab algn="l" pos="6811920"/>
                <a:tab algn="l" pos="7261200"/>
                <a:tab algn="l" pos="7710480"/>
                <a:tab algn="l" pos="8159760"/>
                <a:tab algn="l" pos="86090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chfunktion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Freigab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776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der Theorie zur Praxis</a:t>
            </a:r>
            <a:br>
              <a:rPr sz="2200"/>
            </a:br>
            <a:br>
              <a:rPr sz="2200"/>
            </a:br>
            <a:r>
              <a:rPr b="1" i="1" lang="en-US" sz="2200" spc="-1" strike="noStrike">
                <a:solidFill>
                  <a:srgbClr val="00ae00"/>
                </a:solidFill>
                <a:latin typeface="Palatino Linotype"/>
              </a:rPr>
              <a:t>Technologie</a:t>
            </a: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Acces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ae00"/>
                </a:solidFill>
                <a:latin typeface="Palatino Linotype"/>
              </a:rPr>
              <a:t>Endprodukt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web – Produktpalette</a:t>
            </a:r>
            <a:br>
              <a:rPr sz="2800"/>
            </a:b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m Beispiel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jwebStationsanforderungArzneimitt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946240"/>
            <a:ext cx="2192400" cy="855720"/>
          </a:xfrm>
          <a:prstGeom prst="line">
            <a:avLst/>
          </a:prstGeom>
          <a:ln w="108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ondere Funktion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per Web               </a:t>
            </a:r>
            <a:r>
              <a:rPr b="1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 algn="ctr">
              <a:lnSpc>
                <a:spcPct val="93000"/>
              </a:lnSpc>
              <a:spcBef>
                <a:spcPts val="513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GB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 algn="ctr"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jweb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“Warenkorblösung”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Vereinfacht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arenkorb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usba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fähi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utzerführung / Schulungsaufwand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e: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egra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den Arbeitsablauf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,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ogisch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nutze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jweb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ma Transaktionssicherhei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bedeute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ak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icherheit?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sammenspiel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erade bearbeitete Daten (mehrere Sitzungen?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aten in der Datenbank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fach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bu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aktions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79440">
              <a:spcBef>
                <a:spcPts val="41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 zentraler, aktueller Bele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-379440">
              <a:spcBef>
                <a:spcPts val="41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uchung mit SAP erst nach Frei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3614760"/>
            <a:ext cx="1625400" cy="1440"/>
          </a:xfrm>
          <a:prstGeom prst="line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6240" y="1787400"/>
            <a:ext cx="606564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hentifizierung des Erfasser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utomatisches Einlesen eingescannter Positionen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brufen der Scannerdaten: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matisch vor Anzeigen der Bestel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7880" indent="-382680">
              <a:spcBef>
                <a:spcPts val="462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uell jederzeit durch Betätigung einer Schaltflä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schub: Rückmeldungen von der Beschaff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lnSpc>
                <a:spcPct val="93000"/>
              </a:lnSpc>
              <a:spcBef>
                <a:spcPts val="513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as Zentrum: die Bestellliste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7680" y="1785960"/>
            <a:ext cx="60660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Jochen Winkler</cp:lastModifiedBy>
  <dcterms:modified xsi:type="dcterms:W3CDTF">2003-03-27T20:17:04Z</dcterms:modified>
  <cp:revision>6</cp:revision>
  <dc:subject/>
  <dc:title>Materialanforderungen per Web               jwConsulting</dc:title>
</cp:coreProperties>
</file>