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3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680640"/>
            <a:ext cx="8453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608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68064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6080" y="368064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2600" y="129492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0640" y="129492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68064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2600" y="368064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0640" y="368064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31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31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48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6080" y="1294920"/>
            <a:ext cx="41248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4531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6080" y="1294920"/>
            <a:ext cx="41248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68064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48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608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6080" y="368064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608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680640"/>
            <a:ext cx="8453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914400"/>
            <a:ext cx="84582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248520"/>
            <a:ext cx="914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4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9880" y="6400800"/>
            <a:ext cx="13874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8800" y="6400800"/>
            <a:ext cx="14479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400800"/>
            <a:ext cx="1295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01000" y="6400800"/>
            <a:ext cx="838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D0B52E3E-EAC4-4268-A6E8-CB711C9EED31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31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513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79440">
              <a:spcBef>
                <a:spcPts val="513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41480" indent="-228600">
              <a:spcBef>
                <a:spcPts val="513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60520" indent="-228600"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60520" indent="-228600"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60520" indent="-228600"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per Web              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3000"/>
              </a:lnSpc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br>
              <a:rPr sz="2400"/>
            </a:br>
            <a:r>
              <a:rPr b="0" lang="en-GB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chfunktion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Freigab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776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der Theorie zur Praxis</a:t>
            </a:r>
            <a:br>
              <a:rPr sz="2200"/>
            </a:br>
            <a:br>
              <a:rPr sz="2200"/>
            </a:br>
            <a:r>
              <a:rPr b="1" i="1" lang="en-US" sz="2200" spc="-1" strike="noStrike">
                <a:solidFill>
                  <a:srgbClr val="00ae00"/>
                </a:solidFill>
                <a:latin typeface="Palatino Linotype"/>
              </a:rPr>
              <a:t>Technologie</a:t>
            </a: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Acces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ae00"/>
                </a:solidFill>
                <a:latin typeface="Palatino Linotype"/>
              </a:rPr>
              <a:t>Endprodukt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web – Produktpalette</a:t>
            </a:r>
            <a:br>
              <a:rPr sz="2800"/>
            </a:b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m Beispiel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jwebStationsanforderungArzneimitt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946240"/>
            <a:ext cx="2192400" cy="855720"/>
          </a:xfrm>
          <a:prstGeom prst="line">
            <a:avLst/>
          </a:prstGeom>
          <a:ln w="108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ondere Funktion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per Web              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 algn="ctr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br>
              <a:rPr sz="2400"/>
            </a:br>
            <a:r>
              <a:rPr b="0" lang="en-GB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ctr"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ctr"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ctr"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ctr"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ctr"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jweb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“Warenkorblösung”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Vereinfacht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arenkorb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usba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fähi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nutzerführung / Schulungsaufwand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xime: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egrati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den Arbeitsablauf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,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ogisch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nutze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jweb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ma Transaktionssicherhei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bedeute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ak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icherheit?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sammenspiel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erade bearbeitete Daten (mehrere Sitzungen?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aten in der Datenbank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fach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bu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aktions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79440">
              <a:spcBef>
                <a:spcPts val="41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 zentraler, aktueller Bele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79440">
              <a:spcBef>
                <a:spcPts val="41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uchung mit SAP erst nach Frei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3614760"/>
            <a:ext cx="1625400" cy="1440"/>
          </a:xfrm>
          <a:prstGeom prst="line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6240" y="1787400"/>
            <a:ext cx="606564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hentifizierung des Erfasser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utomatisches Einlesen eingescannter Positionen</a:t>
            </a: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brufen der Scannerdaten: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matisch vor Anzeigen der Bestell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uell jederzeit durch Betätigung einer Schalt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schub: Rückmeldungen von der Beschaff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s Zentrum: die Bestellliste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Jochen Winkler</cp:lastModifiedBy>
  <dcterms:modified xsi:type="dcterms:W3CDTF">2003-03-27T20:17:04Z</dcterms:modified>
  <cp:revision>6</cp:revision>
  <dc:subject/>
  <dc:title>Materialanforderungen per Web               jwConsulting</dc:title>
</cp:coreProperties>
</file>