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E304C51-3C9C-45C0-BC58-FD9CC531F3F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auf dem Web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bei R/3 Master 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ynchronisation erfolgt automatis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Produkt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bmecat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189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367200" indent="-36720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-37944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7200" indent="-36720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fassende Informationen unter http://www.eclass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9940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9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– Austausch Geschäfts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openTRAN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BMEcat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mfassende Informationen unter http://www.opentrans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fahrungen im eLab-Projekt (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03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13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21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40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45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0240" y="846000"/>
            <a:ext cx="6686640" cy="59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n der Produktfamilie zur Meth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3040" y="1862280"/>
            <a:ext cx="8420040" cy="4825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8400" y="2286000"/>
            <a:ext cx="7924680" cy="414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7920" y="1862280"/>
            <a:ext cx="82551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familie                                              (z. B. Mikroskopie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20840" y="2268360"/>
            <a:ext cx="7842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                 (Transmissionselektronenmikroskop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50960" y="2709720"/>
            <a:ext cx="7512120" cy="3470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0960" y="2692440"/>
            <a:ext cx="7512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eistung                      (EDX-Analyse am TEM, Mapp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63880" y="3132000"/>
            <a:ext cx="7099200" cy="2793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6320" y="311472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prüfmerkmale                  (Elementverteilu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76440" y="3556080"/>
            <a:ext cx="6686640" cy="203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76440" y="3556080"/>
            <a:ext cx="70167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hode                               (Hausmethode, EM00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320" y="423360"/>
            <a:ext cx="91422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mmdaten - 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2320" y="1439640"/>
            <a:ext cx="914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ukturpfle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ordnung zu Produktfamilien und 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und Ansprechpart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kmal und Me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ichtbar und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lt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hält alle Leistungen für Standard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prei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53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ndenkatal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 Leistungen für einzelne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scher Pre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e nach Schlagwor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1160" y="1785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1462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?xml version="1.0" encoding="UTF-8" ?&gt;  &lt;!-- edited with XML Spy v2.5 NT - http://www.xmlspy.com   --&gt;  &lt;!-- DOCTYPE BMECAT SYSTEM "http://www.bmecat.org/bmecat/1.2/bmecat_new_catalog_1_2.dtd"   --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BMECAT 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&lt;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LANGUAG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LANGUAG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4sd34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VERSION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VERSION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istungs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racor Gmb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ADDRESS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alytisc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chnische Servic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TREE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ul-Baumann-St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TREE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ZIP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576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ZIP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IT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IT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UNTR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UNTR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_NEW_CATALOG prev_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Welt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14588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 u="sng">
                <a:solidFill>
                  <a:srgbClr val="ffde69"/>
                </a:solidFill>
                <a:uFillTx/>
                <a:latin typeface="Arial"/>
              </a:rPr>
              <a:t>-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lektronen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REM, TEM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cht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t zugehöriger Bildverarbeit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, 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iskositä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, quantitativ (standardlo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ativ (standardlos) Langtex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, Standardpräparation, 3 Aufnahmen, Kurzbefund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_NEW_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MECAT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A - Arzneimitteldaten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BDA – Produktdatenkatalog enthält Daten zu ca. 30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utschen und ausländischen Arzneimittel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Produktdaten gehören u.a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armazentralnummer (packungs- und lieferantenabhängi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els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stoff, Dosierung, Darreichungs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informationen (incl. Adresse, Telefon, Email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lierte Informationen unter http://www.abda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leichtern die Suche nach Produkten, z.B. über scannerlesbaren Barcode oder Matchcodeverfah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möglichen die maschinelle Bestellung, da sie alle Produkt- und Lieferanteninformationen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können eine Substitution auf gelistete 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sprechend einer Regel (Merkmalsleiste, gleiche Merkma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 nach Wirkstoff, Dosierung, Darreichungsform, durch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reduzieren oder erleichtern erheblich die manuelle R/3 Materialstamm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, die nur vom Lieferanten gepflegt werden, reduzieren die Fehlerrate und vermeiden Mehrfacherfas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 mehrjährige Erfahrung b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ntegration von Produktkatalogen in SAP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ynchronisation von Materialstämmen und Produktdaten zwischen R/3 und Webser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ntwicklung von Tools zur Pflege von Produktdaten und Materialstämmen im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Austausch von Geschäftsdokumenten über openTRAN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Dauerbetrieb von praxisrelevanten Lös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enthalten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beschreibungen (incl. Dokume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- und Kunden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 gibt Lieferanten-, Kunden- und Wel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uche, -auswahl und -ver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rauchsinformationen über Produkte (Gebrauchsanweisungen, Bedienungshinweise, Packungsbeilagen, Anwendungs-dokumenta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ergebnisse (Forschungsberichte, Analyseergebnisse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zepte, Konfigurationen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kataloge können sowohl vom Menschen als auch vom Rech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lesen und verarbeite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eine Materialklassifikatio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ifikationen dienen zur Suche, zum Vergleich und zu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ü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4251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 welchem Protokoll erfolgt der Produktdatenaustausch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ist verwendeten Protokolle im WWW sind http, ftp und smt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 und öffentlichen Einr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 und ABDA sind Beispiele für allgemeine bzw. brachenspezifische Produktdaten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erfolgt der Produktdatentransport ins R/3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ischer Datenträger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Business Connecto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ebserve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im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sächlich steuernde Funktion für Logis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beschreibung (aber auch Pre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.h. folgende Varianten sind mögl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R/3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datenbeschreibung durch Dokumente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Produktdaten (z.B. bei großen Katalo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stammgenerierung bei Bedarf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weder R/3 Materialstamm noch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Bestandsführung, textuelle Banf / 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R/3 Materialstamm und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rangregel notwendig (z.B. für Preisermittl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06T11:01:18Z</dcterms:modified>
  <cp:revision>663</cp:revision>
  <dc:subject/>
  <dc:title>Kein Folientitel</dc:title>
</cp:coreProperties>
</file>