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A61E50A-2553-4F1D-BA21-8B73C55FDD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846000"/>
            <a:ext cx="6686640" cy="59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040" y="1862280"/>
            <a:ext cx="8420040" cy="482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2286000"/>
            <a:ext cx="7924680" cy="414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7920" y="1862280"/>
            <a:ext cx="8255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(z. B. Mikroskopi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20840" y="2268360"/>
            <a:ext cx="7842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                 (Transmissionselektronenmikroskop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0960" y="2709720"/>
            <a:ext cx="7512120" cy="347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0960" y="2692440"/>
            <a:ext cx="7512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istung                      (EDX-Analyse am TEM, Mapp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63880" y="3132000"/>
            <a:ext cx="7099200" cy="279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6320" y="311472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prüfmerkmale                  (Elementverteilu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76440" y="3556080"/>
            <a:ext cx="6686640" cy="203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355608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2320" y="1439640"/>
            <a:ext cx="914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ktur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ordnung zu Produktfamilien und 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kmal und Me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ält alle Leistungen für Standard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 Leistungen für einzelne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r Pre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1462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?xml version="1.0" encoding="UTF-8" ?&gt;  &lt;!-- edited with XML Spy v2.5 NT - http://www.xmlspy.com   --&gt;  &lt;!-- DOCTYPE BMECAT SYSTEM "http://www.bmecat.org/bmecat/1.2/bmecat_new_catalog_1_2.dtd"   --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BMECAT 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&lt;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LANGUAG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LANGUAG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4sd34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VERSION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VERSION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istungs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racor Gmb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ADDRESS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alytisc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sche Servic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TREE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ul-Baumann-St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TREE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ZIP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576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ZIP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IT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IT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UNTR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_NEW_CATALOG prev_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elt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1458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 u="sng">
                <a:solidFill>
                  <a:srgbClr val="ffde69"/>
                </a:solidFill>
                <a:uFillTx/>
                <a:latin typeface="Arial"/>
              </a:rPr>
              <a:t>-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lektronen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REM, TEM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cht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t zugehöriger Bildverarbeit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, 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skositä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, quantitativ (standardlo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ativ (standardlos) Langtex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, Standardpräparation, 3 Aufnahmen, Kurzbefund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_NEW_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MECAT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und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06T11:01:18Z</dcterms:modified>
  <cp:revision>663</cp:revision>
  <dc:subject/>
  <dc:title>Kein Folientitel</dc:title>
</cp:coreProperties>
</file>