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wmf" ContentType="image/x-wmf"/>
  <Override PartName="/ppt/media/image6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00160" y="6905520"/>
            <a:ext cx="8906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 Ba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560" y="7086600"/>
            <a:ext cx="1384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24725C1-2B20-4D72-A07C-B96E899D8F2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2091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örungsmeldungen und Instandhaltungs-Anforderungen über Webbrows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84880" cy="7035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ldungs-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24160" y="1951200"/>
            <a:ext cx="8481960" cy="5181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H-Belegf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0520" y="1577880"/>
            <a:ext cx="7400880" cy="271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61240" y="4314960"/>
            <a:ext cx="3659040" cy="2155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H-Auftra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29600" cy="7032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969240" y="2730600"/>
            <a:ext cx="2625480" cy="210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32880" y="4602240"/>
            <a:ext cx="1827000" cy="1111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ellanford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89160"/>
            <a:ext cx="9906120" cy="471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01160" y="4170240"/>
            <a:ext cx="1704960" cy="2928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für brauche ich Produktkataloge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2880" y="1362240"/>
            <a:ext cx="9504360" cy="4524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738920" y="5033880"/>
            <a:ext cx="2011680" cy="2370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32508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stungs-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atalo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29600" cy="6977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53240" y="4025880"/>
            <a:ext cx="263988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lle Integration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ichte Bedienbarkeit durch auf den Prozess und User abgestimmte Screens und Abläuf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zientere Auftragsab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ößere Transparenz in de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el anpassbar und 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- und / oder R/3 basierte Speziallösungen entsprechend Ihrer Anfor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8880" y="1289160"/>
            <a:ext cx="899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8520" y="2730240"/>
            <a:ext cx="8991720" cy="384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onsulting hat Erfahrung im Umgang mit neuesten Web- und SAP-Technologi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von praxiserprobten Lösun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Umfangreiches Branchen-Know-H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ofessionelle Beratung und Projektdurchführung in der Chemie, Pharmazie und Medizi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 Kundenzufrieden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520" y="1362240"/>
            <a:ext cx="770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ing in Ihre Projekte einbezie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4520" y="2091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örungsmeldungen und Instandhaltungs-Anforderungen über Webbrows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193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36880" y="3594240"/>
            <a:ext cx="412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eldungsbearbeitung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Technische Dienstleis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Technische Verbrauchsmaterial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Zuordnung technischer Objekte (TPL/Equ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Schadens- /Ursachen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ienstleistungskat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-Einstie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5800" y="1217520"/>
            <a:ext cx="9001080" cy="356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977240" y="3954600"/>
            <a:ext cx="1379520" cy="2065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anford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1800" y="1146240"/>
            <a:ext cx="8553600" cy="5945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755200" y="1865160"/>
            <a:ext cx="1150920" cy="118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682120" y="3162240"/>
            <a:ext cx="1224000" cy="1308240"/>
          </a:xfrm>
          <a:prstGeom prst="rect">
            <a:avLst/>
          </a:prstGeom>
          <a:ln w="0">
            <a:noFill/>
          </a:ln>
        </p:spPr>
      </p:pic>
      <p:sp>
        <p:nvSpPr>
          <p:cNvPr id="65" name="Litebulb"/>
          <p:cNvSpPr/>
          <p:nvPr/>
        </p:nvSpPr>
        <p:spPr>
          <a:xfrm>
            <a:off x="8840880" y="4530600"/>
            <a:ext cx="1065240" cy="14306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906120" cy="718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32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ldungs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906120" cy="574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104320" y="209520"/>
            <a:ext cx="1801800" cy="29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3-27T20:15:21Z</dcterms:modified>
  <cp:revision>671</cp:revision>
  <dc:subject/>
  <dc:title>Kein Folientitel</dc:title>
</cp:coreProperties>
</file>