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00160" y="6905520"/>
            <a:ext cx="890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784224A-CFD8-49F4-A9B9-D0628947528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84880" cy="703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ldungs-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24160" y="1951200"/>
            <a:ext cx="8481960" cy="5181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Belegf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20" y="1577880"/>
            <a:ext cx="7400880" cy="27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61240" y="4314960"/>
            <a:ext cx="3659040" cy="2155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Auftr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703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969240" y="2730600"/>
            <a:ext cx="2625480" cy="210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32880" y="46022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el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906120" cy="471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01160" y="4170240"/>
            <a:ext cx="170496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2880" y="1362240"/>
            <a:ext cx="9504360" cy="4524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38920" y="5033880"/>
            <a:ext cx="20116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32508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stungs-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697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53240" y="4025880"/>
            <a:ext cx="263988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- und / oder R/3 basierte Speziallösungen entsprechend Ihrer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-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 in der Chemie, Pharmazie und Mediz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193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36880" y="3594240"/>
            <a:ext cx="412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eldungsbearbeitung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Zuordnung technischer Objekte (TPL/Eq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Einstie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5800" y="1217520"/>
            <a:ext cx="9001080" cy="35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77240" y="3954600"/>
            <a:ext cx="1379520" cy="2065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1800" y="1146240"/>
            <a:ext cx="8553600" cy="5945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755200" y="1865160"/>
            <a:ext cx="1150920" cy="118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82120" y="3162240"/>
            <a:ext cx="1224000" cy="1308240"/>
          </a:xfrm>
          <a:prstGeom prst="rect">
            <a:avLst/>
          </a:prstGeom>
          <a:ln w="0">
            <a:noFill/>
          </a:ln>
        </p:spPr>
      </p:pic>
      <p:sp>
        <p:nvSpPr>
          <p:cNvPr id="65" name="Litebulb"/>
          <p:cNvSpPr/>
          <p:nvPr/>
        </p:nvSpPr>
        <p:spPr>
          <a:xfrm>
            <a:off x="8840880" y="4530600"/>
            <a:ext cx="1065240" cy="1430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906120" cy="718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32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ldungs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906120" cy="57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104320" y="209520"/>
            <a:ext cx="1801800" cy="29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27T20:15:21Z</dcterms:modified>
  <cp:revision>671</cp:revision>
  <dc:subject/>
  <dc:title>Kein Folientitel</dc:title>
</cp:coreProperties>
</file>