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B4E-0C10-40BB-B669-A2139720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5FA-9FF6-42FB-AC0B-31AE44EE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2AA-BAC9-4A84-A59F-E7645E03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816-665F-443C-8137-9F1C500C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71A-06D2-4DDA-A786-2ADDE5CD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637-99C8-4030-AFFE-4D68B8B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34B-89B0-4C3F-95AD-9F31C1A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6C4-C885-4F64-A1CD-4FEA44A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270-7FC2-4EDE-914E-D2418D8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8B7-E986-4184-93E5-C9BFB80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834-10FD-46C7-AC87-440CB87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C70-891F-4F16-8FFB-235EA15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E799F4-C1AC-4ECC-B22C-199D706152C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Add-ons für SAP R/3 im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3EC-D2CC-487A-B12A-430331BCC3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EAB-611A-4128-97BB-4B5AF667A0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838080"/>
            <a:ext cx="800100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Add-ons für SAP R/3 im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E9D-3CE4-4C6C-B886-16B891DBBB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anforderungen über Web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3E3-D05D-4C0F-8937-C3B502A6DC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basiertes Dienstleistungs-Bestell-System - eLab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erfassung im Internet bzw.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arbeitung im SAP durch </a:t>
            </a: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berichte und Ergebnisse im SAP und im Intranet/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 und Erlöse von Dienstleistungen im e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mmdatenpflege im e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2B-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techn.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A83-E8D3-4A6D-B8CD-F582A79D4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und -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austausch mittels BMEcat (X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im SAP R/3 und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-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datenbank (ABDA) im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A68-4B52-4BF2-B3AC-A6A904E1E3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20A-4EEE-4710-8E02-EA97E8899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6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9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8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6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11A-4FD8-49EE-B4D7-59DB4C048A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D66-9F38-4250-923D-0E06E0533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AB5-A147-4208-85A8-23493E3743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B6-F229-4DCE-9C58-3179502A09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3-17T13:52:57Z</dcterms:modified>
  <cp:revision>201</cp:revision>
  <dc:subject/>
  <dc:title>Kein Folientitel</dc:title>
</cp:coreProperties>
</file>