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7FD-8FF1-4BB3-A05E-A2717B37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E5D-95B4-4CBB-BCEB-8A97DDBB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552-58A9-4ACB-A481-BA9EC660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DF3-4CE6-47BC-90DE-344A7BBB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7F2-0503-43E9-A696-39E7F8A8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76B-A6E3-4D67-B2DD-C39E811F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536-B7A9-48D3-8EDB-D39D2A60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9EB-BFEF-417E-A5F7-128D3212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E621-43A8-4295-90E9-2AB4F05F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AE2-9816-4802-9481-DA7C70C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EA6-DBE4-44EA-A590-2CBFC701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360-FB40-44A6-A5EE-63C1A05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2624D1-1557-4E82-BEA2-2F53E6548C6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Add-ons für SAP R/3 im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ECD-4D05-46C9-B7BC-72A53D59496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D45-ECE4-46D7-A7B2-4DF722842F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838080"/>
            <a:ext cx="800100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600" spc="-1" strike="noStrike">
                <a:solidFill>
                  <a:srgbClr val="3333cc"/>
                </a:solidFill>
                <a:latin typeface="Arial"/>
              </a:rPr>
              <a:t>Add-ons für SAP R/3 im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dustriepark Wolf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nau-Wolfgang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FFB-221B-41E4-ABEB-214128D35D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aterialanforderungen über Web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EB1-2AAE-45EA-8E06-F9DA9EBF63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basiertes Dienstleistungs-Bestell-System - eLab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erfassung im Internet bzw.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tragsbearbeitung im SAP durch </a:t>
            </a:r>
            <a:r>
              <a:rPr b="1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berichte und Ergebnisse im SAP und im Intranet/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 und Erlöse von Dienstleistungen im e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mmdatenpflege im e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2B-Kopp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ordnung techn.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3232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015-B55F-4D13-8AC6-6A68DE3A2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und -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austausch mittels BMEcat (X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 im SAP R/3 und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-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zneimitteldatenbank (ABDA) im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l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883-27EF-469D-BDAB-F8A604466C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9A0-2F19-4271-8198-99B97A99F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56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57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63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69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75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81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87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93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99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23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35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41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47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166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172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189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05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15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02280" y="3143160"/>
              <a:ext cx="2941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Arial"/>
                </a:rPr>
                <a:t>SAP R/3,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dd-Ons u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eb-Applikat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2b2b2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b2b2b2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262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269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7621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s SAP R/3-System, kundenindividuelle Add-ons und Web-Lös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178-01F1-4958-9FD0-602EE15FA2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4AC-8FC0-450D-B977-3C8E64B03E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D69-F746-4C61-8709-97AE8B98B2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CF3-E1A6-4F9B-9FB4-DDB9043EAD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3-17T13:52:57Z</dcterms:modified>
  <cp:revision>201</cp:revision>
  <dc:subject/>
  <dc:title>Kein Folientitel</dc:title>
</cp:coreProperties>
</file>