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682440"/>
            <a:ext cx="8456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24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4040" y="129528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3160" y="129528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68244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4040" y="368244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3160" y="3682440"/>
            <a:ext cx="2722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84564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240" y="368244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240" y="1295280"/>
            <a:ext cx="412668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682440"/>
            <a:ext cx="8456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914400"/>
            <a:ext cx="84582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6248520"/>
            <a:ext cx="9144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9880" y="6400800"/>
            <a:ext cx="13874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28800" y="6400800"/>
            <a:ext cx="14479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5880" y="6400800"/>
            <a:ext cx="1295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.03.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01000" y="6400800"/>
            <a:ext cx="8380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456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4920" y="1295280"/>
            <a:ext cx="8456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539"/>
              </a:spcBef>
              <a:buClr>
                <a:srgbClr val="ff0000"/>
              </a:buClr>
              <a:buFont typeface="Wingdings" charset="2"/>
              <a:buChar char="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53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44720" indent="-228600">
              <a:spcBef>
                <a:spcPts val="53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36376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36376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36376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Strategie der </a:t>
            </a: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3000"/>
              </a:lnSpc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Peter Späth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GmbH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nbach, den 19.03.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87"/>
              </a:spcBef>
              <a:buNone/>
              <a:tabLst>
                <a:tab algn="l" pos="0"/>
                <a:tab algn="l" pos="534960"/>
                <a:tab algn="l" pos="1449360"/>
                <a:tab algn="l" pos="2363760"/>
                <a:tab algn="l" pos="3278160"/>
                <a:tab algn="l" pos="4192560"/>
                <a:tab algn="l" pos="5106960"/>
                <a:tab algn="l" pos="6021360"/>
                <a:tab algn="l" pos="6935760"/>
                <a:tab algn="l" pos="7850160"/>
                <a:tab algn="l" pos="8764560"/>
                <a:tab algn="l" pos="967896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neue Technologi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84440" y="2482920"/>
            <a:ext cx="544356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bindung zum SAP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74680" y="1871640"/>
            <a:ext cx="63435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netzung als ein Spiegel unserer Gesellschaft</a:t>
            </a:r>
            <a:br>
              <a:rPr sz="2200"/>
            </a:br>
            <a:br>
              <a:rPr sz="22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ie Vernetzung ist nicht nur ein technokratisches Phänomen !</a:t>
            </a:r>
            <a:br>
              <a:rPr sz="24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pra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Schri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Telegra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Telef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We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elektronische Patientenakt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Problem der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ehrfachdiagnose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Vernetzung von medizinischen und pharmakologische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formationen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Rolle d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othekers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siert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duktket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upply Ch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Softwaredesig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el - View - Contro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chem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dächtn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MODEL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ik (Sprechen)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orik (Höre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VIEW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t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 Softwaredesig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el - View - Contro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chem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icher (mit Schem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MODEL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tat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VIEW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U/Softw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CONTROLL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We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ken in System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587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 fes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zessschem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öglich da:</a:t>
            </a:r>
            <a:br>
              <a:rPr sz="2000"/>
            </a:br>
            <a:br>
              <a:rPr sz="2000"/>
            </a:b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Unser Denken über Systeme ist eine Spiegelung unseres Selbstverständnisses, ingenieurs-mässige Wissenschaften sind an der Materie orientie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We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ger Kundenkontakt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eit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or 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dividue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stimm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Mensch ist das Maß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timmung mit dem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ndbenutz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flegepersona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meinsames Ziel: bessere Versorgung d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ti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Web</a:t>
            </a:r>
            <a:br>
              <a:rPr sz="2200"/>
            </a:b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e IT-Luftschlösser und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ndards</a:t>
            </a:r>
            <a:br>
              <a:rPr sz="2200"/>
            </a:b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lehnung an SAP, aber mit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orfilteru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Vorgrif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r Erfolg von SAP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umfassen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W-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monolithis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W-Lös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tes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Bera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Net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er Kunden-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ontak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ßangeleg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chulun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ilte Lösunge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n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-mail, Telnet, X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prietä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tzwerklös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ient-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Architekt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e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seine Protoko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(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zentral verteilt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not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omponen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gendwann in der Zukunft: Di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otale Vernetzu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ySAP und NetWeav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ufweic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s monolithischen Konzep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g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und mit Fremdsystemen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wicklung neuer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ommunik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Komponenten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Jav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X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r Geschich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wConsulting meets Web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 Kundenwunsch: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orgelager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entmilitarisiertes) Syste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ieg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Datenban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enrechner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hne zusätzl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ur Geschichte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Webseiten kommunizieren mit einem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eb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HTML und PH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Webseiten kommunizieren mit einem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wendungs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HTML und J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dule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webStationsanforderungArzneimitt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webPatientenAbgab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5680" indent="-382680">
              <a:spcBef>
                <a:spcPts val="437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jwebArzneimittelbestellung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WebAccess-Produktpalet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-376200">
              <a:lnSpc>
                <a:spcPct val="93000"/>
              </a:lnSpc>
              <a:spcBef>
                <a:spcPts val="53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382320">
              <a:spcBef>
                <a:spcPts val="488"/>
              </a:spcBef>
              <a:buClr>
                <a:srgbClr val="ff0000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alte (nicht veraltete!) Technologi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68600" y="2482920"/>
            <a:ext cx="54720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Jochen Winkler</cp:lastModifiedBy>
  <dcterms:modified xsi:type="dcterms:W3CDTF">2003-03-15T20:20:02Z</dcterms:modified>
  <cp:revision>1</cp:revision>
  <dc:subject/>
  <dc:title>Web-Strategie der jwConsulting</dc:title>
</cp:coreProperties>
</file>