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682080"/>
            <a:ext cx="8454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5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520" y="1295280"/>
            <a:ext cx="4125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682080"/>
            <a:ext cx="4125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520" y="3682080"/>
            <a:ext cx="4125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2232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3680" y="1295280"/>
            <a:ext cx="272232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440" y="1295280"/>
            <a:ext cx="272232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682080"/>
            <a:ext cx="272232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3680" y="3682080"/>
            <a:ext cx="272232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440" y="3682080"/>
            <a:ext cx="272232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4549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49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59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520" y="1295280"/>
            <a:ext cx="41259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4549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5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520" y="1295280"/>
            <a:ext cx="41259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682080"/>
            <a:ext cx="4125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59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520" y="1295280"/>
            <a:ext cx="4125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520" y="3682080"/>
            <a:ext cx="4125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5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520" y="1295280"/>
            <a:ext cx="4125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682080"/>
            <a:ext cx="845496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914400"/>
            <a:ext cx="84582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248520"/>
            <a:ext cx="914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4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9880" y="6400800"/>
            <a:ext cx="13874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8800" y="6400800"/>
            <a:ext cx="14479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400800"/>
            <a:ext cx="1295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01000" y="6400800"/>
            <a:ext cx="8380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454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4549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382680">
              <a:spcBef>
                <a:spcPts val="524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4328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6232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6232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62320" indent="-228600">
              <a:spcBef>
                <a:spcPts val="524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Strategie der </a:t>
            </a: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3000"/>
              </a:lnSpc>
              <a:spcBef>
                <a:spcPts val="575"/>
              </a:spcBef>
              <a:buNone/>
              <a:tabLst>
                <a:tab algn="l" pos="0"/>
                <a:tab algn="l" pos="7128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128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128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128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128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128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nbach, den 19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71280"/>
                <a:tab algn="l" pos="520560"/>
                <a:tab algn="l" pos="969840"/>
                <a:tab algn="l" pos="1419120"/>
                <a:tab algn="l" pos="1868400"/>
                <a:tab algn="l" pos="2317680"/>
                <a:tab algn="l" pos="2766960"/>
                <a:tab algn="l" pos="3216240"/>
                <a:tab algn="l" pos="3665520"/>
                <a:tab algn="l" pos="4114800"/>
                <a:tab algn="l" pos="4564080"/>
                <a:tab algn="l" pos="5013360"/>
                <a:tab algn="l" pos="5462640"/>
                <a:tab algn="l" pos="5911920"/>
                <a:tab algn="l" pos="6361200"/>
                <a:tab algn="l" pos="6810480"/>
                <a:tab algn="l" pos="7259760"/>
                <a:tab algn="l" pos="7709040"/>
                <a:tab algn="l" pos="8158320"/>
                <a:tab algn="l" pos="86076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chfunktion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n der Theorie zur Praxis</a:t>
            </a:r>
            <a:br>
              <a:rPr sz="2200"/>
            </a:br>
            <a:br>
              <a:rPr sz="2200"/>
            </a:br>
            <a:r>
              <a:rPr b="1" i="1" lang="en-US" sz="2200" spc="-1" strike="noStrike">
                <a:solidFill>
                  <a:srgbClr val="00ae00"/>
                </a:solidFill>
                <a:latin typeface="Palatino Linotype"/>
              </a:rPr>
              <a:t>Technologie</a:t>
            </a:r>
            <a:br>
              <a:rPr sz="2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Acces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ae00"/>
                </a:solidFill>
                <a:latin typeface="Palatino Linotype"/>
              </a:rPr>
              <a:t>Endprodukt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web – Produktpalette</a:t>
            </a:r>
            <a:br>
              <a:rPr sz="2800"/>
            </a:br>
            <a:br>
              <a:rPr sz="2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m Beispiel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jwebStationsanforderungArzneimitt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57240" y="2946240"/>
            <a:ext cx="2192400" cy="855720"/>
          </a:xfrm>
          <a:prstGeom prst="line">
            <a:avLst/>
          </a:prstGeom>
          <a:ln w="1080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Freigab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87400" y="1901880"/>
            <a:ext cx="7570800" cy="43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85960" y="1541520"/>
            <a:ext cx="75675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85960" y="1541520"/>
            <a:ext cx="75675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jweb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“Warenkorblösung”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382680">
              <a:spcBef>
                <a:spcPts val="47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Vereinfacht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arenkorb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382680">
              <a:spcBef>
                <a:spcPts val="47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usbau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fähi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nutzerführung / Schulungsaufwand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382680">
              <a:spcBef>
                <a:spcPts val="47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xime: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Integrati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den Arbeitsablauf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382680">
              <a:spcBef>
                <a:spcPts val="47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infache,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ogisch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nutzerführu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85960" y="1541520"/>
            <a:ext cx="75675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85960" y="1541520"/>
            <a:ext cx="75675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85960" y="1541520"/>
            <a:ext cx="75675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85960" y="1541520"/>
            <a:ext cx="756756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ondere Funktion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382680">
              <a:spcBef>
                <a:spcPts val="47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tier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382680">
              <a:spcBef>
                <a:spcPts val="47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zte Bestell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382680">
              <a:spcBef>
                <a:spcPts val="47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tlis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382680">
              <a:spcBef>
                <a:spcPts val="47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ondere Funktion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m Schlu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ue Entwicklungen: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FG/DRG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Vision: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Elektronische Patientenak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jweb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ma Transaktionssicherhei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382680">
              <a:spcBef>
                <a:spcPts val="47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 bedeute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ak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icherheit?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sammenspiel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Gerade bearbeitete Daten (mehrere Sitzungen?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aten in der Datenbank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382680">
              <a:spcBef>
                <a:spcPts val="47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fach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bu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aktionsmod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 zentraler, aktueller Bele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uchung mit SAP erst nach Frei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3614760"/>
            <a:ext cx="1625400" cy="1440"/>
          </a:xfrm>
          <a:prstGeom prst="line">
            <a:avLst/>
          </a:prstGeom>
          <a:ln w="3600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85960" y="1901880"/>
            <a:ext cx="7565760" cy="43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93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5760" cy="432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hentifizierung des Erfasser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sches Einlesen gescannter Position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382680">
              <a:spcBef>
                <a:spcPts val="47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annerdaten, di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vor dem Log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rfasst wurden, werden automatisch in die Anforderung übernommen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382680">
              <a:spcBef>
                <a:spcPts val="476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sätzlich können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achträglic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gescannte Positionen jederzeit und überschreibend per Knopfdruck eingelesen werden.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stellung eines Bestellvorg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93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Zentrum: die Bestellliste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85960" y="1900080"/>
            <a:ext cx="75675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Jochen Winkler</cp:lastModifiedBy>
  <dcterms:modified xsi:type="dcterms:W3CDTF">2003-03-16T18:11:09Z</dcterms:modified>
  <cp:revision>1</cp:revision>
  <dc:subject/>
  <dc:title>Web-Strategie der jwConsulting</dc:title>
</cp:coreProperties>
</file>