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28880" y="6905520"/>
            <a:ext cx="1439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BF29D92-033A-4F21-975B-9073B05CF0C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kataloge für Klinik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auf dem Web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bei R/3 Master 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ynchronisation erfolgt automatis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Produkt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BMEcat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2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bmecat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- Materialklassifik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ndard </a:t>
            </a: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eCl@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m Institut der deutschen Wirtschaf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ildet Beschaffungsmärkte für Einkäufer ab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unterstützt Ingenieure bei der Entwicklung, Planung und Instandhaltu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openTRANS und BMEc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nhal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eit Mai 20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ierstufiger hierarchischer Klassifikationsschlüssel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chlagwortregister mit 14 000 Begriff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Merkmalsleisten zur Beschreibung von Materialien und Dienstleistung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eclass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– Austausch Geschäftsdokum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ff3535"/>
                </a:solidFill>
                <a:latin typeface="Arial"/>
              </a:rPr>
              <a:t>openTRANS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(Version 1.0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von Bundesverband für Materialwirtschaft und Einkauf und vielen großen Firme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ist kompatibel zu BMEcat und eCL@s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3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iert auf XML Technologi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374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Umfassende Informationen unter http://www.opentrans.d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25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895480" y="1219320"/>
          <a:ext cx="495324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19320"/>
                    <a:ext cx="495324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914256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fahrungen im eLab-Projekt (</a:t>
            </a:r>
            <a:r>
              <a:rPr b="0" lang="de-DE" sz="2000" spc="-1" strike="noStrike">
                <a:solidFill>
                  <a:srgbClr val="ff3300"/>
                </a:solidFill>
                <a:latin typeface="Braggadocio"/>
              </a:rPr>
              <a:t>jw</a:t>
            </a:r>
            <a:r>
              <a:rPr b="0" lang="de-DE" sz="2000" spc="-1" strike="noStrike">
                <a:solidFill>
                  <a:srgbClr val="ffcc00"/>
                </a:solidFill>
                <a:latin typeface="Braggadocio"/>
              </a:rPr>
              <a:t>eb</a:t>
            </a:r>
            <a:r>
              <a:rPr b="1" lang="de-DE" sz="2400" spc="-1" strike="noStrike">
                <a:solidFill>
                  <a:srgbClr val="0066ff"/>
                </a:solidFill>
                <a:latin typeface="Arial"/>
              </a:rPr>
              <a:t>Auftragslab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40600" y="1673280"/>
            <a:ext cx="1650960" cy="8478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04240" y="1843200"/>
            <a:ext cx="178272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unde (K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93680" y="3316320"/>
            <a:ext cx="2514600" cy="31971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09720" y="4791240"/>
            <a:ext cx="35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93680" y="4275000"/>
            <a:ext cx="3009600" cy="496440"/>
            <a:chOff x="3793680" y="4275000"/>
            <a:chExt cx="3009600" cy="496440"/>
          </a:xfrm>
        </p:grpSpPr>
        <p:sp>
          <p:nvSpPr>
            <p:cNvPr id="103" name=""/>
            <p:cNvSpPr/>
            <p:nvPr/>
          </p:nvSpPr>
          <p:spPr>
            <a:xfrm>
              <a:off x="3794040" y="432432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3680" y="4275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0880" y="4343400"/>
              <a:ext cx="246240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ben - Liefer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87680" y="4577400"/>
            <a:ext cx="16412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28560" y="4791240"/>
            <a:ext cx="23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36600" y="4545000"/>
            <a:ext cx="3636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6240" y="451008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406520" y="2305080"/>
            <a:ext cx="0" cy="9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6520" y="2305080"/>
            <a:ext cx="5710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85400" y="1819440"/>
            <a:ext cx="385200" cy="496440"/>
            <a:chOff x="3785400" y="1819440"/>
            <a:chExt cx="385200" cy="496440"/>
          </a:xfrm>
        </p:grpSpPr>
        <p:sp>
          <p:nvSpPr>
            <p:cNvPr id="113" name=""/>
            <p:cNvSpPr/>
            <p:nvPr/>
          </p:nvSpPr>
          <p:spPr>
            <a:xfrm>
              <a:off x="3786120" y="1868400"/>
              <a:ext cx="365040" cy="4118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5400" y="181944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838080" y="1752480"/>
            <a:ext cx="630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60199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03520" y="5707440"/>
            <a:ext cx="164304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49200" y="5699160"/>
            <a:ext cx="365400" cy="411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48840" y="5664240"/>
            <a:ext cx="38520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14840" y="2838600"/>
            <a:ext cx="501480" cy="496440"/>
            <a:chOff x="3714840" y="2838600"/>
            <a:chExt cx="501480" cy="496440"/>
          </a:xfrm>
        </p:grpSpPr>
        <p:sp>
          <p:nvSpPr>
            <p:cNvPr id="121" name=""/>
            <p:cNvSpPr/>
            <p:nvPr/>
          </p:nvSpPr>
          <p:spPr>
            <a:xfrm>
              <a:off x="3790800" y="2838600"/>
              <a:ext cx="425520" cy="43128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4840" y="2838600"/>
              <a:ext cx="47664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543800" y="251460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884320"/>
            <a:ext cx="2573640" cy="49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ftragneh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934320" y="4114800"/>
            <a:ext cx="1255680" cy="1036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79480" y="3758040"/>
            <a:ext cx="1517760" cy="4053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- 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37680" y="3705120"/>
            <a:ext cx="385200" cy="496440"/>
            <a:chOff x="1237680" y="3705120"/>
            <a:chExt cx="385200" cy="496440"/>
          </a:xfrm>
        </p:grpSpPr>
        <p:sp>
          <p:nvSpPr>
            <p:cNvPr id="128" name=""/>
            <p:cNvSpPr/>
            <p:nvPr/>
          </p:nvSpPr>
          <p:spPr>
            <a:xfrm>
              <a:off x="1238400" y="3740040"/>
              <a:ext cx="363240" cy="41004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37680" y="370512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1414440" y="36036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666880" y="274320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2895480"/>
            <a:ext cx="199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4191120"/>
            <a:ext cx="0" cy="38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4952880"/>
            <a:ext cx="0" cy="77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1600" y="1828800"/>
            <a:ext cx="26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ftragsbestät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219320"/>
            <a:ext cx="1101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k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809160" y="1143000"/>
            <a:ext cx="385200" cy="522000"/>
            <a:chOff x="3809160" y="1143000"/>
            <a:chExt cx="385200" cy="522000"/>
          </a:xfrm>
        </p:grpSpPr>
        <p:sp>
          <p:nvSpPr>
            <p:cNvPr id="140" name=""/>
            <p:cNvSpPr/>
            <p:nvPr/>
          </p:nvSpPr>
          <p:spPr>
            <a:xfrm>
              <a:off x="3809880" y="1198800"/>
              <a:ext cx="365040" cy="466200"/>
            </a:xfrm>
            <a:prstGeom prst="ellipse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160" y="114300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8458200" y="251460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381880" y="2514240"/>
            <a:ext cx="0" cy="30481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09520" y="4952880"/>
            <a:ext cx="3644280" cy="496440"/>
            <a:chOff x="3809520" y="4952880"/>
            <a:chExt cx="3644280" cy="496440"/>
          </a:xfrm>
        </p:grpSpPr>
        <p:sp>
          <p:nvSpPr>
            <p:cNvPr id="145" name=""/>
            <p:cNvSpPr/>
            <p:nvPr/>
          </p:nvSpPr>
          <p:spPr>
            <a:xfrm>
              <a:off x="3809880" y="5002200"/>
              <a:ext cx="362160" cy="411120"/>
            </a:xfrm>
            <a:prstGeom prst="ellipse">
              <a:avLst/>
            </a:prstGeom>
            <a:solidFill>
              <a:srgbClr val="33cc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9520" y="4952880"/>
              <a:ext cx="385200" cy="496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c981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5640" y="5021280"/>
              <a:ext cx="3098160" cy="405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b8b8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040" bIns="50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gebnis - Übermittl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>
            <a:off x="3580920" y="5562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Anzeige im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fahrungen im eLab-Projekt – Pflege im S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91040" y="292896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81160" y="1757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81160" y="17287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76480" y="175248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4759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14624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?xml version="1.0" encoding="UTF-8" ?&gt;  &lt;!-- edited with XML Spy v2.5 NT - http://www.xmlspy.com   --&gt;  &lt;!-- DOCTYPE BMECAT SYSTEM "http://www.bmecat.org/bmecat/1.2/bmecat_new_catalog_1_2.dtd"   --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BMECAT version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&lt;HEAD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&lt;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LANGUAG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LANGUAG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24sd34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VERSION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VERSION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ATALOG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istungskatalo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&lt;SUPPLI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fracor GmbH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ADDRESS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upplier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nalytisch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chnische Servic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TREE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aul-Baumann-Str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TREE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ZIP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5764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ZIP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ITY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arl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ITY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COUNTRY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OUNTRY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HEADER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T_NEW_CATALOG prev_version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19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CATALOG_GROUP_SYSTEM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Weltkatalo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hysikalisch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toffda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4588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 u="sng">
                <a:solidFill>
                  <a:srgbClr val="ffde69"/>
                </a:solidFill>
                <a:uFillTx/>
                <a:latin typeface="Arial"/>
              </a:rPr>
              <a:t>-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lektronen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(REM, TEM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chtmikroskopi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it zugehöriger Bildverarbeit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hysikalisch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en, Stoffda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&lt;CATALOG_STRUCTURE type="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GROUP_NAME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iskositäte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GROUP_NAME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PARENT_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PAREN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STRUCTUR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CATALOG_GROUP_SYSTEM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A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990418612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A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     &lt;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SHOR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X-Analyse, quantitativ (standardlo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)&lt;/DESCRIPTION_SHOR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LONG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DX-Analyse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ativ (standardlos) Langtex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LONG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&lt;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SUPPLIER_AID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990418629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SUPPLIER_A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          &lt;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SHORT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-Standarduntersuchung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SHORT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ESCRIPTION_LONG&gt;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REM-Standarduntersuchung, Standardpräparation, 3 Aufnahmen, Kurzbefund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DESCRIPTION_LONG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_DETAILS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MEcat – Beispiel (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1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2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   &lt;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RT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904186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CATALOG_GROUP_ID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CATALOG_GROUP_ID&gt;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RTICLE_TO_CATALOGGROUP_MAP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_NEW_CATALOG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BMECAT&gt;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A - Arzneimitteldatenba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BDA – Produktdatenkatalog enthält Daten zu ca. 300.00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utschen und ausländischen Arzneimittel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 den Produktdaten gehören u.a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harmazentralnummer (packungs- und lieferantenabhängi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els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kstoff, Dosierung, Darreichungs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ungsbeil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eferanteninformationen (incl. Adresse, Telefon, Email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taillierte Informationen unter http://www.abda.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ahrungen bei Arzneimittelanforder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leichtern die Suche nach Produkten, z.B. über scannerlesbaren Barcode oder Matchcodeverfahr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ermöglichen die maschinelle Bestellung, da sie alle Produkt- und Lieferanteninformationen enthal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können eine Substitution auf gelistete 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sprechend einer Regel (Merkmalsleiste, gleiche Merkmal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 nach Wirkstoff, Dosierung, Darreichungsform, durchführ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 reduzieren oder erleichtern erheblich die manuelle R/3 Materialstammpfle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aloge, die nur vom Lieferanten gepflegt werden, reduzieren die Fehlerrate und vermeiden Mehrfacherfas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449604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Produk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BMEc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im eLab Proje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AB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Erfahrungen bei Arzneimitte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 mehrjährige Erfahrung be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ntegration von Produktkatalogen in SAP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ynchronisation von Materialstämmen und Produktdaten zwischen R/3 und Webserver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Entwicklung von Tools zur Pflege von Produktdaten und Materialstämmen im R/3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Austausch von Geschäftsdokumenten über openTRAN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m Dauerbetrieb von praxisrelevanten Lös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bei der Einbeziehung von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professionelle Beratung und Projektarbeit in der Chemie, Pharmazie und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 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ktkataloge für Klinik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r>
              <a:rPr b="0" lang="de-DE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nkfurt, den 19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enthalten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beschreibungen (incl. Dokumen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kthierarch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feranten- und Kundeninforma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s gibt Lieferanten-, Kunden- und Weltkatalo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uche, -auswahl und -verglei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brauchsinformationen über Produkte (Gebrauchsanweisungen, Bedienungshinweise, Packungsbeilagen, Anwendungs-dokumentation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tausch von Geschäftsdokumenten (Anforderungen, Bestellungen, Lieferavi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forderungen (Spezifikationen, Ausschreibungen, Pflichtenhefte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Produktkataloge können sowohl vom Menschen als auch vom Rechn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ff3535"/>
                </a:solidFill>
                <a:latin typeface="Arial"/>
              </a:rPr>
              <a:t>gelesen und verarbeitet we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für brauche ich eine Materialklassifikatio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ifikationen dienen zur Suche, zum Vergleich und zu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wahl üb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klass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malsle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lagw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4520" y="4251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ch welchem Protokoll erfolgt der Produktdatenaustausch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meist verwendeten Protokolle im WWW sind http, ftp und smt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XML ist die Basis für den standardisierten Datenaustausch zwischen   Geschäftseinheiten, Firmen und öffentlichen Einrich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MEcat und ABDA sind Beispiele für allgemeine bzw. brachenspezifische Produktdaten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erfolgt der Produktdatentransport ins R/3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eriodischer Datenträgeraustaus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Business Connecto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WW - Webserver - R/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ktdaten und Materialstämme im R/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Materialstam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auptsächlich steuernde Funktion für Logist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beschreibung (aber auch Preis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0">
              <a:spcBef>
                <a:spcPts val="400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.h. folgende Varianten sind mögli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R/3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datenbeschreibung durch Dokumente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nur Produktdaten (z.B. bei großen Katalog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terialstammgenerierung bei Bedarf mögli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weder R/3 Materialstamm noch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ine Bestandsführung, textuelle Banf / Bestell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 hat R/3 Materialstamm und Produktda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rangregel notwendig (z.B. für Preisermittlu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06T11:02:19Z</dcterms:modified>
  <cp:revision>661</cp:revision>
  <dc:subject/>
  <dc:title>Kein Folientitel</dc:title>
</cp:coreProperties>
</file>