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439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F2D9C7E-DB03-41BA-A5C9-6F2E5D9264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 für Klini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1462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?xml version="1.0" encoding="UTF-8" ?&gt;  &lt;!-- edited with XML Spy v2.5 NT - http://www.xmlspy.com   --&gt;  &lt;!-- DOCTYPE BMECAT SYSTEM "http://www.bmecat.org/bmecat/1.2/bmecat_new_catalog_1_2.dtd"   --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BMECAT 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&lt;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LANGUAG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LANGUAG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4sd34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VERSION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VERSION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istungs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racor Gmb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ADDRESS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alytisc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sche Servic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TREE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ul-Baumann-St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TREE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ZIP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576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ZIP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IT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IT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UNTR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_NEW_CATALOG prev_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elt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458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 u="sng">
                <a:solidFill>
                  <a:srgbClr val="ffde69"/>
                </a:solidFill>
                <a:uFillTx/>
                <a:latin typeface="Arial"/>
              </a:rPr>
              <a:t>-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lektronen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REM, TEM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cht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t zugehöriger Bildverarbeit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, 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skositä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, quantitativ (standardlo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ativ (standardlos) Langtex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, Standardpräparation, 3 Aufnahmen, Kurzbefund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_NEW_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MECAT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 für Klini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und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06T11:02:19Z</dcterms:modified>
  <cp:revision>661</cp:revision>
  <dc:subject/>
  <dc:title>Kein Folientitel</dc:title>
</cp:coreProperties>
</file>