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877B6F4-F216-47C7-81D4-0238471D4C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enabgabe für TFG und D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906120" cy="43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90612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46240"/>
            <a:ext cx="9906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nrecherche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lgende Selektionsoptionen/Parameter sind vorgeseh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egnummer /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ich / Kli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/ Kosten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nummer / Name / Vor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num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abedatum/Z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ordn. Ar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nummer / PZ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ennum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s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sdatum /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darstellung als komfortables Recherche-Tool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0160" y="2801880"/>
            <a:ext cx="9489960" cy="334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6880" y="5681520"/>
            <a:ext cx="917640" cy="107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32520" y="1649520"/>
            <a:ext cx="1052640" cy="1726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76520" y="3665520"/>
            <a:ext cx="3529080" cy="20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6520" y="281160"/>
            <a:ext cx="40896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buchung „Station an Statio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354480"/>
            <a:ext cx="990612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09520"/>
            <a:ext cx="5457960" cy="304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entgeltabbild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109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Erfassung angeborener / erworbener Hämostasestörungen werden zu den relevanten Arzneimittel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Erfassungsmaske umgesetz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kreuz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ämostasestö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iobutton: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ren / erwor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D1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81960" y="2585880"/>
            <a:ext cx="2838240" cy="288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5465880"/>
            <a:ext cx="9705960" cy="96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ährliche Meldepflicht – Paul-Ehrlich-Instit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8929800" cy="324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Bundesamt für Sera und Impfstoffe erwartet jährlich die Erbringung des Fragebogens zum Verbrauch von Blutprodukten sowie von gentechnisch hergestellten Plasmaproteinen zur Behandlung von Hömostasestör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wesentlichen Informationen sind im Erfassungsbeleg zum TFG erfasst. Mittels geeigneter Listselektionen lassen sich die erforderlichen Verbrauchsinformationen erstell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40520" y="40258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enabgabe für TFG und D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325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bankmode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der Patientenbezogenen Chargen-Dokumentation im SAP &amp;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ierfähigkeit von Abgaben “Station an Statio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ist Patientenbezogenen Chargen-Dokument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stellung eines Add-on zur Durchführung der Chargendokumentation nach TFG sowie der Patientenbezogenen Arzneimittelabgabe lt. DR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zu gehör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Patientenbezogenen Chargendokumentation laut 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unterstützung durch spezielle Suchhilfen sowie Eingabe über Barcodelesegeräte; Materialsuche über PZN-Nummer;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namentlich oder über IS-H-Patient-Nummer / -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Recherchefunktion über alle Feldeinträge des Buchungssat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bei künftiger Patientenabrechnung (lt. DR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chen Nutzen hat man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öhere Qualitä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bind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ückruf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Sicherhe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gängige Chargenverfol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ückenlose Kontrolle und Dokumentation und Archivierung der Abläufe bei der chargenpflichtigen Patientenabga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einfachte Arbeitsabläuf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 werden nur einmal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mittels Barcode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8880" y="2585880"/>
            <a:ext cx="6553440" cy="3456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al / Chargenp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960" y="2874960"/>
            <a:ext cx="4103640" cy="28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16880" y="200988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5960" y="5105520"/>
            <a:ext cx="1079640" cy="1023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30680" y="2874960"/>
            <a:ext cx="1224000" cy="28083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-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48520" y="136224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81600" y="424188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08880" y="3089160"/>
            <a:ext cx="1800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08880" y="4673520"/>
            <a:ext cx="1584360" cy="79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9240" y="4457880"/>
            <a:ext cx="1800360" cy="115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21600" y="3881520"/>
            <a:ext cx="1008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B oder B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553600" y="1865160"/>
            <a:ext cx="1101600" cy="172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14680" y="4675320"/>
            <a:ext cx="719280" cy="86364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3600" y="4962600"/>
            <a:ext cx="1440000" cy="50472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3960" y="4457880"/>
            <a:ext cx="100800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-Poo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65600" y="4962600"/>
            <a:ext cx="792000" cy="50472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73600" y="4890960"/>
            <a:ext cx="792360" cy="50508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05240" y="5105520"/>
            <a:ext cx="1368360" cy="144360"/>
          </a:xfrm>
          <a:prstGeom prst="leftRightArrow">
            <a:avLst>
              <a:gd name="adj1" fmla="val 50000"/>
              <a:gd name="adj2" fmla="val 1886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5240" y="3522600"/>
            <a:ext cx="2736720" cy="71928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09960" y="3954600"/>
            <a:ext cx="142920" cy="576000"/>
          </a:xfrm>
          <a:prstGeom prst="upDownArrow">
            <a:avLst>
              <a:gd name="adj1" fmla="val 50000"/>
              <a:gd name="adj2" fmla="val 80231"/>
            </a:avLst>
          </a:prstGeom>
          <a:solidFill>
            <a:srgbClr val="a7b5c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46320" y="3954600"/>
            <a:ext cx="142920" cy="576000"/>
          </a:xfrm>
          <a:prstGeom prst="upDownArrow">
            <a:avLst>
              <a:gd name="adj1" fmla="val 50000"/>
              <a:gd name="adj2" fmla="val 80231"/>
            </a:avLst>
          </a:prstGeom>
          <a:solidFill>
            <a:srgbClr val="a7b5c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-Datenbank ist Ma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325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Patientenbezogenen Chargen-Dokumentation lt. 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unterstützung durch spezielle Suchhilfen sowie Eingabe über Barcodelesegeräte; Materialsuche über PZN-Nummer;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namentlich oder über IS-H-Patient-Nummer / -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Recherchefunktion über alle Feldeinträge des Buchungssat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bei künftiger Patientenabrechnung (lt. DR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6160" y="1146240"/>
            <a:ext cx="82821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nsu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00160" y="1768320"/>
            <a:ext cx="5905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53240" y="209160"/>
            <a:ext cx="3152880" cy="808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6608880" cy="3556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594240"/>
            <a:ext cx="9906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18T09:12:37Z</dcterms:modified>
  <cp:revision>670</cp:revision>
  <dc:subject/>
  <dc:title>Kein Folientitel</dc:title>
</cp:coreProperties>
</file>