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9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7588" cy="7621588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7256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64240" y="1439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7256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64240" y="421164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6640" y="4211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6640" y="143964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21164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30360" indent="-38736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092320" indent="-37152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53368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928880" y="6905520"/>
            <a:ext cx="18828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ristian Ba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560" y="7086600"/>
            <a:ext cx="13845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1020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3827E57D-42A5-4BDB-984E-8366C69FB26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62320" y="7086600"/>
            <a:ext cx="6897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.03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ientenabgabe für TFG und DR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tian Baier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19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37880"/>
            <a:ext cx="9906120" cy="431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ation im WE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676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52320"/>
            <a:ext cx="9906120" cy="69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ation im WE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76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146240"/>
            <a:ext cx="990612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nrecherche im S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lgende Selektionsoptionen/Parameter sind vorgesehe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legnummer / Po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eich / Klin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on / Kostenste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ientennummer / Name / Vor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llnumm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gabedatum/Ze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ordn. Arz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nummer / PZ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gennumm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merkungst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ssungsdatum / Erfas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darstellung als komfortables Recherche-Tool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0160" y="2801880"/>
            <a:ext cx="9489960" cy="3340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76880" y="5681520"/>
            <a:ext cx="917640" cy="1079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032520" y="1649520"/>
            <a:ext cx="1052640" cy="1726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76520" y="3665520"/>
            <a:ext cx="3529080" cy="20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6520" y="281160"/>
            <a:ext cx="4089600" cy="5918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mbuchung „Station an Station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354480"/>
            <a:ext cx="9906120" cy="3625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09520"/>
            <a:ext cx="5457960" cy="3046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nderentgeltabbildu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910908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r Erfassung angeborener / erworbener Hämostasestörungen werden zu den relevanten Arzneimittel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der Erfassungsmaske umgesetz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kreuzfeld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ämostasestö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diobutton: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geboren / erworb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xtfeld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CD10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51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xtfeld: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urzbeschreib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681960" y="2585880"/>
            <a:ext cx="2838240" cy="2884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5465880"/>
            <a:ext cx="9705960" cy="965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ährliche Meldepflicht – Paul-Ehrlich-Instit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5440" y="1433520"/>
            <a:ext cx="8929800" cy="3240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Bundesamt für Sera und Impfstoffe erwartet jährlich die Erbringung des Fragebogens zum Verbrauch von Blutprodukten sowie von gentechnisch hergestellten Plasmaproteinen zur Behandlung von Hömostasestörung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wesentlichen Informationen sind im Erfassungsbeleg zum TFG erfasst. Mittels geeigneter Listselektionen lassen sich die erforderlichen Verbrauchsinformationen erstell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40520" y="4025880"/>
            <a:ext cx="257508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991360" cy="3809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heitliches und übergreifendes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lle Integration im SAP R/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ung aller Vorteile eines integrierten Syste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ichte Bedienbarkeit durch auf den Prozess und User abgestimmte Screens und Abläuf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izientere Auftragsabwickl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ößere Transparenz in den Prozess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el anpassbar und erweiterb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b- und / oder R/3 basierte Speziallösungen entsprechend Ihrer Anforderunge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8880" y="1289160"/>
            <a:ext cx="8991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rmAutofit/>
          </a:bodyPr>
          <a:p>
            <a:pPr marL="387360" indent="-387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z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rteile für Ihr Unternehm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88520" y="2730240"/>
            <a:ext cx="8991720" cy="3849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87360" indent="-387360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Consulting hat Erfahrung im Umgang mit neuesten Web und SAP-Technologien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Nutzung von praxiserprobten Lösung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Umfangreiches Branchen-Know-How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Professionelle Beratung und Projektdurchführung in der Chemie, Pharmazie und Medizi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-387360"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Hohe Kundenzufriedenhei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7360" indent="0">
              <a:spcBef>
                <a:spcPts val="624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0520" y="1362240"/>
            <a:ext cx="770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en-US" sz="25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lting in Ihre Projekte einbezieh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ientenabgabe für TFG und DR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440000"/>
            <a:ext cx="9144000" cy="1938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istian Baier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au, den 19.03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36880" y="3594240"/>
            <a:ext cx="4121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6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932508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nbankmodel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ssung der Patientenbezogenen Chargen-Dokumentation im SAP &amp;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2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ditierfähigkeit von Abgaben “Station an Station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teile für das Unterneh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 ist Patientenbezogenen Chargen-Dokumenta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ZIEL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stellung eines Add-on zur Durchführung der Chargendokumentation nach TFG sowie der Patientenbezogenen Arzneimittelabgabe lt. DR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Dazu gehöre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ssung der Patientenbezogenen Chargendokumentation laut TF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unterstützung durch spezielle Suchhilfen sowie Eingabe über Barcodelesegeräte; Materialsuche über PZN-Nummer; Materialst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zuordnung namentlich oder über IS-H-Patient-Nummer / -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llständige Recherchefunktion über alle Feldeinträge des Buchungssatz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736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zuordnung bei künftiger Patientenabrechnung (lt. DR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lchen Nutzen hat man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39640"/>
            <a:ext cx="914400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tze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öhere Qualitä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ientenbind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ückrufaktion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ößere Sicherhei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chgängige Chargenverfolg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ückenlose Kontrolle und Dokumentation und Archivierung der Abläufe bei der chargenpflichtigen Patientenabga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einfachte Arbeitsabläuf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n werden nur einmal erfas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ssung mittels Barcodetechn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6019920"/>
            <a:ext cx="990720" cy="304560"/>
          </a:xfrm>
          <a:prstGeom prst="leftRightArrow">
            <a:avLst>
              <a:gd name="adj1" fmla="val 0"/>
              <a:gd name="adj2" fmla="val 162647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6019920"/>
            <a:ext cx="1843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5943600"/>
            <a:ext cx="2743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88880" y="2585880"/>
            <a:ext cx="6553440" cy="3456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erial / Chargenp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960" y="2874960"/>
            <a:ext cx="4103640" cy="28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16880" y="2009880"/>
            <a:ext cx="782640" cy="798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265960" y="5105520"/>
            <a:ext cx="1079640" cy="1023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530680" y="2874960"/>
            <a:ext cx="1224000" cy="2808360"/>
          </a:xfrm>
          <a:prstGeom prst="rect">
            <a:avLst/>
          </a:prstGeom>
          <a:solidFill>
            <a:srgbClr val="8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b-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48520" y="1362240"/>
            <a:ext cx="1584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81600" y="4241880"/>
            <a:ext cx="647640" cy="144360"/>
          </a:xfrm>
          <a:prstGeom prst="leftRightArrow">
            <a:avLst>
              <a:gd name="adj1" fmla="val 50000"/>
              <a:gd name="adj2" fmla="val 8931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608880" y="3089160"/>
            <a:ext cx="1800000" cy="1008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08880" y="4673520"/>
            <a:ext cx="1584360" cy="792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9240" y="4457880"/>
            <a:ext cx="1800360" cy="1152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1f1f"/>
                </a:solidFill>
                <a:latin typeface="Braggadocio"/>
              </a:rPr>
              <a:t>jw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othek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21600" y="3881520"/>
            <a:ext cx="10080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2B oder B2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553600" y="1865160"/>
            <a:ext cx="1101600" cy="1729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14680" y="4675320"/>
            <a:ext cx="719280" cy="863640"/>
          </a:xfrm>
          <a:prstGeom prst="can">
            <a:avLst>
              <a:gd name="adj" fmla="val 25000"/>
            </a:avLst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3600" y="4962600"/>
            <a:ext cx="1440000" cy="504720"/>
          </a:xfrm>
          <a:prstGeom prst="can">
            <a:avLst>
              <a:gd name="adj" fmla="val 25000"/>
            </a:avLst>
          </a:prstGeom>
          <a:solidFill>
            <a:srgbClr val="a7b5cb">
              <a:alpha val="68000"/>
            </a:srgbClr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93960" y="4457880"/>
            <a:ext cx="1008000" cy="1152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1f1f"/>
                </a:solidFill>
                <a:latin typeface="Braggadocio"/>
              </a:rPr>
              <a:t>jw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-Pool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65600" y="4962600"/>
            <a:ext cx="792000" cy="504720"/>
          </a:xfrm>
          <a:prstGeom prst="can">
            <a:avLst>
              <a:gd name="adj" fmla="val 25000"/>
            </a:avLst>
          </a:prstGeom>
          <a:solidFill>
            <a:srgbClr val="a7b5cb">
              <a:alpha val="68000"/>
            </a:srgbClr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73600" y="4890960"/>
            <a:ext cx="792360" cy="505080"/>
          </a:xfrm>
          <a:prstGeom prst="can">
            <a:avLst>
              <a:gd name="adj" fmla="val 25000"/>
            </a:avLst>
          </a:prstGeom>
          <a:solidFill>
            <a:srgbClr val="a7b5cb">
              <a:alpha val="68000"/>
            </a:srgbClr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05240" y="5105520"/>
            <a:ext cx="1368360" cy="144360"/>
          </a:xfrm>
          <a:prstGeom prst="leftRightArrow">
            <a:avLst>
              <a:gd name="adj1" fmla="val 50000"/>
              <a:gd name="adj2" fmla="val 1886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5240" y="3522600"/>
            <a:ext cx="2736720" cy="719280"/>
          </a:xfrm>
          <a:prstGeom prst="can">
            <a:avLst>
              <a:gd name="adj" fmla="val 25000"/>
            </a:avLst>
          </a:prstGeom>
          <a:solidFill>
            <a:srgbClr val="a7b5cb">
              <a:alpha val="68000"/>
            </a:srgbClr>
          </a:solidFill>
          <a:ln w="12600">
            <a:solidFill>
              <a:srgbClr val="0000ff"/>
            </a:solidFill>
            <a:miter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09960" y="3954600"/>
            <a:ext cx="142920" cy="576000"/>
          </a:xfrm>
          <a:prstGeom prst="upDownArrow">
            <a:avLst>
              <a:gd name="adj1" fmla="val 50000"/>
              <a:gd name="adj2" fmla="val 80231"/>
            </a:avLst>
          </a:prstGeom>
          <a:solidFill>
            <a:srgbClr val="a7b5cb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46320" y="3954600"/>
            <a:ext cx="142920" cy="576000"/>
          </a:xfrm>
          <a:prstGeom prst="upDownArrow">
            <a:avLst>
              <a:gd name="adj1" fmla="val 50000"/>
              <a:gd name="adj2" fmla="val 80231"/>
            </a:avLst>
          </a:prstGeom>
          <a:solidFill>
            <a:srgbClr val="a7b5cb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P-Datenbank ist Mas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39640"/>
            <a:ext cx="9325080" cy="53067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assung der Patientenbezogenen Chargen-Dokumentation lt. TF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20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abeunterstützung durch spezielle Suchhilfen sowie Eingabe über Barcodelesegeräte; Materialsuche über PZN-Nummer; Materialstam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zuordnung namentlich oder über IS-H-Patient-Nummer / -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llständige Recherchefunktion über alle Feldeinträge des Buchungssatz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zuordnung bei künftiger Patientenabrechnung (lt. DR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ation im S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676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76160" y="1146240"/>
            <a:ext cx="828216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gensuch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00160" y="1768320"/>
            <a:ext cx="5905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53240" y="209160"/>
            <a:ext cx="3152880" cy="808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kumentation im WE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676520"/>
            <a:ext cx="990612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209520"/>
            <a:ext cx="6608880" cy="35560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3594240"/>
            <a:ext cx="99061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3-01-10T09:11:54Z</cp:lastPrinted>
  <dcterms:modified xsi:type="dcterms:W3CDTF">2003-03-18T09:12:37Z</dcterms:modified>
  <cp:revision>670</cp:revision>
  <dc:subject/>
  <dc:title>Kein Folientitel</dc:title>
</cp:coreProperties>
</file>