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9.wmf" ContentType="image/x-wmf"/>
  <Override PartName="/ppt/media/image14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22.wmf" ContentType="image/x-wmf"/>
  <Override PartName="/ppt/media/image6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907588" cy="7621588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7152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928880" y="6905520"/>
            <a:ext cx="18828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ristian Ba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92560" y="7086600"/>
            <a:ext cx="13845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1020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C43D4D78-B9E3-4C36-BC53-65B54E808D7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6232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.03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20916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örungsmeldungen und Instandhaltungs-Anforderungen über Webbrows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istian Baier</a:t>
            </a:r>
            <a:br>
              <a:rPr sz="2400"/>
            </a:br>
            <a:r>
              <a:rPr b="0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27.03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84880" cy="70358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eldungs-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424160" y="1951200"/>
            <a:ext cx="8481960" cy="51814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H-Belegflu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60520" y="1577880"/>
            <a:ext cx="7400880" cy="2710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961240" y="4314960"/>
            <a:ext cx="3659040" cy="21556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H-Auftra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29600" cy="7032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969240" y="2730600"/>
            <a:ext cx="2625480" cy="2103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832880" y="4602240"/>
            <a:ext cx="1827000" cy="1111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tellanforder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289160"/>
            <a:ext cx="9906120" cy="4714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201160" y="4170240"/>
            <a:ext cx="1704960" cy="29289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ldungserfassung im Internet bzw. Intra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ldungsbearbeitung S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chnische Dienstleist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chnische Verbrauchsmateriali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ordnung technischer Objekte (TPL/Equ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ückli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adens- /Ursachenco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enstleistungskatalo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für brauche ich Produktkataloge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15200" y="6019920"/>
            <a:ext cx="990720" cy="304560"/>
          </a:xfrm>
          <a:prstGeom prst="leftRightArrow">
            <a:avLst>
              <a:gd name="adj1" fmla="val 0"/>
              <a:gd name="adj2" fmla="val 162647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6019920"/>
            <a:ext cx="1843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59436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2880" y="1362240"/>
            <a:ext cx="9504360" cy="4524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738920" y="5033880"/>
            <a:ext cx="2011680" cy="2370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32508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eistungs-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atalo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29600" cy="6977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6019920"/>
            <a:ext cx="990720" cy="304560"/>
          </a:xfrm>
          <a:prstGeom prst="leftRightArrow">
            <a:avLst>
              <a:gd name="adj1" fmla="val 0"/>
              <a:gd name="adj2" fmla="val 162647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6019920"/>
            <a:ext cx="1843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59436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753240" y="4025880"/>
            <a:ext cx="2639880" cy="26827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orteile für Ihr Unterneh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991360" cy="3809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heitliches und übergreifendes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lle Integration im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tzung aller Vorteile eines integrierten Syste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ichte Bedienbarkeit durch auf den Prozess und User abgestimmte Screens und Abläuf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izientere Auftragsab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ößere Transparenz in den Proz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el anpassbar und 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b- und / oder R/3 basierte Speziallösungen entsprechend Ihrer Anforder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8880" y="1289160"/>
            <a:ext cx="8991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387360" indent="-38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orteile für Ihr Unterneh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8520" y="2730240"/>
            <a:ext cx="8991720" cy="384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7360" indent="-38736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Consulting hat Erfahrung im Umgang mit neuesten Web und SAP-Technologien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Nutzung von praxiserprobten Lösung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Umfangreiches Branchen-Know-How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Professionelle Beratung und Projektdurchführung in der Chemie, Pharmazie und Medizi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Hohe Kundenzufriedenhei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0520" y="1362240"/>
            <a:ext cx="770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um sollten Sie </a:t>
            </a:r>
            <a:r>
              <a:rPr b="0" lang="en-US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ulting in Ihre Projekte einbezieh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4520" y="20916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örungsmeldungen und Instandhaltungs-Anforderungen über Webbrows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440000"/>
            <a:ext cx="9144000" cy="1938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istian Baier</a:t>
            </a:r>
            <a:br>
              <a:rPr sz="2400"/>
            </a:br>
            <a:r>
              <a:rPr b="0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27.03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36880" y="3594240"/>
            <a:ext cx="41212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ldungserfassung im Internet bzw. Intra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ldungsbearbeitung S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chnische Dienstleist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chnische Verbrauchsmaterial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ordnung technischer Objekte (TPL/Equ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ückl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adens- /Ursachenc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enstleistungskatalo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rteile für das Unternehm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ldungserfassung im Internet bzw. Intra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Meldungsbearbeitung S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Technische Dienstleist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Technische Verbrauchsmateriali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Zuordnung technischer Objekte (TPL/Equ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Stücklis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Schadens- /Ursachenc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Dienstleistungskatalo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-Einstie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15800" y="1217520"/>
            <a:ext cx="9001080" cy="3564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977240" y="3954600"/>
            <a:ext cx="1379520" cy="20653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malanforderu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31800" y="1146240"/>
            <a:ext cx="8553600" cy="5945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755200" y="1865160"/>
            <a:ext cx="1150920" cy="118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682120" y="3162240"/>
            <a:ext cx="1224000" cy="1308240"/>
          </a:xfrm>
          <a:prstGeom prst="rect">
            <a:avLst/>
          </a:prstGeom>
          <a:ln w="0">
            <a:noFill/>
          </a:ln>
        </p:spPr>
      </p:pic>
      <p:sp>
        <p:nvSpPr>
          <p:cNvPr id="65" name="Litebulb"/>
          <p:cNvSpPr/>
          <p:nvPr/>
        </p:nvSpPr>
        <p:spPr>
          <a:xfrm>
            <a:off x="8840880" y="4530600"/>
            <a:ext cx="1065240" cy="143064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209520"/>
            <a:ext cx="9906120" cy="7189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321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ldungserfassung im Internet bzw. Intra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ldungsbearbeitung S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chnische Dienstleist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chnische Verbrauchsmateriali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ordnung technischer Objekte (TPL/Equ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ückli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hadens- /Ursachenco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eaeaea"/>
                </a:solidFill>
                <a:latin typeface="Arial"/>
              </a:rPr>
              <a:t>Dienstleistungskatalo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eaeaea"/>
                </a:solidFill>
                <a:latin typeface="Arial"/>
              </a:rPr>
              <a:t>Vorteile für das Unternehm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ldungsmonito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906120" cy="5748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104320" y="209520"/>
            <a:ext cx="1801800" cy="2957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3-01-10T09:11:54Z</cp:lastPrinted>
  <dcterms:modified xsi:type="dcterms:W3CDTF">2003-03-24T07:24:18Z</dcterms:modified>
  <cp:revision>668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68273221</vt:r8>
  </property>
  <property fmtid="{D5CDD505-2E9C-101B-9397-08002B2CF9AE}" pid="3" name="_AuthorEmail">
    <vt:lpwstr>C.Baier@jwconsulting.de</vt:lpwstr>
  </property>
  <property fmtid="{D5CDD505-2E9C-101B-9397-08002B2CF9AE}" pid="4" name="_AuthorEmailDisplayName">
    <vt:lpwstr>Christian Baier</vt:lpwstr>
  </property>
  <property fmtid="{D5CDD505-2E9C-101B-9397-08002B2CF9AE}" pid="5" name="_EmailSubject">
    <vt:lpwstr>Präsentation</vt:lpwstr>
  </property>
  <property fmtid="{D5CDD505-2E9C-101B-9397-08002B2CF9AE}" pid="6" name="_ReviewingToolsShownOnce">
    <vt:lpwstr/>
  </property>
</Properties>
</file>