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17C6D47-E6B1-467D-9DA0-754E3B9DB88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2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, d.h. 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846000"/>
            <a:ext cx="6686640" cy="59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040" y="1862280"/>
            <a:ext cx="8420040" cy="482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2286000"/>
            <a:ext cx="7924680" cy="414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7920" y="1862280"/>
            <a:ext cx="8255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(z. B. Mikroskopi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20840" y="2268360"/>
            <a:ext cx="7842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                 (Transmissionselektronenmikroskop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0960" y="2709720"/>
            <a:ext cx="7512120" cy="347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0960" y="2692440"/>
            <a:ext cx="7512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istung                      (EDX-Analyse am TEM, Mapp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63880" y="3132000"/>
            <a:ext cx="7099200" cy="279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6320" y="311472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prüfmerkmale                  (Elementverteilu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76440" y="3556080"/>
            <a:ext cx="6686640" cy="203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355608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2320" y="1439640"/>
            <a:ext cx="914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ktur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ordnung zu Produktfamilien und 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kmal und Me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ält alle Leistungen für Standard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 Leistungen für einzelne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r Pre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oder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2-02T18:44:23Z</dcterms:modified>
  <cp:revision>647</cp:revision>
  <dc:subject/>
  <dc:title>Kein Folientitel</dc:title>
</cp:coreProperties>
</file>