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907588" cy="7621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928880" y="6905520"/>
            <a:ext cx="1882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920" y="7086600"/>
            <a:ext cx="11361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1020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381B255-0CC7-4391-BE4C-D7BD5BB252A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6232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4.02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eferanten-, Kunden- und Weltkatalo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04.02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daten und Materialstämme auf dem Web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/3 Materialstam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bei R/3 Master ist, d.h. die Synchronisation erfolgt automatis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- Produkt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ff3535"/>
                </a:solidFill>
                <a:latin typeface="Arial"/>
              </a:rPr>
              <a:t>BMEcat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Version 1.2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n Bundesverband für Materialwirtschaft und Einkauf und vielen großen Firm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openTRANS und eCl@s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Umfassende Informationen unter http://www.bmecat.d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25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- Materialklassifik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de-DE" sz="2200" spc="-1" strike="noStrike">
                <a:solidFill>
                  <a:srgbClr val="ff3535"/>
                </a:solidFill>
                <a:latin typeface="Arial"/>
              </a:rPr>
              <a:t>eCl@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m Institut der deutschen Wirtschaf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ildet Beschaffungsmärkte für Einkäufer ab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unterstützt Ingenieure bei der Entwicklung, Planung und Instandhaltu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openTRANS und BMEc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9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hal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eit Mai 20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ierstufiger hierarchischer Klassifikationsschlüss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chlagwortregister mit 14 000 Begriff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Merkmalsleisten zur Beschreibung von Materialien und Dienstleistung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Umfassende Informationen unter http://www.eclass.d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– Austausch Geschäfts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ff3535"/>
                </a:solidFill>
                <a:latin typeface="Arial"/>
              </a:rPr>
              <a:t>openTRAN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Version 1.0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n Bundesverband für Materialwirtschaft und Einkauf und vielen großen Firm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BMEcat und eCL@s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Umfassende Informationen unter http://www.opentrans.d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25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895480" y="1219320"/>
          <a:ext cx="49532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19320"/>
                    <a:ext cx="49532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914256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fahrungen im eLab-Projekt (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66ff"/>
                </a:solidFill>
                <a:latin typeface="Arial"/>
              </a:rPr>
              <a:t>Auftragslab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40600" y="1673280"/>
            <a:ext cx="1650960" cy="84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04240" y="1843200"/>
            <a:ext cx="17827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unde (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93680" y="3316320"/>
            <a:ext cx="2514600" cy="31971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609720" y="479124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793680" y="4275000"/>
            <a:ext cx="3009600" cy="496440"/>
            <a:chOff x="3793680" y="4275000"/>
            <a:chExt cx="3009600" cy="496440"/>
          </a:xfrm>
        </p:grpSpPr>
        <p:sp>
          <p:nvSpPr>
            <p:cNvPr id="103" name=""/>
            <p:cNvSpPr/>
            <p:nvPr/>
          </p:nvSpPr>
          <p:spPr>
            <a:xfrm>
              <a:off x="3794040" y="432432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3680" y="4275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0880" y="4343400"/>
              <a:ext cx="246240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ben - Lief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687680" y="4577400"/>
            <a:ext cx="16412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328560" y="4791240"/>
            <a:ext cx="23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36600" y="4545000"/>
            <a:ext cx="3636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36240" y="451008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406520" y="2305080"/>
            <a:ext cx="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06520" y="2305080"/>
            <a:ext cx="571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85400" y="1819440"/>
            <a:ext cx="385200" cy="496440"/>
            <a:chOff x="3785400" y="1819440"/>
            <a:chExt cx="385200" cy="496440"/>
          </a:xfrm>
        </p:grpSpPr>
        <p:sp>
          <p:nvSpPr>
            <p:cNvPr id="113" name=""/>
            <p:cNvSpPr/>
            <p:nvPr/>
          </p:nvSpPr>
          <p:spPr>
            <a:xfrm>
              <a:off x="3786120" y="1868400"/>
              <a:ext cx="365040" cy="4118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85400" y="18194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838080" y="1752480"/>
            <a:ext cx="630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60199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03520" y="5707440"/>
            <a:ext cx="16430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49200" y="5699160"/>
            <a:ext cx="3654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48840" y="56642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714840" y="2838600"/>
            <a:ext cx="501480" cy="496440"/>
            <a:chOff x="3714840" y="2838600"/>
            <a:chExt cx="501480" cy="496440"/>
          </a:xfrm>
        </p:grpSpPr>
        <p:sp>
          <p:nvSpPr>
            <p:cNvPr id="121" name=""/>
            <p:cNvSpPr/>
            <p:nvPr/>
          </p:nvSpPr>
          <p:spPr>
            <a:xfrm>
              <a:off x="3790800" y="2838600"/>
              <a:ext cx="425520" cy="43128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14840" y="2838600"/>
              <a:ext cx="47664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543800" y="2514600"/>
            <a:ext cx="0" cy="151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884320"/>
            <a:ext cx="2573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neh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934320" y="4114800"/>
            <a:ext cx="1255680" cy="1036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79480" y="3758040"/>
            <a:ext cx="151776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- 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237680" y="3705120"/>
            <a:ext cx="385200" cy="496440"/>
            <a:chOff x="1237680" y="3705120"/>
            <a:chExt cx="385200" cy="496440"/>
          </a:xfrm>
        </p:grpSpPr>
        <p:sp>
          <p:nvSpPr>
            <p:cNvPr id="128" name=""/>
            <p:cNvSpPr/>
            <p:nvPr/>
          </p:nvSpPr>
          <p:spPr>
            <a:xfrm>
              <a:off x="1238400" y="3740040"/>
              <a:ext cx="363240" cy="41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37680" y="37051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 flipV="1">
            <a:off x="1414440" y="3603600"/>
            <a:ext cx="0" cy="176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666880" y="274320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2895480"/>
            <a:ext cx="199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4191120"/>
            <a:ext cx="0" cy="38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4952880"/>
            <a:ext cx="0" cy="77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1600" y="1828800"/>
            <a:ext cx="26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sbestät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1219320"/>
            <a:ext cx="1101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809160" y="1143000"/>
            <a:ext cx="385200" cy="522000"/>
            <a:chOff x="3809160" y="1143000"/>
            <a:chExt cx="385200" cy="522000"/>
          </a:xfrm>
        </p:grpSpPr>
        <p:sp>
          <p:nvSpPr>
            <p:cNvPr id="140" name=""/>
            <p:cNvSpPr/>
            <p:nvPr/>
          </p:nvSpPr>
          <p:spPr>
            <a:xfrm>
              <a:off x="3809880" y="1198800"/>
              <a:ext cx="365040" cy="4662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160" y="1143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8458200" y="2514600"/>
            <a:ext cx="0" cy="304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381880" y="2514240"/>
            <a:ext cx="0" cy="3048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09520" y="4952880"/>
            <a:ext cx="3644280" cy="496440"/>
            <a:chOff x="3809520" y="4952880"/>
            <a:chExt cx="3644280" cy="496440"/>
          </a:xfrm>
        </p:grpSpPr>
        <p:sp>
          <p:nvSpPr>
            <p:cNvPr id="145" name=""/>
            <p:cNvSpPr/>
            <p:nvPr/>
          </p:nvSpPr>
          <p:spPr>
            <a:xfrm>
              <a:off x="3809880" y="500220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9520" y="495288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55640" y="5021280"/>
              <a:ext cx="309816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gebnis - Übermittl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3580920" y="55627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0240" y="846000"/>
            <a:ext cx="6686640" cy="594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mmdaten - Leistungskatalo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n der Produktfamilie zur Meth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3040" y="1862280"/>
            <a:ext cx="8420040" cy="4825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38400" y="2286000"/>
            <a:ext cx="7924680" cy="414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7920" y="1862280"/>
            <a:ext cx="825516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familie                                              (z. B. Mikroskopie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20840" y="2268360"/>
            <a:ext cx="7842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                 (Transmissionselektronenmikroskop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50960" y="2709720"/>
            <a:ext cx="7512120" cy="3470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50960" y="2692440"/>
            <a:ext cx="7512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eistung                      (EDX-Analyse am TEM, Mapp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63880" y="3132000"/>
            <a:ext cx="7099200" cy="2793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46320" y="3114720"/>
            <a:ext cx="70167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mmprüfmerkmale                  (Elementverteilu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76440" y="3556080"/>
            <a:ext cx="6686640" cy="20318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76440" y="3556080"/>
            <a:ext cx="70167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hode                               (Hausmethode, EM00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2320" y="423360"/>
            <a:ext cx="91422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mmdaten - Leistungs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2320" y="1439640"/>
            <a:ext cx="914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53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ukturpfle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ordnung zu Produktfamilien und Produ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 und Ansprechpartn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kmal und Meth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sichtbar und Substit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53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ltkatal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hält alle Leistungen für Standardkun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pre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53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ndenkatal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zifische Leistungen für einzelne Kun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zifischer Pre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Anzeige im We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Anzeige im We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he nach Schlagwor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he nach Schlagwor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81160" y="1785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he nach Schlagwor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81160" y="1785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DA - Arzneimitteldatenba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BDA – Produktdatenkatalog enthält Daten zu ca. 300.000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utschen und ausländischen Arzneimittel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den Produktdaten gehören u.a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harmazentralnummer (packungs- und lieferantenabhängi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els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kstoff, Dosierung, Darreichungsfo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ckungsbei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eninformationen (incl. Adresse, Telefon, Email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taillierte Informationen unter http://www.abda.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ahrungen bei Arzneimittelanforder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erleichtern die Suche nach Produkten, z.B. über scannerlesbaren Barcode oder Matchcodeverfahr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ermöglichen die maschinelle Bestellung, da sie alle Produkt- und Lieferanteninformationen enthal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können eine Substitution auf gelistete Artik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sprechend einer Regel (Merkmalsleiste, gleiche Merkmale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er nach Wirkstoff, Dosierung, Darreichungsform, durchfüh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reduzieren oder erleichtern erheblich die manuelle R/3 Materialstammpfle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, die nur vom Lieferanten gepflegt werden, reduzieren die Fehlerrate und vermeiden Mehrfacherfas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in Ihre Projekte einbeziehe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hat mehrjährige Erfahrung be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Integration von Produktkatalogen in SAP R/3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ynchronisation von Materialstämmen und Produktdaten zwischen R/3 und Webserver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Entwicklung von Tools zur Pflege von Produktdaten und Materialstämmen im R/3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m Austausch von Geschäftsdokumenten über openTRAN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m Dauerbetrieb von praxisrelevanten Lösung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wäre Ihr Vorteil bei der Einbeziehung von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 Vorteil wä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professionelle Beratung und Projektarbeit in der Chemie, Pharmazie und Medizi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- und/oder R/3 basierte Speziallösungen entsprechend Ihrer Anforderung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garantierte Termineinhaltung und e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her vereinbartes Kostenbudg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eferanten-, Kunden- und Weltkatalo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04.02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enthalten Produktkataloge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beschreibungen (incl. Dokumen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hierarch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eferanten- und Kundeninform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s gibt Lieferanten-, Kunden- und Wel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für brauche ich Produktkataloge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suche, -auswahl und -vergle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brauchsinformationen über Produkte (Gebrauchsanweisungen, Bedienungshinweise, Packungsbeilagen, Anwendungs-dokumentation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tausch von Geschäftsdokumenten (Anforderungen, Bestellungen, Lieferavis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forderungen (Spezifikationen, Ausschreibungen, Pflichtenhefte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ergebnisse (Forschungsberichte, Analyseergebnisse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zepte, Konfigur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Produktkataloge können sowohl vom Menschen als auch vom Rechn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gelesen und verarbeitet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für brauche ich eine Materialklassifikatio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klassifikationen dienen zur Suche, zum Vergleich und zu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ahl übe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klas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kmalsle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lagwo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4520" y="4251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h welchem Protokoll erfolgt der Produktdatenaustausch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meist verwendeten Protokolle im WWW sind http, ftp oder smt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ML ist die Basis für den standardisierten Datenaustausch zwischen   Geschäftseinheiten, Firmen und öffentlichen Einrich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MEcat und ABDA sind Beispiele für allgemeine bzw. brachenspezifische Produktdaten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e erfolgt der Produktdatentransport ins R/3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iodischer Datenträger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WW - Business Connector -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WW - Webserver -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daten und Materialstämme im R/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/3 Materialstam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auptsächlich steuernde Funktion für Logisti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ktbeschreibung (aber auch Preis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.h. folgende Varianten sind möglic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nur R/3 Materialst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ktdatenbeschreibung durch Dokumente mögli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nur Produktdaten (z.B. bei großen Katalog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terialstammgenerierung bei Bedarf mögli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weder R/3 Materialstamm noch 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eine Bestandsführung, textuelle Banf / 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R/3 Materialstamm und 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rangregel notwendig (z.B. für Preisermittlun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3-01-10T09:11:54Z</cp:lastPrinted>
  <dcterms:modified xsi:type="dcterms:W3CDTF">2003-02-02T18:44:23Z</dcterms:modified>
  <cp:revision>647</cp:revision>
  <dc:subject/>
  <dc:title>Kein Folientitel</dc:title>
</cp:coreProperties>
</file>