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595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 Ing. Thomas Mickley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A1A4DD5-D7F2-4940-972A-E7F1792F8A8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2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eines einfachen Dokumenten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hl geeigneter Datei – Idente, z.B. eineindeutige Nummern und zusätzlich aussagefähiger (ASCII) Beschreibungen. Dabei können die betriebssystemabhängigen Dateilängen ausgeschöpf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ße Redundanz z.B. du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d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te Redundanz z.B. du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 oder DVD Kop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Festplat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rstellung und Erreichbarkeit der Dokumente über das Intranet mittels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Administration in Exc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erarchie ist frei definierb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können zentral oder dezentral gespeicher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7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656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SAP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anse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Anzeige der Dokumente aus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648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952880" y="6618240"/>
            <a:ext cx="354348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60" y="714240"/>
            <a:ext cx="95058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16160" y="28116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281160"/>
                    <a:ext cx="4719600" cy="711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ordnung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ugriffe werden über Berechtigungen gesteu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5800" y="4255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icherung beliebig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9240" y="1752480"/>
            <a:ext cx="905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Verwaltung von Dokumenten mittels SAP R/3 und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Kopplung von SAP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Nutzung von Webbrowsern ohne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SAP R/3 basierte Speziallösungen entsprechend Ihren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Spezifika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Ausschreibungen, Pflichtenhefte,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da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roduktbeschreibungen, Gebrauchsanweisungen,        Bedienungshinweise, 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rbeitsergeb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Spektren, CAD-Zeichnungen, Konfigurationen, Bilder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for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lesbare Formate (z.B. mit plug-i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c, xls, p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xw, sxc, sx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pg, gif, tiff, b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, xs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D…, z.B. chemische Formel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knüpf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, z.B. Untersuchungsbericht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, z.B. Methodenbeschreibung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h. es gilt eine n : m Beziehu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hierarchie und Schlagwö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nen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elle Beschicht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ststoffbeschichtung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0">
              <a:spcBef>
                <a:spcPts val="349"/>
              </a:spcBef>
              <a:buNone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V-beständ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klassifi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mit Attributen verseh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miteinander verknüpft werden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fahrensanweis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chtlin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1-30T09:46:08Z</cp:lastPrinted>
  <dcterms:modified xsi:type="dcterms:W3CDTF">2003-02-02T13:26:04Z</dcterms:modified>
  <cp:revision>645</cp:revision>
  <dc:subject/>
  <dc:title>Dokumentenverwaltung</dc:title>
</cp:coreProperties>
</file>