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133720" y="7086600"/>
            <a:ext cx="15951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pl. Ing. Thomas Mickley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920" y="7086600"/>
            <a:ext cx="11361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6D7F2551-ED23-470A-AD3D-B884F4B6F58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4.02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ff3535"/>
                </a:solidFill>
                <a:latin typeface="Arial"/>
              </a:rPr>
              <a:t>Einfache 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04.02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Dokumentenhierachie und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eines einfachen Dokumentenserv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ystem Windows oder Linu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es hierarchischen Fileverzeichnisses, z.B. periodisch geord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hl geeigneter Datei – Idente, z.B. eineindeutige Nummern und zusätzlich aussagefähiger (ASCII) Beschreibungen. Dabei können die betriebssystemabhängigen Dateilängen ausgeschöpft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fügbarkeit des Dokumentenservers im LAN für R/3, Webserver und Dokumentenquellen, z.B. Laborgerä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erknüpfung der Dokumente zu den Geschäftsprozessen erfolgt im R/3 oder auf dem Webserver. Zur Wiederauffindbarkeit werden die Informationen auf beiden Systemen synchron gehalt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zeitspeich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 Generationswechsel des Betriebssystems ist der Dokumentenserver upzudat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bei sollte nach längerer Zeit auch eine Umspeicherung der Dokumente auf eine neue Hardware vorgenommen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größeren Abständen sind die Formate der Dokumente zu prüfen und gegebenenfalls auch upzudat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fallkonz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iße Redundanz z.B. dur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id-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te Redundanz z.B. dur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D oder DVD Kopi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Festplat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Dokumentenhierachie und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81160" y="1781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ystematisierung in Baumstruk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rstellung und Erreichbarkeit der Dokumente über das Intranet mittels 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fache Pfle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81160" y="1781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44000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fache Administration in Exc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erarchie ist frei definierb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kumente können zentral oder dezentral gespeichert we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7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ministration in Exc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tion in Exc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3080" cy="4656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-565200"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des Menübaumes in Exc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 Excel heraus erfolg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738440" indent="-208080">
              <a:spcBef>
                <a:spcPts val="11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ktualisierung der Datenba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738440" indent="-208080">
              <a:spcBef>
                <a:spcPts val="11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ktualisierung der Benutzeroberflä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, Dokumentenhierachie und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Dokumentenhierachie und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von Web-, SAP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513240" y="3594240"/>
            <a:ext cx="5713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45240" y="3594240"/>
            <a:ext cx="5713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von Web, R/3 und Dokumenten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31800" y="575460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44520" y="3594240"/>
            <a:ext cx="847800" cy="863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089240" y="2801880"/>
            <a:ext cx="1503360" cy="24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16160" y="3089160"/>
            <a:ext cx="1143000" cy="20811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2160" y="3738600"/>
            <a:ext cx="57132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32160" y="3665520"/>
            <a:ext cx="1225800" cy="647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kume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40160" y="3809880"/>
            <a:ext cx="609480" cy="228600"/>
          </a:xfrm>
          <a:prstGeom prst="leftRight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65960" y="22255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1600" y="3089160"/>
            <a:ext cx="1143000" cy="2081160"/>
          </a:xfrm>
          <a:prstGeom prst="rect">
            <a:avLst/>
          </a:prstGeom>
          <a:solidFill>
            <a:srgbClr val="b6fd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37240" y="3736800"/>
            <a:ext cx="72072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73600" y="3809880"/>
            <a:ext cx="609840" cy="228600"/>
          </a:xfrm>
          <a:prstGeom prst="leftRightArrow">
            <a:avLst>
              <a:gd name="adj1" fmla="val 50000"/>
              <a:gd name="adj2" fmla="val 531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0520" y="23702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12880" y="4025880"/>
            <a:ext cx="21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408880" y="1433520"/>
            <a:ext cx="782640" cy="79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553600" y="3449520"/>
            <a:ext cx="1079280" cy="102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88880" y="1433520"/>
            <a:ext cx="1008000" cy="955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8337600" y="5897520"/>
            <a:ext cx="77616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2166600">
            <a:off x="1568160" y="2585880"/>
            <a:ext cx="609480" cy="144720"/>
          </a:xfrm>
          <a:prstGeom prst="leftRightArrow">
            <a:avLst>
              <a:gd name="adj1" fmla="val 50000"/>
              <a:gd name="adj2" fmla="val 838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52520" y="388152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8842400">
            <a:off x="1624680" y="5481720"/>
            <a:ext cx="609480" cy="144720"/>
          </a:xfrm>
          <a:prstGeom prst="leftRightArrow">
            <a:avLst>
              <a:gd name="adj1" fmla="val 50000"/>
              <a:gd name="adj2" fmla="val 838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9211400">
            <a:off x="7689960" y="244116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2331600">
            <a:off x="7616520" y="553896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1240" y="402588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520" y="453060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800" y="65469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53600" y="43862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93240" y="65469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Webserver – Dokumente hinzufü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Webserver – Dokumente anse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SAP R/3 – Anzeige der Dokumente aus We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4774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SAP R/3 – Hinzufügen neuer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4774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SAP R/3 – Hinzufügen neuer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6480" y="17240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0" b="3445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Webserver – Dokumente hinzufü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Dokumentenhierachie und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952880" y="6618240"/>
            <a:ext cx="354348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0160" y="714240"/>
            <a:ext cx="95058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16160" y="281160"/>
          <a:ext cx="4719600" cy="71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6160" y="281160"/>
                    <a:ext cx="4719600" cy="7111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20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können folgenden Objekten  zugeordnet werd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ftragskop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39920" indent="-479520"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mmdaten (Dienstleistung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ordnung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991360" cy="3809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riff vom S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08080">
              <a:lnSpc>
                <a:spcPct val="13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e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08080">
              <a:lnSpc>
                <a:spcPct val="13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reib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riff vom Webserver über Brows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08080">
              <a:lnSpc>
                <a:spcPct val="13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08080">
              <a:lnSpc>
                <a:spcPct val="13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reib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ugriffe werden über Berechtigungen gesteu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5800" y="4255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über Webbrowser und SAP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icherung beliebiger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49240" y="1752480"/>
            <a:ext cx="905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Arten von Dokumenten sind verwend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rowser lesbare Formate empfoh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lder (jpg, gif, bm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robat (p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rd (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cel (x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Klassifizierung, Dokumentenhierachie und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535"/>
                </a:solidFill>
                <a:latin typeface="Arial"/>
              </a:rPr>
              <a:t>jwConsulting hat Erfahrungen und praxiserprobte Lösungen be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 Aufbau einfacher Dokumenten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Verwaltung von Dokumenten mittels SAP R/3 und Webserv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betriebswirtschaftlich richtigen Verknüpfung von Dokumenten mit Geschäftsproze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Kopplung von SAP R/3 Systemen mit Webservern und der da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wendigen Stammdatensynchron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Nutzung von Webbrowsern ohne Lernaufw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bei der Einbeziehung von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 Vorteil wä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professionelle Beratung und Projektarbeit in der Chemie, Pharmazie und Medizi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- und/oder SAP R/3 basierte Speziallösungen entsprechend Ihren Anforder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garantierte Termineinhaltung 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 vorher vereinbartes Kostenbudg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ff3535"/>
                </a:solidFill>
                <a:latin typeface="Arial"/>
              </a:rPr>
              <a:t>Einfache 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04.02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chäftsdokumente (Anforderungen, Bestellungen, Lieferavis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Spezifikation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Ausschreibungen, Pflichtenhefte,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Produktda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Produktbeschreibungen, Gebrauchsanweisungen,        Bedienungshinweise, Packungsbeilagen, Anwendungsdokument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Arbeitsergebniss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Forschungsberichte, Analyseergebnisse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zepte, Spektren, CAD-Zeichnungen, Konfigurationen, Bilder, 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form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owserlesbare Formate (z.B. mit plug-i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oc, xls, pp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xw, sxc, sx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pg, gif, tiff, b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xml, xs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AD…, z.B. chemische Formel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verknüpf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chäftsdokument, z.B. Untersuchungsbericht ist beispielsweise verknüpft 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dokumenten (darunter z.B. Methodenbeschreibu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lder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ktr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ell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, z.B. Methodenbeschreibung ist beispielsweise verknüpft 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schäftsdokumen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ktren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h. es gilt eine n : m Beziehu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144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okumente und Objektverknüp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, Dokumentenhierachie und Schlagwö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ufbau des Dokumentenservers, Langzeitspeicherung und 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infache Dokumentenverwaltung ohne SAP (Bsp.: Ine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Integration von Web-, R/3- und Dokumentenserver (Bsp.: eLa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hierarchie und Schlagwö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88880" y="1439640"/>
            <a:ext cx="9036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 können entsprechend eines Thesaurus in einen Hierarchiebaum eingeordnet werden, z.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wicklungsberich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stri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etterfeste Anstric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nenanstric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zielle Beschicht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unststoffbeschichtunge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0">
              <a:spcBef>
                <a:spcPts val="349"/>
              </a:spcBef>
              <a:buNone/>
              <a:tabLst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ßerdem oder stattdessen können Dokumente mit Schlagwörtern versehen werden, z.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eihalti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asserlösli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V-beständi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klassifiz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8880" y="1439640"/>
            <a:ext cx="9036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sätzlich können Hierarchieknoten und Dokumente klassifiziert und mit Attributen versehen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 können miteinander verknüpft werden z.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fahrensanweis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chtlini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2-01-30T09:46:08Z</cp:lastPrinted>
  <dcterms:modified xsi:type="dcterms:W3CDTF">2003-02-02T13:26:04Z</dcterms:modified>
  <cp:revision>645</cp:revision>
  <dc:subject/>
  <dc:title>Dokumentenverwaltung</dc:title>
</cp:coreProperties>
</file>