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F3C4254E-9067-4B3A-BBC3-792B129C073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3640" y="6477120"/>
            <a:ext cx="115596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04. Februa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In prozesscontrolle und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Hanau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4. Februa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bsatzpla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ist ein von jwConsulting entwickeltes Add-on auf Basis der SAP R/3 ABAP 4 Workbench mit releasefesten Schnittstellen zum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vigation in Programme Tagesabsatz- und Produktionspl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absatzplan wird auf der Ebene Werk und Jahr in der aktiven Version A00 sowie den frei (pro Werk und Jahr) anzulegenden inaktiven Versionen A01 bis A99 gepfle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onatlichen Absatzahlen dienen als Grundlage für eine automatische Disaggregation in einen Tagesabsatzplan nach Lieferkalender und Losgröß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onen können untereinander kopier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ahresplan kann ausgedruckt w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: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: (der Kunde sonstige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: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: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: (für die Dissa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r Tagesplan wird auf der Ebene Werk und Produktgruppe gepfle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welch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urden für einen Monat konkrete Tagesabsatzzahlen erfasst, so wird automatisch die Monatsabsatzzahl nicht mehr editierbar errech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Produktionsplan wird manuell von der mittelfristigen Entscheidung, welches Produkt (lose Ware) soll auf welcher Linie gefertigt werden, gepfleg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ufruf des separaten Fensters „lose Ware“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Erfassen der fertigungsversionsbezogenen Produktionseinteilungen für lose Wa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938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Der aktuelle Tag bzw. der Rückstand sind nur noch über die Abrechnung editierbar (oder löschba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3526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artige Oberfläche  zur Visualisierung der gesamten Arbeitsumgebung in der Produktion mit allen nötigen Umfeldfunktionen z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r K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r allgemeinen und detailliert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über di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- und Qualitätssituation aller Produktionslini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 gemeinsam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r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 abhängig vom verwendeten Einstellungen im Modul Q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ment von Qualitätsla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eeinflusst durch Produktion und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Produktionsstatus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80880" y="1066680"/>
            <a:ext cx="8457840" cy="5126040"/>
            <a:chOff x="380880" y="1066680"/>
            <a:chExt cx="8457840" cy="5126040"/>
          </a:xfrm>
        </p:grpSpPr>
        <p:sp>
          <p:nvSpPr>
            <p:cNvPr id="168" name=""/>
            <p:cNvSpPr/>
            <p:nvPr/>
          </p:nvSpPr>
          <p:spPr>
            <a:xfrm>
              <a:off x="1903320" y="591948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591948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03320" y="5427360"/>
              <a:ext cx="6935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427360"/>
              <a:ext cx="15224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3320" y="5141520"/>
              <a:ext cx="6935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5141520"/>
              <a:ext cx="1522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3320" y="4821120"/>
              <a:ext cx="6935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03320" y="3306600"/>
              <a:ext cx="693540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as Anpassen der Bestandsart an den VE-Code erfolgt über die Schaltfläche „VE-&gt;Bestandsart“ bzw. automatisch alle 10 min durch den als periodischen Job eingeplanten Report „ZJWWMFREI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3320" y="30333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3320" y="1920600"/>
              <a:ext cx="6935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3320" y="1612800"/>
              <a:ext cx="6935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3320" y="13395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3320" y="1066680"/>
              <a:ext cx="6935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4821120"/>
              <a:ext cx="15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3306600"/>
              <a:ext cx="152244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0333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1920600"/>
              <a:ext cx="152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1612800"/>
              <a:ext cx="152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13395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1066680"/>
              <a:ext cx="1522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106668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619272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83872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13395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" y="16128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1920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880" y="3033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880" y="3306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880" y="48211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03320" y="1066680"/>
              <a:ext cx="0" cy="512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880" y="51415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5427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0880" y="591948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4629240" cy="2481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Übersicht nach Probena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gebnisse und Verlauf nach Probena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Optimierte Planung und Produktion mit In prozesscontrolle und periodischem Produktcontrolling 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in der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Hanau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4. Februa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2240" indent="-37224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äufig sehr wenig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5440" indent="-276480">
              <a:spcBef>
                <a:spcPts val="5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meistens in einer Qualität, welches wiederum in wenigen Transportarten zum Endabnehmer transportiert wird =&gt; wenige Artikelnumm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ist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das Handling der SAP Funktionen wird als zu schwerfällig empfunden und wird meist durch eigene, wesentlich transparentere Exceltabellen oder ähnliches ersetz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m Prozessablauf stehen häufig komplex zu bedienende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QM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Qualitätssicherung und In-Prozesskontro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hängig vom gewählten PPS-Verfahren stehen brauchbare Arbeitsvorräte für IPC ungenügend zur Verfü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 bei schlechter Qualitätslage nicht mög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rstellung des Arbeitsvorrates (Produktionslinien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der IPC Kosten z.B. nach Metho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eine Modifika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lle Releasefähig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ive Modellierung komplexer technologischer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utzung modernster Techn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nutzerdefinierte Menüs und Mas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sführliche Funktions- und Anwendungsdokumen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prinzipie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on der Geschäftsprozesse (z.B. LIM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öglichst Vermeidung von bidirektionalen 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ardisierte Einbindung von Pre- und Postprozesso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Netzwerke von Systemen (ALE/IDOC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zenten (z.B. Chemiewe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er (z.B. Zentraleinkau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, Liefera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01-29T14:48:42Z</dcterms:modified>
  <cp:revision>323</cp:revision>
  <dc:subject/>
  <dc:title>Optimierte Planung und Produktion mit periodischem Produktcontrolling  in der </dc:title>
</cp:coreProperties>
</file>