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50C-733F-4EFD-BA42-A86B8C46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28A-9AE3-4962-9626-51EAECB9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8DA-1F15-42A3-9020-0DC53F1D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51B-2C27-4491-93FC-CF079CF8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542-C244-4F1A-83B4-E9C9E99B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66D-0173-4F8B-9C66-A44C09B9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E51-A2C2-4EAD-9A9E-32D48A2F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703-B106-4245-98A0-21C138E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6E0-35E9-4C4E-B04F-8ED0114A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707-3401-4F48-A4BF-746D642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372-1CFA-4149-9BFF-F683586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3A3-BCFA-4FA9-AC0D-4CA290E6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FA0841F-C319-4E81-98F0-7E41370E936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Komfortable, kundenbezogene Add-ons in Verbindung mit SAP R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Wolf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au-Wolfgang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EAB-D3AE-4B7E-96B3-5502642176B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491-C07C-44F1-8A96-8EEEBA2348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2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3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79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5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1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7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3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5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1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7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39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5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1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7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3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69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5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88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99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5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0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5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1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1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78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5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1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2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97E-3AF2-4554-8B39-C733977DC5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F0F-3C15-4137-8C23-66AE39A40E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5EF-7F8D-4263-AE1F-64E7142011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8C1-F26E-4E01-907B-E80069ED16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AFE-4A3A-433E-B43C-C4CA76406F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838080"/>
            <a:ext cx="800100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Komfortable, kundenbezogene Add-ons in Verbindung mit SAP R/3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Wolfga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au-Wolfgang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FE3-49C5-400A-9018-ABBE796280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optimierte Produktion und Produktionsplanung mit voll integriertem Qualitätsmanagement für die In-Prozeß- und Endkontrollen im Bereich der Serienfertig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 von just in time Abfüllung durch das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chen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vorbereitung: Chargennummernvergabe und Prüfl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bezogene prozessbegleitende Prü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ertungen und Reporting in der Qualitätssiche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764-2FC8-4F9E-9E4E-18F4CA4FF9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s web-basiertes Dokument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ung beliebiger Dokumente (html, doc, xls, pdf, jpeg, gif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Schlagwört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ngzeit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 über Webbrowser und SAPgu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atisierung in Baumstruktur (Thesauru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B4A-99E5-4652-949A-123CC5D2C0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eferanten-, Kunden- und Weltkatalo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und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austausch mittels BMEcat (X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im SAP R/3 und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-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datenbank (ABDA) im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ub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D9B-C5B9-4DC3-8C33-8406AF673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dd-on, das in das SAP R/3-System voll integrierbar ist. Diese Lösung bietet den Vorteil, alle Entwicklungs- und Produktionsrezepturen zentral zu verwal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Einsatz des SAP R/3-Moduls Projektsystem (PS) liefert die gewünschte Transparenz in der Forschung und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23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83F-693C-42E5-AFE6-38CAF6CB34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neue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 mit innovativen Features im europaweiten Einsatz bei der Goldschmidt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aussetzungen und Anforderungen für ein integriertes SAP-LIMS bezogen z. B. auf die Bere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gemeine Anforder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n 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weltschutz / Prüfmittel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m Bereich Dienstleistungslabor und web-basierte Anwen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lgsfaktoren für die Einführung von QM und </a:t>
            </a:r>
            <a:r>
              <a:rPr b="0" lang="en-US" sz="16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23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DE1-AD2D-4B49-9C8A-323F82E2CA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controlling in der Chemie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 und Produktplan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er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30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329-D3B6-44A7-9DC0-33FB226BDD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-338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controlling in der Chemie  - Nachkalkulation, Plankalkulation und ableitbare Kalkul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spcBef>
                <a:spcPts val="2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30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D78-D729-4BB7-B831-C0D9193734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e und Add-on Entwicklungen v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2002 und 200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5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30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572000"/>
            <a:ext cx="7620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inweis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Vorträge sind im Internet abrufbar unter http://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1DF-24CF-4AA3-874C-3B3B8F7271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1-27T15:34:27Z</dcterms:modified>
  <cp:revision>196</cp:revision>
  <dc:subject/>
  <dc:title>Kein Folientitel</dc:title>
</cp:coreProperties>
</file>