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172-EFDD-49A8-B8FC-D2BF9612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9EB-EA3C-438A-83A7-273F91E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4C5B-6C8A-4F28-A4FA-C835DD08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34E-0FF3-493D-B37F-266DB0D3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382-193A-4254-B958-3A6CA0C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4C1-8DEA-4A67-960F-3543F27A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B23-CEDD-4D81-9D5D-3ED014A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638-7987-4EF0-9A05-99A26571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F8D-FBA3-4719-86FA-47C50D83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B71-A9A4-4E8D-A1D0-3801013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E4F-10F0-451A-940E-DECF978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773-E4A3-4748-B845-812F089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A30DF83-F9C1-4ECF-99D2-5C3460A920F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Komfortable, kundenbezogene Add-ons in Verbindung mit SAP R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C7B-9C15-4C43-A21E-09A8902552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945-B8E8-44F8-BC86-F718E10926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72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73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79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85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91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97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03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15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21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27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33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39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51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57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63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69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75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88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05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10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21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31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78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85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91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22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DB1-EDFD-49F8-A9CA-E2E8560A4C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376-36E9-47AA-B6FB-A0524E68BE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595-C75B-4520-8E6A-E03F79C995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812-A460-4175-AE05-32F134264D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3B7-0B28-41E4-A859-E684BA8224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838080"/>
            <a:ext cx="800100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Komfortable, kundenbezogene Add-ons in Verbindung mit SAP R/3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striepark Wolfga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au-Wolfgang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159-A7AA-4679-B044-77645587F2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optimierte Produktion und Produktionsplanung mit voll integriertem Qualitätsmanagement für die In-Prozeß- und Endkontrollen im Bereich der Serienfertig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ung von just in time Abfüllung durch das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chen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vorbereitung: Chargennummernvergabe und Prüfl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bezogene prozessbegleitende Prü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1280" indent="-30060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ungen und Reporting in der Qualitätssich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0F1-A858-4D68-A83C-AC5074C49A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infaches web-basiertes 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gration von Web-, R/3- und 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icherung beliebiger Dokumente (html, doc, xls, pdf, jpeg, gif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Schlagwört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fallkonz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über Webbrowser und SAPgu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atisierung in Baumstruktur (Thesauru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352-77EF-40D4-BCBA-A7A4E342EC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ieferanten-, Kunden- und Weltkatalo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und 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austausch mittels BMEcat (X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im SAP R/3 und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-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datenbank (ABDA) im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F78-7F1F-4A84-9AF6-F547CEEFAE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 Rezepturdatenbank und -verwalt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dd-on, das in das SAP R/3-System voll integrierbar ist. Diese Lösung bietet den Vorteil, alle Entwicklungs- und Produktionsrezepturen zentral zu verwal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insatz des SAP R/3-Moduls Projektsystem (PS) liefert die gewünschte Transparenz in der Forschung und Ent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23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10E-0FA7-4358-B2B6-2D6240A3E8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neue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S mit innovativen Features im europaweiten Einsatz bei der Goldschmidt A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aussetzungen und Anforderungen für ein integriertes SAP-LIMS bezogen z. B. auf die Bere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gemeine Anforder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n 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schung &amp; Entwick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weltschutz / Prüfmittel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im Bereich Dienstleistungslabor und web-basierte Anwend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olgsfaktoren für die Einführung von QM und </a:t>
            </a:r>
            <a:r>
              <a:rPr b="0" lang="en-US" sz="16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23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23E-D609-4268-8C0A-C24F6DE0E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controlling in der Chemie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r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C83-DAAD-4320-92AE-ADAB64001E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8760" indent="-33876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controlling in der Chemie  -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760" indent="0">
              <a:spcBef>
                <a:spcPts val="2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0">
              <a:spcBef>
                <a:spcPts val="2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33876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ECE8-9E99-4798-937F-954D9C3C9A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4.02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jekte und Add-on Entwicklungen v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2002 und 200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2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am 30.01.0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572000"/>
            <a:ext cx="7620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inweis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Vorträge sind im Internet abrufbar unter http://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5F1-1F34-4A32-A5C6-292D5BEAF7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1-27T15:34:27Z</dcterms:modified>
  <cp:revision>196</cp:revision>
  <dc:subject/>
  <dc:title>Kein Folientitel</dc:title>
</cp:coreProperties>
</file>