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129F437-1E56-49E4-B44A-C7B31767BD6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.01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0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1000" cy="77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82440" y="0"/>
            <a:ext cx="99885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ntend: Windows / Linux, IExplor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server: Linux, (Windows 2000/XP), Apache, PHP/Java, MySQL (Orac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soft SQL o.a.) Backend: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h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b- und Feinkonze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vst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 (Chemi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es Kostencontro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hn Jahre Erfahrung bei der Einführung von R/3 Projek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le zufriedene Kunden (s. Referenzliste unter www.jwconsulting.d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ntegrierte Add-ons für Labor und Produktion in der Chemie entwickelt und weltweit eingesetz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ühzeitig webbasierte, R/3 integrierte Auftrags- und Anforderungssysteme mit modernster Technologie realisie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0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2/3 – Chemi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der neuesten Generation des R/3 integrierten jwLIMS mit weltweitem Roll-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eines webbasierten R/3 integrierten Auftrags-LIMS für Kundenlabore (eL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BU Superabsorber, Krefeld / Greensboro N.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ation des US-Systems in das globale System der Business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zielles Add-on zur Produktionsplanung, - steuer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ung des jwLIMS und Integration in jw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2/3 – Chemi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integriertes Add-on zum Stücklistenmanagement incl. Kostenermittlung bei der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GmbH, Piesterit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integrierte Add-ons zur Tages- und Monatsplanung sowie z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abrechnung incl. Kopplung zu ergänzenden Excel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ung vo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80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90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98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05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17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22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3-01-26T15:24:55Z</dcterms:modified>
  <cp:revision>424</cp:revision>
  <dc:subject/>
  <dc:title>Kein Folientitel</dc:title>
</cp:coreProperties>
</file>