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613993E-0E1A-42A8-8379-B1D7EBE2976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60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.01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1219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7086600"/>
            <a:ext cx="1904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0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1000" cy="77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82440" y="0"/>
            <a:ext cx="998856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2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Chemie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Auftrags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Monat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lan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ntend: Windows / Linux, IExplore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bserver: Linux, (Windows 2000/XP), Apache, PHP/Java, MySQL (Oracle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crosoft SQL o.a.) Backend: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meldung (User, evtl. Kostenstel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igabe der Material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ge der Materialanforderungen auf dem Web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. Übergabe der Materialanforderungen an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usth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b- und Feinkonze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vst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 (Chemi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es Kostencontro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hn Jahre Erfahrung bei der Einführung von R/3 Projek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le zufriedene Kunden (s. Referenzliste unter www.jwconsulting.d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ntegrierte Add-ons für Labor und Produktion in der Chemie entwickelt und weltweit eingesetz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ühzeitig webbasierte, R/3 integrierte Auftrags- und Anforderungssysteme mit modernster Technologie realisie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30.01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2/3 – Chemi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der neuesten Generation des R/3 integrierten jwLIMS mit weltweitem Roll-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 eines webbasierten R/3 integrierten Auftrags-LIMS für Kundenlabore (eLa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BU Superabsorber, Krefeld / Greensboro N.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ation des US-Systems in das globale System der Business U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zielles Add-on zur Produktionsplanung, - steuerung u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ührung des jwLIMS und Integration in jw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2/3 – Chemi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integriertes Add-on zum Stücklistenmanagement incl. Kostenermittlung bei der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GmbH, Piesterit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/3 integrierte Add-ons zur Tages- und Monatsplanung sowie zu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ionsabrechnung incl. Kopplung zu ergänzenden Excel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07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ührung von Q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2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Chemie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uftrags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Monat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Plan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9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5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2 - Chemie / Phar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Chemie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18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Auftrags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 </a:t>
            </a: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Monat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IstHerstell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lankosten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eb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Be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dddddd"/>
                </a:solidFill>
                <a:latin typeface="Braggadocio"/>
              </a:rPr>
              <a:t>	</a:t>
            </a:r>
            <a:r>
              <a:rPr b="0" lang="de-DE" sz="1800" spc="-1" strike="noStrike">
                <a:solidFill>
                  <a:srgbClr val="dddddd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8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80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90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98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05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17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22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3-01-26T15:24:55Z</dcterms:modified>
  <cp:revision>424</cp:revision>
  <dc:subject/>
  <dc:title>Kein Folientitel</dc:title>
</cp:coreProperties>
</file>