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7D07-74A8-40EC-9E7D-E4D0DDCEB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F4F9-3753-4BA5-BD9F-3B97EEF2A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E338-10FF-4CB5-B58D-15C08153D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3C10-D292-4910-A2E3-8A6A041D2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7F1C-D110-4D3C-8739-4991FB207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623D-2FCF-4112-9D73-52344BB40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02A8-07BA-4335-99FD-64C89A14E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A836-9D9C-485A-8B78-A7D059C36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24A7-17A9-421C-A7CC-1AD37E99C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5966-3F8F-4FE3-AE3D-8662F1B40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9266-5BCB-4284-BA13-246CEA1A9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2185-1B0B-4740-8F1F-40E7C9B34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54080" indent="-285840">
              <a:spcBef>
                <a:spcPts val="550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73120" indent="-22860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892160" indent="-228600">
              <a:spcBef>
                <a:spcPts val="55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3115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3115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3115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800" spc="-1" strike="noStrike">
                <a:solidFill>
                  <a:srgbClr val="ff3300"/>
                </a:solidFill>
                <a:latin typeface="Braggadoci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3300"/>
                </a:solidFill>
                <a:latin typeface="Braggadocio"/>
              </a:rPr>
              <a:t>j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rnd Mickl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olie </a:t>
            </a:r>
            <a:fld id="{5C901EF8-0528-4669-AF79-00A3EB1B61A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1066680"/>
            <a:ext cx="82296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64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16000" y="5013360"/>
            <a:ext cx="6472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f5f5f"/>
                </a:solidFill>
                <a:latin typeface="Arial"/>
              </a:rPr>
              <a:t>SKW Stickstoffwerke Piesteritz - Harnstoffbereich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b2b2b2"/>
                </a:solidFill>
                <a:latin typeface="Arial"/>
              </a:rPr>
              <a:t>Marl, 30.01.2003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99cc00"/>
                </a:solidFill>
                <a:latin typeface="Arial"/>
              </a:rPr>
              <a:t>http:// www.jwconsulting.de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404640"/>
            <a:ext cx="77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9280" y="476280"/>
            <a:ext cx="87138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genbilanz in der chemischen Industr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87280" y="1700280"/>
            <a:ext cx="6524640" cy="3274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403280" y="1197000"/>
            <a:ext cx="5616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16000" y="1197000"/>
            <a:ext cx="68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Arial"/>
              </a:rPr>
              <a:t>Bernd Mickley                                  </a:t>
            </a:r>
            <a:r>
              <a:rPr b="1" lang="en-US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en-US" sz="2000" spc="-1" strike="noStrike">
                <a:solidFill>
                  <a:srgbClr val="b2b2b2"/>
                </a:solidFill>
                <a:latin typeface="Arial"/>
              </a:rPr>
              <a:t>Consulting Gmb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nittstelle für die Datenbereitstellung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t OLE2 wegen der Zellreferenzier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pload für Plandaten (Exceldatei mit 4 Mappen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ktion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 Produkt : tägliche und monatliche Plandat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Produktion,  Versand, Sekundärbedarf, Eigenbedarf, Zukauf, Bestand)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satz pro Produkt; pro Monat : monatliche   Plandat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3 Planungshierarchien, Produkt, Kunde und Kennziffer wie Menge Inland, Menge Export, Erlöse, Menge Transportweg, … 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sand monatlich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8956-F9AD-433D-9989-DEA4B1FBFC0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rcRect l="0" t="7667" r="48684" b="14911"/>
          <a:stretch/>
        </p:blipFill>
        <p:spPr>
          <a:xfrm>
            <a:off x="380880" y="620640"/>
            <a:ext cx="8229600" cy="540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FA04-5A1B-4C61-96B9-D07B97AAC32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 allgemeine Bilanzgleichu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erechnung von Term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120000"/>
              </a:lnSpc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120000"/>
              </a:lnSpc>
              <a:spcBef>
                <a:spcPts val="71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120000"/>
              </a:lnSpc>
              <a:spcBef>
                <a:spcPts val="71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30E5-15A3-49E5-B761-A1F35C67E55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ition der Bilanzgleich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4360" y="1557360"/>
            <a:ext cx="1944720" cy="86364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156360" y="1557360"/>
            <a:ext cx="2592360" cy="93672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55640" y="170028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k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372360" y="177336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kundärbedarf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56000" y="1844640"/>
            <a:ext cx="1944720" cy="71640"/>
          </a:xfrm>
          <a:prstGeom prst="line">
            <a:avLst/>
          </a:prstGeom>
          <a:ln w="5724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4292640"/>
            <a:ext cx="194472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4437000"/>
            <a:ext cx="16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ukau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987640" y="4292640"/>
            <a:ext cx="2664000" cy="792000"/>
          </a:xfrm>
          <a:prstGeom prst="rect">
            <a:avLst/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sa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516720" y="4365720"/>
            <a:ext cx="1944720" cy="718920"/>
          </a:xfrm>
          <a:prstGeom prst="rect">
            <a:avLst/>
          </a:prstGeom>
          <a:solidFill>
            <a:srgbClr val="abc0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igenbedar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427640" y="3716280"/>
            <a:ext cx="0" cy="576360"/>
          </a:xfrm>
          <a:prstGeom prst="line">
            <a:avLst/>
          </a:prstGeom>
          <a:ln w="57240">
            <a:solidFill>
              <a:srgbClr val="66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5640" y="5445000"/>
            <a:ext cx="7920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(neu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=    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(alt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+    P   +   Z   –   A   –   S   –   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19640" y="2852640"/>
            <a:ext cx="194436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24360" y="1413000"/>
            <a:ext cx="934920" cy="7920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2736000" y="2816280"/>
            <a:ext cx="647640" cy="71928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64000" y="2852640"/>
            <a:ext cx="720720" cy="64764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10800000">
            <a:off x="3419280" y="2204640"/>
            <a:ext cx="1944360" cy="647640"/>
          </a:xfrm>
          <a:custGeom>
            <a:avLst/>
            <a:gdLst>
              <a:gd name="textAreaLeft" fmla="*/ 427320 w 1944360"/>
              <a:gd name="textAreaRight" fmla="*/ 1517040 w 1944360"/>
              <a:gd name="textAreaTop" fmla="*/ 142200 h 647640"/>
              <a:gd name="textAreaBottom" fmla="*/ 50544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1116000" y="3499560"/>
            <a:ext cx="6696000" cy="360360"/>
          </a:xfrm>
          <a:custGeom>
            <a:avLst/>
            <a:gdLst>
              <a:gd name="textAreaLeft" fmla="*/ 1472400 w 6696000"/>
              <a:gd name="textAreaRight" fmla="*/ 5223600 w 6696000"/>
              <a:gd name="textAreaTop" fmla="*/ 79200 h 360360"/>
              <a:gd name="textAreaBottom" fmla="*/ 2811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292428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619280" y="3212640"/>
            <a:ext cx="1512720" cy="1079640"/>
          </a:xfrm>
          <a:prstGeom prst="line">
            <a:avLst/>
          </a:prstGeom>
          <a:ln w="57240">
            <a:solidFill>
              <a:srgbClr val="e6c0b8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724360" y="3357720"/>
            <a:ext cx="1727280" cy="93492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64000" y="1557360"/>
            <a:ext cx="934920" cy="1297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627280" y="1844640"/>
            <a:ext cx="1152720" cy="576360"/>
          </a:xfrm>
          <a:prstGeom prst="line">
            <a:avLst/>
          </a:prstGeom>
          <a:ln w="572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6ED2-72CE-4A8D-84E5-AD68A2C9335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1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7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7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rechnung von Termen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(neu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B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(alt)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+    P   +   Z   –   A   –   S   –   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ei Ist-Daten erfolgt keine Berechnung 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ei Plandaten kann 1 Term immer berechnet werden. Folgende Vorgehensweise ist sinnvoll, falls der Absatz vorgegeben ist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kundärbedarf berechn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duktion berechnen (falls P sich aus Absatz ergibt; sonst P unverändert aus Schnittstelle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 = A + S + E – Z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estand berechnen      B = B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(alt)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+  P – A – S – E + Z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A2EB-766D-4A0D-83FA-18CCF84C5EB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zielle Bilanzierung (Medien)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eispiel Mitteldruckdampf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ariable Stücklis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lauf der MD-Bilanz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eitere Spezielle Bilanz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9AD4-2C9C-44D0-8D85-CE6F3010BD0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ispiel Mitteldruckdamp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Aufgab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r gesamte Anfall von MD-Dampf soll einem Produkt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ugeführt werden, dafür ist der Verbrauch von MD-Dampf bei diesen Produkt um die Menge des Anfalls zu reduzieren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5695-56D0-4147-BCD6-2E81BBBC0CB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able Stücklisten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4360" y="1484280"/>
            <a:ext cx="7704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4360" y="1413000"/>
            <a:ext cx="784836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tückliste Flüssigdünger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1000 to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  Bere-K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brauch: Rohstof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brauch: MD-Dampf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a to     x  = a - y  - 1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brauch: Anfall MD- Damp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1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00000" y="3933720"/>
            <a:ext cx="7272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 1000 to Flüssigdünger herzustellen, werden a to MD-Dampf verbraucht, falls kein Produkt hergestellt wird, bei dem MD-Dampf anfällt. Das Verhältnis Anfall/Verbrauch (x/y) wird bei der Produktkalkulation benötigt. Es beeinflusst die Herstellkosten und ändert sich periodisch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6D84-0050-47F4-B6FE-5EB63AB9904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lauf der Bilanz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00000" y="1413000"/>
            <a:ext cx="748836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ritt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6666ff"/>
                </a:solidFill>
                <a:latin typeface="Arial"/>
              </a:rPr>
              <a:t>Ermittlung Anfalls von MD-Dampf    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ritt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6666ff"/>
                </a:solidFill>
                <a:latin typeface="Arial"/>
              </a:rPr>
              <a:t>Bilanz Anfall MD-Damp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                      Sekundärbedarf  =  Summe Anfall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(Produktion = 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ritt 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6666ff"/>
                </a:solidFill>
                <a:latin typeface="Arial"/>
              </a:rPr>
              <a:t>Bilanz MD-Damp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Sekundärbedarf für   Flüssigdünger aus Stückliste berechnen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6666ff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 Menge Flüssigdünger / 1000 ) *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ritt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6666ff"/>
                </a:solidFill>
                <a:latin typeface="Arial"/>
              </a:rPr>
              <a:t>Bilanz MD-Dampf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kundärbedarf für    Flüssigdünger reduzie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6666ff"/>
                </a:solidFill>
                <a:latin typeface="Arial"/>
              </a:rPr>
              <a:t>s = m - 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72D9-86B4-4757-A97B-E58F2287EDE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itere Spezielle Bilanz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ff"/>
                </a:solidFill>
                <a:latin typeface="Arial"/>
              </a:rPr>
              <a:t>Niederdruckdampf – Bilanz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alog der MD-Bilanz kann eine ND-Bilanz aufgebaut werden. Beim Einsatz von MD-Dampf fällt ND-Dampf an. Der Anfall von ND-Dampf kann in einem anderen Produkt eingesetzt werden. Es treten folgende Fälle auf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1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ff"/>
                </a:solidFill>
                <a:latin typeface="Arial"/>
              </a:rPr>
              <a:t>Verbrauch &gt; Anfal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D-Dampf muss hergestellt werden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 = Verbrauch Anfall. Od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1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ff"/>
                </a:solidFill>
                <a:latin typeface="Arial"/>
              </a:rPr>
              <a:t>Verbrauch &lt; Anfall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D-Dampf  (m = Anfall –Verbrauch) wird abgeblasen</a:t>
            </a:r>
            <a:r>
              <a:rPr b="1" lang="en-US" sz="2000" spc="-1" strike="noStrike">
                <a:solidFill>
                  <a:srgbClr val="6666ff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rd ND-Dampf eingesetzt entsteht Kondensat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AEA3-5B13-4B29-AE1A-168D4F75AF2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P R/3 PP Worksho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atzplan und Produktionspla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gemeine Bilanzgleich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ezielle Bilanzierung (Medien u.a.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kursivitä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as Add-on Mengenbilanz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utz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51EC-92CF-4D48-926D-067A3BD0744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itere Spezielle Bilanz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lgende Bilanzkette lässt sich entwickeln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D-Dampf </a:t>
            </a:r>
            <a:r>
              <a:rPr b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ND-Dampf </a:t>
            </a:r>
            <a:r>
              <a:rPr b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Kondens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lektroenergie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r Zukauf wird berechnet aus der fehlenden Menge  (Verbrauch – Anfall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strumentenluft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e Verteilung der Instrumentenluft wird berechne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chwachsäure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r Zukauf von Salpetersäure wird berechne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E671-85FF-4A2C-B9CC-8F73B0E75BE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itere Spezielle Bilanz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üssiger Stickstoff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r Zukauf wird berechnet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rdgas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as eingesetzte Erdgas beeinflusst den Preis von  Ammoniak. Hier erfolgt eine Bilanz für einen wichtigen Rohstoff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5A87-B619-446F-B92F-BBE3CB6EA81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kursivitä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eispi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ösung durch Iter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onvergenz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126A-F6BF-445C-B536-5DF16A8070E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odukt 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100 t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brauch B     10 to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odukt 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100 t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brauch A      10 t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ff"/>
                </a:solidFill>
                <a:latin typeface="Arial"/>
              </a:rPr>
              <a:t>Jeweils 100 to von A und B sollen verkauft werd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1" lang="en-US" sz="2000" spc="-1" strike="noStrike">
                <a:solidFill>
                  <a:srgbClr val="6666ff"/>
                </a:solidFill>
                <a:latin typeface="Arial"/>
              </a:rPr>
              <a:t>Ein Initialbestand von B  (10 to) sei vorhanden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11280" y="549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ispiel für rekursive Stückli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7A67-4F1D-49D8-BD5D-E394B90BD88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600200"/>
          <a:ext cx="8147160" cy="3405240"/>
        </p:xfrm>
        <a:graphic>
          <a:graphicData uri="http://schemas.openxmlformats.org/drawingml/2006/table">
            <a:tbl>
              <a:tblPr/>
              <a:tblGrid>
                <a:gridCol w="723960"/>
                <a:gridCol w="1285920"/>
                <a:gridCol w="1498320"/>
                <a:gridCol w="1428840"/>
                <a:gridCol w="1625760"/>
                <a:gridCol w="158436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,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/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2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/222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1/222,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4524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0450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0004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826920" y="5516640"/>
            <a:ext cx="7777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ps = Abs(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/ Abs(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+ Abs(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= 0,00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484360" y="2708280"/>
            <a:ext cx="216000" cy="1152360"/>
          </a:xfrm>
          <a:custGeom>
            <a:avLst/>
            <a:gdLst>
              <a:gd name="textAreaLeft" fmla="*/ 0 w 216000"/>
              <a:gd name="textAreaRight" fmla="*/ 78120 w 21600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700360" y="2565360"/>
            <a:ext cx="431640" cy="71928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95640" y="2708280"/>
            <a:ext cx="216000" cy="1152360"/>
          </a:xfrm>
          <a:custGeom>
            <a:avLst/>
            <a:gdLst>
              <a:gd name="textAreaLeft" fmla="*/ 0 w 216000"/>
              <a:gd name="textAreaRight" fmla="*/ 78120 w 21600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8360" y="54936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ösung durch It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CDB0-4A06-4A95-A7F6-70C521B2F32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78000" indent="-3780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ie Iteration erfolgt also in der Folg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6666ff"/>
                </a:solidFill>
                <a:latin typeface="Arial"/>
              </a:rPr>
              <a:t>Sekundärbedarf </a:t>
            </a:r>
            <a:r>
              <a:rPr b="1" lang="de-DE" sz="2200" spc="-1" strike="noStrike">
                <a:solidFill>
                  <a:srgbClr val="6666ff"/>
                </a:solidFill>
                <a:latin typeface="Wingdings"/>
                <a:ea typeface="Wingdings"/>
              </a:rPr>
              <a:t></a:t>
            </a:r>
            <a:r>
              <a:rPr b="1" lang="de-DE" sz="2200" spc="-1" strike="noStrike">
                <a:solidFill>
                  <a:srgbClr val="6666ff"/>
                </a:solidFill>
                <a:latin typeface="Arial"/>
              </a:rPr>
              <a:t> Produktion </a:t>
            </a:r>
            <a:r>
              <a:rPr b="1" lang="de-DE" sz="2200" spc="-1" strike="noStrike">
                <a:solidFill>
                  <a:srgbClr val="6666ff"/>
                </a:solidFill>
                <a:latin typeface="Wingdings"/>
                <a:ea typeface="Wingdings"/>
              </a:rPr>
              <a:t></a:t>
            </a:r>
            <a:r>
              <a:rPr b="1" lang="de-DE" sz="2200" spc="-1" strike="noStrike">
                <a:solidFill>
                  <a:srgbClr val="6666ff"/>
                </a:solidFill>
                <a:latin typeface="Arial"/>
              </a:rPr>
              <a:t> Special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ie Konvergenzkonstante  Epsilo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de-DE" sz="22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-   P</a:t>
            </a:r>
            <a:r>
              <a:rPr b="1" lang="de-DE" sz="2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de-DE" sz="22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 +  P</a:t>
            </a:r>
            <a:r>
              <a:rPr b="1" lang="de-DE" sz="2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wird in einer Customizing Table gesetzt.       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m Beispiel  auf 0,00001, also auf 0,001 %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onvergenz 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71640" y="3213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04292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1128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42920" y="3284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19280" y="3284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979640" y="3284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11280" y="3284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6FE1-AE5C-464D-943D-C717366DBF3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onvergenz 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ie maximale Anzahl der Iterationen wird in einer Customizing Tabelle gesetzt. Sie beträgt gegenwärtig 50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in Nichterreichen der Konvergenz wird gemeldet (Monat, MatNr., berechnetes Epsilon)  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4C00-F0E5-4298-90F9-ADDD388D626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ance 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e Berechnung erfolgt in den Schritten: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916360" y="2276640"/>
            <a:ext cx="2232000" cy="1871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916360" y="2349360"/>
            <a:ext cx="22320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-Bedar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k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c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71640" y="4581360"/>
            <a:ext cx="2448000" cy="86364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132000" y="479736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vergen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995640" y="407664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2268360" y="5013360"/>
            <a:ext cx="503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2268360" y="3284640"/>
            <a:ext cx="0" cy="172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68360" y="3284640"/>
            <a:ext cx="64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340000" y="4365720"/>
            <a:ext cx="792000" cy="3988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19640" y="5013360"/>
            <a:ext cx="936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219640" y="443700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39DA-3771-4843-A956-8093595B064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ance 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 Monat werden 100 Produkte berechnet. Dafür werden im Durchschnitt 15 Iterationen benötigt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a die Bilanz für immer für 12 Monate benötigt wird ergeben sich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00 x 15 x 12 = 18.000 Berechnungen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rfahrungswert 5-7 Min. für 12 Monat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e Berechnungszeit sinkt bei Mischversionen.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209E-346E-4BB3-B4B1-CD0D28D982D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s Add-on Mengenbilanz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atenbereitstell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sionsmanagem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trolling Vers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/ Berechn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120000"/>
              </a:lnSpc>
              <a:spcBef>
                <a:spcPts val="71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5DF2-7A91-4CAF-BA7E-B8693E351DA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satz- und Produktionspl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lnSpc>
                <a:spcPct val="90000"/>
              </a:lnSpc>
              <a:spcBef>
                <a:spcPts val="689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gration der Planung im SAP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689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zenario einer individuellen Absatz- und Produktionsplanung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689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ösungskonzep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914400"/>
            <a:ext cx="83059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91D0-33A0-4DC1-A330-85972915BE2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enbereitstellung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395280" y="1268280"/>
            <a:ext cx="5614920" cy="1979640"/>
            <a:chOff x="395280" y="1268280"/>
            <a:chExt cx="5614920" cy="1979640"/>
          </a:xfrm>
        </p:grpSpPr>
        <p:pic>
          <p:nvPicPr>
            <p:cNvPr id="163" name="" descr=""/>
            <p:cNvPicPr/>
            <p:nvPr/>
          </p:nvPicPr>
          <p:blipFill>
            <a:blip r:embed="rId1"/>
            <a:srcRect l="0" t="6989" r="57699" b="65955"/>
            <a:stretch/>
          </p:blipFill>
          <p:spPr>
            <a:xfrm>
              <a:off x="395280" y="1268280"/>
              <a:ext cx="5614920" cy="19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 txBox="1"/>
            <p:nvPr/>
          </p:nvSpPr>
          <p:spPr>
            <a:xfrm>
              <a:off x="395280" y="1268280"/>
              <a:ext cx="5614920" cy="1979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78000" indent="-378000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39640" y="3789360"/>
            <a:ext cx="77043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052800" indent="-3052800">
              <a:spcBef>
                <a:spcPts val="125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t-Daten aktualisieren  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6666ff"/>
                </a:solidFill>
                <a:latin typeface="Arial"/>
              </a:rPr>
              <a:t>Analysiert alle IST - Buch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0" indent="-3052800">
              <a:spcBef>
                <a:spcPts val="125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daten aktualisieren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6666ff"/>
                </a:solidFill>
                <a:latin typeface="Arial"/>
              </a:rPr>
              <a:t>Stellt alle Plandaten einer   Planversion ber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95640" y="2060640"/>
            <a:ext cx="3313080" cy="288720"/>
          </a:xfrm>
          <a:prstGeom prst="wedgeRoundRectCallout">
            <a:avLst>
              <a:gd name="adj1" fmla="val -60495"/>
              <a:gd name="adj2" fmla="val 6703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268360" y="1989000"/>
            <a:ext cx="32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lanz Jahr auswäh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268360" y="2708280"/>
            <a:ext cx="3456000" cy="360360"/>
          </a:xfrm>
          <a:prstGeom prst="wedgeRoundRectCallout">
            <a:avLst>
              <a:gd name="adj1" fmla="val -67777"/>
              <a:gd name="adj2" fmla="val -5749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2708280"/>
            <a:ext cx="37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sion auswäh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CE16-43B9-40F9-9FA2-8C1E7264E9C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sions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1360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66ff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6666ff"/>
                </a:solidFill>
                <a:latin typeface="Arial"/>
              </a:rPr>
              <a:t>Version 000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=  Ist-Dat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66ff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6666ff"/>
                </a:solidFill>
                <a:latin typeface="Arial"/>
              </a:rPr>
              <a:t>Version Axx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=  Planda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66ff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6666ff"/>
                </a:solidFill>
                <a:latin typeface="Arial"/>
              </a:rPr>
              <a:t>Version Cxx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200" spc="-1" strike="noStrike">
                <a:solidFill>
                  <a:srgbClr val="6666ff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trolling Vers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 nach Version kann eine Bilanz aus Ist-Daten, Plandaten oder eine gemischte Version aus Ist- und Plandaten erstellt werden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71D2-3026-43B4-A1B3-E3998FBA075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ling Ver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457200" y="2752560"/>
          <a:ext cx="4038480" cy="222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752560"/>
                    <a:ext cx="4038480" cy="222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5" name=""/>
          <p:cNvGrpSpPr/>
          <p:nvPr/>
        </p:nvGrpSpPr>
        <p:grpSpPr>
          <a:xfrm>
            <a:off x="914400" y="1219320"/>
            <a:ext cx="7112160" cy="598320"/>
            <a:chOff x="914400" y="1219320"/>
            <a:chExt cx="7112160" cy="598320"/>
          </a:xfrm>
        </p:grpSpPr>
        <p:pic>
          <p:nvPicPr>
            <p:cNvPr id="176" name="" descr=""/>
            <p:cNvPicPr/>
            <p:nvPr/>
          </p:nvPicPr>
          <p:blipFill>
            <a:blip r:embed="rId3"/>
            <a:srcRect l="42120" t="10676" r="13253" b="82492"/>
            <a:stretch/>
          </p:blipFill>
          <p:spPr>
            <a:xfrm>
              <a:off x="914400" y="1219320"/>
              <a:ext cx="7112160" cy="59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 txBox="1"/>
            <p:nvPr/>
          </p:nvSpPr>
          <p:spPr>
            <a:xfrm>
              <a:off x="914400" y="1219320"/>
              <a:ext cx="7112160" cy="598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78000" indent="-378000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8" name="" descr=""/>
          <p:cNvPicPr/>
          <p:nvPr/>
        </p:nvPicPr>
        <p:blipFill>
          <a:blip r:embed="rId4"/>
          <a:srcRect l="19602" t="16686" r="25102" b="38145"/>
          <a:stretch/>
        </p:blipFill>
        <p:spPr>
          <a:xfrm>
            <a:off x="1476360" y="1916280"/>
            <a:ext cx="5923080" cy="36306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547640" y="5734080"/>
            <a:ext cx="58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ine aktuelle Controlling Bilanz wird erzeugt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96A0-3BE3-4B48-8D47-390D73569C9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yout / Berechn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684360" y="1125360"/>
          <a:ext cx="7449840" cy="502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125360"/>
                    <a:ext cx="7449840" cy="502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826920" y="4437000"/>
            <a:ext cx="1152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5640" y="4292640"/>
            <a:ext cx="107964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*500047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*500047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*500047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87480" y="2343240"/>
            <a:ext cx="39085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050920" y="242100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000815 Dünger xy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05CB-7FD9-432C-BE8F-A7580C05A0B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tz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omplette Mengenübersicht über die Planung aller Produkte (Managementanforderung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ngenübersicht über die SKW Specials (Energien, Zukauf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orraussetzung für die monatliche Produktkalkul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eicherung und Zugriff auf die  Absatz- und Produktionsplanung im SAP-System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5D9B-3899-4BB4-B8B6-526E268D10A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5564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116000" y="5013360"/>
            <a:ext cx="6472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f5f5f"/>
                </a:solidFill>
                <a:latin typeface="Arial"/>
              </a:rPr>
              <a:t>SKW Stickstoffwerke Piesteritz - Harnstoffbereich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b2b2b2"/>
                </a:solidFill>
                <a:latin typeface="Arial"/>
              </a:rPr>
              <a:t>Marl, 30.01.2003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99cc00"/>
                </a:solidFill>
                <a:latin typeface="Arial"/>
              </a:rPr>
              <a:t>http:// www.jwconsulting.de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26920" y="404640"/>
            <a:ext cx="77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9280" y="476280"/>
            <a:ext cx="87138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genbilanz in der chemischen Industr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187280" y="1700280"/>
            <a:ext cx="6524640" cy="32749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403280" y="1197000"/>
            <a:ext cx="5616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116000" y="1197000"/>
            <a:ext cx="68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Arial"/>
              </a:rPr>
              <a:t>Bernd Mickley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en-US" sz="2000" spc="-1" strike="noStrike">
                <a:solidFill>
                  <a:srgbClr val="b2b2b2"/>
                </a:solidFill>
                <a:latin typeface="Arial"/>
              </a:rPr>
              <a:t>Consulting Gmb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ration in das SA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r Absatz- und Produktionsplan ist eine unabdingbare Vorrausetzung für die Mengenbilanz </a:t>
            </a:r>
            <a:r>
              <a:rPr b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PP, M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atzzahlen sind Kunden-, Produkt-, Mengen-  und Terminabhängig </a:t>
            </a:r>
            <a:r>
              <a:rPr b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trolling der Kosten ist notwendig </a:t>
            </a:r>
            <a:r>
              <a:rPr b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C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t- und Plandaten werden benötigt </a:t>
            </a:r>
            <a:r>
              <a:rPr b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FI, PP und C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E83F-5A26-48CF-A32C-1638E7C4776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zenario einer individuellen Absatz- und Produktionsplanu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640" y="1196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e Produktion für einige</a:t>
            </a:r>
            <a:r>
              <a:rPr b="1" lang="en-US" sz="2200" spc="-1" strike="noStrike">
                <a:solidFill>
                  <a:srgbClr val="3366ff"/>
                </a:solidFill>
                <a:latin typeface="Arial"/>
              </a:rPr>
              <a:t> Hauptprodukt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erfolgt kontinuierlich nach Kundenaufträgen und Erfahrungswerten. Sie ist planungsintensiv, weil sie abhängig ist von der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lagenauslastung (kontinuierlich, möglichst 100%) 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duktverpflechtung der  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gerkapazität 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sandplanung (Absatz, Transportwege) 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lagenkapazität (Wartung, Reparatur) 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ison und vo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ett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66ff"/>
                </a:solidFill>
                <a:latin typeface="Arial"/>
              </a:rPr>
              <a:t>Produktio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1" lang="en-US" sz="2200" spc="-1" strike="noStrike">
                <a:solidFill>
                  <a:srgbClr val="3366ff"/>
                </a:solidFill>
                <a:latin typeface="Arial"/>
              </a:rPr>
              <a:t>Absatz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werden im Excel geplant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4C1D-792F-48CF-BC71-AFF85EF59C2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zenario einer individuellen Absatz- und Produktionsplan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e Produktion der </a:t>
            </a:r>
            <a:r>
              <a:rPr b="1" lang="en-US" sz="2200" spc="-1" strike="noStrike">
                <a:solidFill>
                  <a:srgbClr val="3366ff"/>
                </a:solidFill>
                <a:latin typeface="Arial"/>
              </a:rPr>
              <a:t>übrigen  Produkt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st nicht planungsrelevant. Sie erfolgt diskontinuierlich nach Kundenaufträgen und Erfahrungswert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66ff"/>
                </a:solidFill>
                <a:latin typeface="Arial"/>
              </a:rPr>
              <a:t>Produktion</a:t>
            </a:r>
            <a:r>
              <a:rPr b="1" lang="en-US" sz="2200" spc="-1" strike="noStrike">
                <a:solidFill>
                  <a:srgbClr val="6666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200" spc="-1" strike="noStrike">
                <a:solidFill>
                  <a:srgbClr val="6666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3366ff"/>
                </a:solidFill>
                <a:latin typeface="Arial"/>
              </a:rPr>
              <a:t>geplanter Absatz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eil der Verbrauch der Hauptprodukte an der Gesamtproduktion gering ist</a:t>
            </a:r>
            <a:r>
              <a:rPr b="1" lang="en-US" sz="2200" spc="-1" strike="noStrike">
                <a:solidFill>
                  <a:srgbClr val="6666ff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r </a:t>
            </a:r>
            <a:r>
              <a:rPr b="1" lang="en-US" sz="2200" spc="-1" strike="noStrike">
                <a:solidFill>
                  <a:srgbClr val="3366ff"/>
                </a:solidFill>
                <a:latin typeface="Arial"/>
              </a:rPr>
              <a:t>Absatz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wird im SAP geplant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2928-F7BA-4AD1-A4FF-294D2BFC22A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299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ösungskonz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42920" y="1197000"/>
            <a:ext cx="7416720" cy="2160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16000" y="1341360"/>
            <a:ext cx="597708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66ff"/>
                </a:solidFill>
                <a:latin typeface="Arial"/>
              </a:rPr>
              <a:t>SAP ist das Master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lle Daten sind auf einer Datenbank gespeiche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lle betriebswirtschaftlichen Erfordernisse erfolgen im SAP Standard und/oder individuellen Repor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42920" y="4005360"/>
            <a:ext cx="7489800" cy="2232000"/>
          </a:xfrm>
          <a:prstGeom prst="rect">
            <a:avLst/>
          </a:prstGeom>
          <a:gradFill rotWithShape="0">
            <a:gsLst>
              <a:gs pos="0">
                <a:srgbClr val="bbe0e3">
                  <a:alpha val="84313"/>
                </a:srgbClr>
              </a:gs>
              <a:gs pos="100000">
                <a:srgbClr val="ffffff">
                  <a:alpha val="8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149720"/>
            <a:ext cx="741672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Excel ist ein Operator zur Bestimmung der Abhängigkeiten</a:t>
            </a: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imulation des Absatzes und der Produktion; Störungen, Nebenbedingungen, An- und Abfahrprozesse, Wetter, Erfahrungen, Kopf des Mensc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Hervorragendes Layout; flexible Zellreferenz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5003640" y="3357360"/>
            <a:ext cx="0" cy="64764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059280" y="3357720"/>
            <a:ext cx="0" cy="64764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87280" y="3500280"/>
            <a:ext cx="17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63640" y="3500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ff"/>
                </a:solidFill>
                <a:latin typeface="Arial"/>
              </a:rPr>
              <a:t>Ist-D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04000" y="2637000"/>
            <a:ext cx="2052720" cy="647640"/>
          </a:xfrm>
          <a:prstGeom prst="wedgeRoundRectCallout">
            <a:avLst>
              <a:gd name="adj1" fmla="val -186351"/>
              <a:gd name="adj2" fmla="val 120587"/>
              <a:gd name="adj3" fmla="val 16667"/>
            </a:avLst>
          </a:prstGeom>
          <a:solidFill>
            <a:srgbClr val="e6c0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948360" y="2781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nittstell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148360" y="3500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Pland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B5BE-AD58-4C14-B287-9571E872A66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nittstelle für die Datenbereitstellung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t OLE2 wegen der Zellreferenzier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wnload für Ist-Daten (Exceldatei mit 4 Mappen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4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ktion pro Produkt : tägliche und monatliche Ist-Daten (Produktion,  Versand, Sekundärbedarf, Eigenbedarf, Zukauf, Bestan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4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satz pro Produkt; pro Monat : monatliche Ist-Daten (bis     Monatsabschluss), Plandaten für Rest des Jahres (variabel kumuliert nach 3 Planungshierarchien, Produkt,      Kunde und Kennziffer wie Inland, Export, Erlöse,       Transportweg, … 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4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ücklisten: ausgewählter Verbrauch von  Zwischenproduk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6666ff"/>
                </a:solidFill>
                <a:latin typeface="Arial"/>
              </a:rPr>
              <a:t>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E36B-59C2-48DC-AD31-2B2D3622DE6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rcRect l="0" t="7726" r="56066" b="10039"/>
          <a:stretch/>
        </p:blipFill>
        <p:spPr>
          <a:xfrm>
            <a:off x="380880" y="0"/>
            <a:ext cx="8229600" cy="6126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0DD3-CC3F-4DCF-A0D1-9C6F16D03F6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16:02:42Z</dcterms:created>
  <dc:creator>PC 01</dc:creator>
  <dc:description/>
  <dc:language>en-US</dc:language>
  <cp:lastModifiedBy>Dr. Jochen Winkler</cp:lastModifiedBy>
  <dcterms:modified xsi:type="dcterms:W3CDTF">2003-02-07T14:32:12Z</dcterms:modified>
  <cp:revision>126</cp:revision>
  <dc:subject/>
  <dc:title>Bernd Mickley  jwConsulting   http:// www.jwconsulting.de</dc:title>
</cp:coreProperties>
</file>