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A77-C9E2-446E-B78A-B9F63D13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513-D35D-47DB-B735-761E0D30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076-DE87-4B4D-9AF6-35052A31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B26-B5AB-4B98-9EA2-10211667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EF8-1C02-43A0-988C-D22366A0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3FD-B133-48FB-B6FA-6C6D03C3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0CA-49CA-47CB-8C3E-56DF197E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E26-2CFF-4614-BB5A-02903BB5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951-F0DB-4236-895E-5604FB19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309-EA57-4F16-A3E4-BA230822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944-387C-4206-9B85-F3CB3C3D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FE5-A700-4F5A-B9D6-CDAFCEB7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28584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87C5F85F-258B-40F5-B811-612D045DC2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16000" y="5013360"/>
            <a:ext cx="647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Arial"/>
              </a:rPr>
              <a:t>SKW Stickstoffwerke Piesteritz - Harnstoffbereich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Marl, 30.01.200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</a:rPr>
              <a:t>http:// www.jwconsulting.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7628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in der chemischen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524640" cy="327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197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Bernd Mickley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Consult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load für Plan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 Produkt : tägliche und monatliche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oduktion,  Versand, Sekundärbedarf, Eigenbedarf, Zukauf, Bestand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; pro Monat : monatliche  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 Planungshierarchien, Produkt, Kunde und Kennziffer wie Menge Inland, Menge Export, Erlöse, Menge Transportweg, …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nd monatlich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4E9-3357-464E-96F6-BCA45AF272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7667" r="48684" b="14911"/>
          <a:stretch/>
        </p:blipFill>
        <p:spPr>
          <a:xfrm>
            <a:off x="380880" y="620640"/>
            <a:ext cx="822960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B11-FC39-44AD-AAAB-C88FFA9BD9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D9B-DCDA-4207-906D-A8BF19527D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der Bilanzgleich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1557360"/>
            <a:ext cx="194472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1557360"/>
            <a:ext cx="2592360" cy="936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7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2360" y="1773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kundärbedar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1844640"/>
            <a:ext cx="1944720" cy="7164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29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437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k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4292640"/>
            <a:ext cx="2664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4365720"/>
            <a:ext cx="1944720" cy="718920"/>
          </a:xfrm>
          <a:prstGeom prst="rect">
            <a:avLst/>
          </a:prstGeom>
          <a:solidFill>
            <a:srgbClr val="abc0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gen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3716280"/>
            <a:ext cx="0" cy="57636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5445000"/>
            <a:ext cx="79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ne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=  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  P   +   Z   –   A   –   S   –  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2852640"/>
            <a:ext cx="1944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1413000"/>
            <a:ext cx="934920" cy="792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2736000" y="2816280"/>
            <a:ext cx="647640" cy="7192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2852640"/>
            <a:ext cx="720720" cy="647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3419280" y="2204640"/>
            <a:ext cx="1944360" cy="647640"/>
          </a:xfrm>
          <a:custGeom>
            <a:avLst/>
            <a:gdLst>
              <a:gd name="textAreaLeft" fmla="*/ 427320 w 1944360"/>
              <a:gd name="textAreaRight" fmla="*/ 1517040 w 194436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116000" y="3499560"/>
            <a:ext cx="6696000" cy="360360"/>
          </a:xfrm>
          <a:custGeom>
            <a:avLst/>
            <a:gdLst>
              <a:gd name="textAreaLeft" fmla="*/ 1472400 w 6696000"/>
              <a:gd name="textAreaRight" fmla="*/ 5223600 w 6696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29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19280" y="3212640"/>
            <a:ext cx="1512720" cy="1079640"/>
          </a:xfrm>
          <a:prstGeom prst="line">
            <a:avLst/>
          </a:prstGeom>
          <a:ln w="57240">
            <a:solidFill>
              <a:srgbClr val="e6c0b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3357720"/>
            <a:ext cx="1727280" cy="93492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1557360"/>
            <a:ext cx="9349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1844640"/>
            <a:ext cx="1152720" cy="576360"/>
          </a:xfrm>
          <a:prstGeom prst="line">
            <a:avLst/>
          </a:prstGeom>
          <a:ln w="572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1E4-D1A7-4F0B-9E09-9A6A1E996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ne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+    P   +   Z   –   A   –   S   –   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Ist-Daten erfolgt keine Berechnung 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Plandaten kann 1 Term immer berechnet werden. Folgende Vorgehensweise ist sinnvoll, falls der Absatz vorgegeben is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kundärbedarf berech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ion berechnen (falls P sich aus Absatz ergibt; sonst P unverändert aus Schnittstel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 = A + S + E – 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and berechnen      B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 P – A – S – E + 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4F8-8B41-4C9B-BC5C-40AB51D039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zielle Bilanzierung (Medien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 Mitteldruckdampf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riable Stückli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lauf der MD-Bila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Spezielle Bilanz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F8D-B3AD-4FB1-817B-8872B75904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Mitteldruckdamp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ufga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gesamte Anfall von MD-Dampf soll einem Produk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eführt werden, dafür ist der Verbrauch von MD-Dampf bei diesen Produkt um die Menge des Anfalls zu reduzier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21D-7470-4487-8517-2FE947B134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Stückliste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484280"/>
            <a:ext cx="770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13000"/>
            <a:ext cx="7848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ückliste Flüssigdünger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000 t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Bere-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rauch: Roh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rauch: MD-Damp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a to     x  = a - y  - 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rauch: Anfall MD- Damp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1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93372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1000 to Flüssigdünger herzustellen, werden a to MD-Dampf verbraucht, falls kein Produkt hergestellt wird, bei dem MD-Dampf anfällt. Das Verhältnis Anfall/Verbrauch (x/y) wird bei der Produktkalkulation benötigt. Es beeinflusst die Herstellkosten und ändert sich periodisc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2C3-CBF2-4FB4-9451-F067CD1959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lauf der Bilan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413000"/>
            <a:ext cx="74883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Ermittlung Anfalls von MD-Dampf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Bilanz Anfall MD-Dam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              Sekundärbedarf  =  Summe Anfall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Produktion = 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Bilanz MD-Dam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Sekundärbedarf für   Flüssigdünger aus Stückliste berechnen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 Menge Flüssigdünger / 1000 ) *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Bilanz MD-Dampf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kundärbedarf für    Flüssigdünger reduz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s = m -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FC7-39EE-40BA-9ABF-AD99F318E1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Spezielle Bilan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Niederdruckdampf – Bil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 der MD-Bilanz kann eine ND-Bilanz aufgebaut werden. Beim Einsatz von MD-Dampf fällt ND-Dampf an. Der Anfall von ND-Dampf kann in einem anderen Produkt eingesetzt werden. Es treten folgende Fälle au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Verbrauch &gt; Anf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muss hergestellt werd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= Verbrauch Anfall. 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Verbrauch &lt; Anfall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 (m = Anfall –Verbrauch) wird abgeblasen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d ND-Dampf eingesetzt entsteht Kondensat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38F-EF23-4394-99DF-599AB865A4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PP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atzplan und Produktions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gemeine Bilanzglei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zielle Bilanzierung (Medien u.a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A13-713C-4BDC-AA46-576E71EFB5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Spezielle Bilan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lgende Bilanzkette lässt sich entwickel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D-Dampf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D-Dampf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Kondens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ektroenergi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Zukauf wird berechnet aus der fehlenden Menge  (Verbrauch – Anfal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rumentenluf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Verteilung der Instrumentenluft wird berech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wachsäur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Zukauf von Salpetersäure wird berech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9F4-22A4-467E-9D6D-63B04B7CE1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Spezielle Bilan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üssiger Stickstoff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Zukauf wird berechn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dga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eingesetzte Erdgas beeinflusst den Preis von  Ammoniak. Hier erfolgt eine Bilanz für einen wichtigen Rohstoff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2D5-777C-4BDC-8D4F-AA37E7412C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9FB-EBD4-4827-8680-9B44D883CA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B     10 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A      1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Jeweils 100 to von A und B sollen verkauf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Ein Initialbestand von B  (10 to) sei vorhande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5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rekursive Stück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1A2-8481-4DE8-9AE1-BF9227AED8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147160" cy="3405240"/>
        </p:xfrm>
        <a:graphic>
          <a:graphicData uri="http://schemas.openxmlformats.org/drawingml/2006/table">
            <a:tbl>
              <a:tblPr/>
              <a:tblGrid>
                <a:gridCol w="723960"/>
                <a:gridCol w="1285920"/>
                <a:gridCol w="1498320"/>
                <a:gridCol w="1428840"/>
                <a:gridCol w="1625760"/>
                <a:gridCol w="15843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/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/22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/222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452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45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26920" y="5516640"/>
            <a:ext cx="777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s =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/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0,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700360" y="2565360"/>
            <a:ext cx="431640" cy="719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323-E7F5-4619-A67C-5897632D36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Iteration erfolgt also in der Fol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Sekundärbedarf </a:t>
            </a:r>
            <a:r>
              <a:rPr b="1" lang="de-DE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Produktion </a:t>
            </a:r>
            <a:r>
              <a:rPr b="1" lang="de-DE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Spec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Konvergenzkonstante  Epsil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-   P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+  P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ird in einer Customizing Table gesetzt.  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m Beispiel  auf 0,00001, also auf 0,001 %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727-A60D-4754-AF06-45616D476E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maximale Anzahl der Iterationen wird in einer Customizing Tabelle gesetzt. Sie beträgt gegenwärtig 5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 Nichterreichen der Konvergenz wird gemeldet (Monat, MatNr., berechnetes Epsilon)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4C0-3902-4DD8-9028-72118D467A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 erfolgt in den Schritten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2276640"/>
            <a:ext cx="2232000" cy="187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6360" y="2349360"/>
            <a:ext cx="223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4581360"/>
            <a:ext cx="2448000" cy="863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479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268360" y="50133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68360" y="328464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3284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4365720"/>
            <a:ext cx="79200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501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443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DF7-0120-4196-9215-990B500273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 Monat werden 100 Produkte berechnet. Dafür werden im Durchschnitt 15 Iterationen benöti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 die Bilanz für immer für 12 Monate benötigt wird ergeben sich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 x 15 x 12 = 18.000 Berechnung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ungswert 5-7 Min. für 12 Mon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szeit sinkt bei Mischversione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8E4-B714-43AF-BA6B-FABC7AC5CA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6A4-6267-4DFF-9A9E-5719A24DFD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atz- und Produktions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der Planung im SAP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s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5AA-E5BC-4FD5-9051-562737F1D7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5280" y="1268280"/>
            <a:ext cx="5614920" cy="1979640"/>
            <a:chOff x="395280" y="1268280"/>
            <a:chExt cx="5614920" cy="19796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rcRect l="0" t="6989" r="57699" b="65955"/>
            <a:stretch/>
          </p:blipFill>
          <p:spPr>
            <a:xfrm>
              <a:off x="395280" y="1268280"/>
              <a:ext cx="561492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 txBox="1"/>
            <p:nvPr/>
          </p:nvSpPr>
          <p:spPr>
            <a:xfrm>
              <a:off x="395280" y="1268280"/>
              <a:ext cx="5614920" cy="19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39640" y="3789360"/>
            <a:ext cx="770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-Daten aktualisieren 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Analysiert alle IST - Buch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daten aktualisiere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tellt alle Plandaten einer   Planversion ber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2060640"/>
            <a:ext cx="3313080" cy="288720"/>
          </a:xfrm>
          <a:prstGeom prst="wedgeRoundRectCallout">
            <a:avLst>
              <a:gd name="adj1" fmla="val -60495"/>
              <a:gd name="adj2" fmla="val 67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1989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anz Jahr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2708280"/>
            <a:ext cx="3456000" cy="360360"/>
          </a:xfrm>
          <a:prstGeom prst="wedgeRoundRectCallout">
            <a:avLst>
              <a:gd name="adj1" fmla="val -67777"/>
              <a:gd name="adj2" fmla="val -57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2708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CE3-DCEE-4B9D-B10A-81FAE2513E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000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Ist-Da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Ax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Plan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Cxx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 nach Version kann eine Bilanz aus Ist-Daten, Plandaten oder eine gemischte Version aus Ist- und Plandaten erstellt werde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8A4-5ECA-48A2-AB90-F3D83687A1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2752560"/>
          <a:ext cx="4038480" cy="22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914400" y="1219320"/>
            <a:ext cx="7112160" cy="598320"/>
            <a:chOff x="914400" y="1219320"/>
            <a:chExt cx="7112160" cy="59832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rcRect l="42120" t="10676" r="13253" b="82492"/>
            <a:stretch/>
          </p:blipFill>
          <p:spPr>
            <a:xfrm>
              <a:off x="914400" y="1219320"/>
              <a:ext cx="71121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 txBox="1"/>
            <p:nvPr/>
          </p:nvSpPr>
          <p:spPr>
            <a:xfrm>
              <a:off x="914400" y="1219320"/>
              <a:ext cx="7112160" cy="59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4"/>
          <a:srcRect l="19602" t="16686" r="25102" b="38145"/>
          <a:stretch/>
        </p:blipFill>
        <p:spPr>
          <a:xfrm>
            <a:off x="1476360" y="1916280"/>
            <a:ext cx="5923080" cy="3630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47640" y="57340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aktuelle Controlling Bilanz wird erzeug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55D-0DA9-4FDE-B7FA-D29217D182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4360" y="1125360"/>
          <a:ext cx="744984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44984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4437000"/>
            <a:ext cx="115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4292640"/>
            <a:ext cx="1079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87480" y="2343240"/>
            <a:ext cx="390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2421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00815 Dünger 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D16-AE09-4E16-9520-00E9A0EA84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mplette Mengenübersicht über die Planung aller Produkte (Managementanforderu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genübersicht über die SKW Specials (Energien, Zukauf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raussetzung für die monatliche Produktkalkul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icherung und Zugriff auf die  Absatz- und Produktionsplanung im SAP-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092-77DB-4F56-9CE2-CF1FEA3DEF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16000" y="5013360"/>
            <a:ext cx="647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Arial"/>
              </a:rPr>
              <a:t>SKW Stickstoffwerke Piesteritz - Harnstoffbereich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Marl, 30.01.200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</a:rPr>
              <a:t>http:// www.jwconsulting.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40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47628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in der chemischen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524640" cy="3274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1197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Bernd Mickley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Consult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in das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Absatz- und Produktionsplan ist eine unabdingbare Vorrausetzung für die Mengenbilanz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P, M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atzzahlen sind Kunden-, Produkt-, Mengen-  und Terminabhängig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der Kosten ist notwendig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 und Plandaten werden benötigt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I, PP und C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C8A-D330-43F9-A8B4-4289DFF006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roduktion für einige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 Hauptproduk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rfolgt kontinuierlich nach Kundenaufträgen und Erfahrungswerten. Sie ist planungsintensiv, weil sie abhängig ist von der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lagenauslastung (kontinuierlich, möglichst 100%) 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verpflechtung der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gerkapazität 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sandplanung (Absatz, Transportwege) 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lagenkapazität (Wartung, Reparatur) 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ison und vo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t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erden im Excel geplan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414-8EFC-4755-92B6-71D967CA82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roduktion 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übrigen  Produk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t nicht planungsrelevant. Sie erfolgt diskontinuierlich nach Kundenaufträgen und Erfahrungswer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geplanter Absatz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l der Verbrauch der Hauptprodukte an der Gesamtproduktion gering ist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rd im SAP gepla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B2E-4757-4F24-B25A-A0FF17D8DF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s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197000"/>
            <a:ext cx="7416720" cy="216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1341360"/>
            <a:ext cx="5977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AP ist das Master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Daten sind auf einer Datenbank 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betriebswirtschaftlichen Erfordernisse erfolgen im SAP Standard und/oder individuellen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005360"/>
            <a:ext cx="7489800" cy="2232000"/>
          </a:xfrm>
          <a:prstGeom prst="rect">
            <a:avLst/>
          </a:prstGeom>
          <a:gradFill rotWithShape="0">
            <a:gsLst>
              <a:gs pos="0">
                <a:srgbClr val="bbe0e3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7416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xcel ist ein Operator zur Bestimmung der Abhängigkeiten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ulation des Absatzes und der Produktion; Störungen, Nebenbedingungen, An- und Abfahrprozesse, Wetter, Erfahrungen, Kopf des Mens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rvorragendes Layout; flexible Zellreferenz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03640" y="3357360"/>
            <a:ext cx="0" cy="647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59280" y="335772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50028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Ist-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2637000"/>
            <a:ext cx="2052720" cy="647640"/>
          </a:xfrm>
          <a:prstGeom prst="wedgeRoundRectCallout">
            <a:avLst>
              <a:gd name="adj1" fmla="val -186351"/>
              <a:gd name="adj2" fmla="val 120587"/>
              <a:gd name="adj3" fmla="val 16667"/>
            </a:avLst>
          </a:prstGeom>
          <a:solidFill>
            <a:srgbClr val="e6c0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48360" y="27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nittstel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lan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42F-AC48-4A87-9227-F3728D4A5A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load für Ist-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 pro Produkt : tägliche und monatliche Ist-Daten (Produktion,  Versand, Sekundärbedarf, Eigenbedarf, Zukauf, Besta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; pro Monat : monatliche Ist-Daten (bis     Monatsabschluss), Plandaten für Rest des Jahres (variabel kumuliert nach 3 Planungshierarchien, Produkt,      Kunde und Kennziffer wie Inland, Export, Erlöse,       Transportweg, …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: ausgewählter Verbrauch von  Zwischenproduk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666ff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C1E-78E4-4C84-8AE2-ED8D9D44DF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7726" r="56066" b="10039"/>
          <a:stretch/>
        </p:blipFill>
        <p:spPr>
          <a:xfrm>
            <a:off x="380880" y="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3B8-001F-4A48-895F-5074182C90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6:02:42Z</dcterms:created>
  <dc:creator>PC 01</dc:creator>
  <dc:description/>
  <dc:language>en-US</dc:language>
  <cp:lastModifiedBy>Dr. Jochen Winkler</cp:lastModifiedBy>
  <dcterms:modified xsi:type="dcterms:W3CDTF">2003-02-07T14:32:12Z</dcterms:modified>
  <cp:revision>126</cp:revision>
  <dc:subject/>
  <dc:title>Bernd Mickley  jwConsulting   http:// www.jwconsulting.de</dc:title>
</cp:coreProperties>
</file>