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2D57-9CC7-4B40-A24B-7C24178C8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CDCA-1989-44E9-AB91-E772D116F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FC3D-874B-47F2-A363-F6E6579CA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A926-6438-48C1-8600-69DCA5506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A21D-8094-4853-B230-0073663CD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BAB0-7649-4BFD-B8B9-6055D0696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02AB-B94D-4305-8E9A-6F59AAD5F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5DED-8000-4356-BBD4-D39206A1A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FCEE-14DD-41C4-83F1-DE48A6E2A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AC8B-F511-46D6-A84A-7171D7F3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1DD9-5664-43F7-8DF2-B2E54861F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F40B-96EA-4E4F-A489-1956475C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550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2076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3241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3241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3241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ff3300"/>
                </a:solidFill>
                <a:latin typeface="Braggadoci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Braggadocio"/>
              </a:rPr>
              <a:t>j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4776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ite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3ECDDB3C-1B49-4C61-89F7-7FD83F140D3F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685800"/>
            <a:ext cx="83818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30.01.2003 in Mar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15238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838080"/>
            <a:ext cx="8001000" cy="54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rzlich Willkommen z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P R/3 Workshop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Produktcontrolling mit neuen SAP R/3 Add-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dustriepark Marl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67A0-E093-410E-9882-4ECDB62BD271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30.01.2003 in Mar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hre direkten Ansprechpartner sind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. Jochen Winkl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xel Röthemei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www.jwconsulting.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sere Homepage im Internet. Hier finden Sie alles Wissenswerte zu unserem Geschäft, lernen Referenzen und Standorte kennen - Mausklick genügt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EDB4-C681-4282-98A7-459E5582C0C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30.01.2003 in Mar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iel der Veranstalt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mitteln von Erfahrungen und Know-how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fnehmen von neuen Kontak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547C-E30F-49D6-8761-794AED28975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30.01.2003 in Mar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80880" y="15238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9480" y="838080"/>
            <a:ext cx="8001000" cy="47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P R/3 Workshop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Produktcontrolling mit </a:t>
            </a:r>
            <a:r>
              <a:rPr b="1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neuen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AP R/3 Add-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dustriepark Mar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l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C419-24DD-4F6A-B205-81B4A662F92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30.01.2003 in Mar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ngenbilanzierung als Voraussetzung für das Produktcontrolling in der Chemie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satz- und Produktplanung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400"/>
              </a:spcBef>
              <a:buNone/>
              <a:tabLst>
                <a:tab algn="l" pos="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natlicher Mengenbilanz aller Produkte für ein Jah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400"/>
              </a:spcBef>
              <a:buNone/>
              <a:tabLst>
                <a:tab algn="l" pos="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499"/>
              </a:spcBef>
              <a:buNone/>
              <a:tabLst>
                <a:tab algn="l" pos="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83808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men heut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1634-288B-4DC4-81C8-2FE1F305090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30.01.2003 in Mar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38760" indent="-33876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duktcontrolling in der Chemie  - Nachkalkulation, Plankalkulation und ableitbare Kalkulation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8760" indent="0">
              <a:spcBef>
                <a:spcPts val="249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47440" indent="-33876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undlagen der Materialkalkulation im SAP-Standard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440" indent="0">
              <a:spcBef>
                <a:spcPts val="201"/>
              </a:spcBef>
              <a:buNone/>
              <a:tabLst>
                <a:tab algn="l" pos="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47440" indent="-33876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kursive Stücklisten in der Materialkalk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440" indent="0">
              <a:spcBef>
                <a:spcPts val="201"/>
              </a:spcBef>
              <a:buNone/>
              <a:tabLst>
                <a:tab algn="l" pos="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47440" indent="-33876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chkalk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440" indent="0">
              <a:spcBef>
                <a:spcPts val="201"/>
              </a:spcBef>
              <a:buNone/>
              <a:tabLst>
                <a:tab algn="l" pos="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47440" indent="-33876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kalk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440" indent="0">
              <a:spcBef>
                <a:spcPts val="201"/>
              </a:spcBef>
              <a:buNone/>
              <a:tabLst>
                <a:tab algn="l" pos="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47440" indent="-33876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chrechn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440" indent="0">
              <a:spcBef>
                <a:spcPts val="201"/>
              </a:spcBef>
              <a:buNone/>
              <a:tabLst>
                <a:tab algn="l" pos="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47440" indent="-33876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schkalk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83808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men heut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D8F2-1FD8-4B79-97A4-864A594D252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30.01.2003 in Mar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jekte und Add-on Entwicklungen von </a:t>
            </a:r>
            <a:r>
              <a:rPr b="0" lang="de-DE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 2002 und 2003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jek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249"/>
              </a:spcBef>
              <a:buNone/>
              <a:tabLst>
                <a:tab algn="l" pos="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ntwickl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249"/>
              </a:spcBef>
              <a:buNone/>
              <a:tabLst>
                <a:tab algn="l" pos="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jektmanag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0">
              <a:spcBef>
                <a:spcPts val="451"/>
              </a:spcBef>
              <a:buNone/>
              <a:tabLst>
                <a:tab algn="l" pos="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83808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men heut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8CB7-5AB4-4857-951C-10E4B3DB418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30.01.2003 in Mar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1812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Weitere Workshops im 1. Quartal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1812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1812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1812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04.02.2003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omfortable, kundenbezogene Add-ons in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erbindung mit SAP R/3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1812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(Themen: s. vorliegende Agenda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1812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1812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27.03.2003 jwAdd-Ons für SAP R/3 im Interne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1812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1812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2AEA-4D6B-4507-922F-D9D29267301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30.01.2003 in Mar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92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as Beratungsunternehmen </a:t>
            </a:r>
            <a:r>
              <a:rPr b="0" lang="en-US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ulting wurde am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. Juli 1996 von Dr. Jochen Winkler gegründet und firmiert seit Mai 2002 als </a:t>
            </a:r>
            <a:r>
              <a:rPr b="0" lang="en-US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ulting GmbH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on Anfang an spezialisierte sich das Unternehmen auf die komplette Einführung von SAP R/3-Systemen in Unternehmen der Prozessindustri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duktspektrum heute:  Unternehmensausrichtung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SAP R/3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Wingdings"/>
                <a:ea typeface="Wingdings"/>
              </a:rPr>
              <a:t>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Chemische Industrie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	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Add-Ons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Wingdings"/>
                <a:ea typeface="Wingdings"/>
              </a:rPr>
              <a:t>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Pharmazeutische Industri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Web-Applications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Wingdings"/>
                <a:ea typeface="Wingdings"/>
              </a:rPr>
              <a:t>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Medizi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9907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r Start von </a:t>
            </a:r>
            <a:r>
              <a:rPr b="0" lang="en-US" sz="32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sul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AA48-155D-47B8-B1AE-889756031A0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30.01.2003 in Mar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433520" y="1973160"/>
            <a:ext cx="6265800" cy="4292640"/>
            <a:chOff x="1433520" y="1973160"/>
            <a:chExt cx="6265800" cy="4292640"/>
          </a:xfrm>
        </p:grpSpPr>
        <p:grpSp>
          <p:nvGrpSpPr>
            <p:cNvPr id="61" name=""/>
            <p:cNvGrpSpPr/>
            <p:nvPr/>
          </p:nvGrpSpPr>
          <p:grpSpPr>
            <a:xfrm>
              <a:off x="1857240" y="2735280"/>
              <a:ext cx="846360" cy="901800"/>
              <a:chOff x="1857240" y="2735280"/>
              <a:chExt cx="846360" cy="901800"/>
            </a:xfrm>
          </p:grpSpPr>
          <p:sp>
            <p:nvSpPr>
              <p:cNvPr id="62" name=""/>
              <p:cNvSpPr/>
              <p:nvPr/>
            </p:nvSpPr>
            <p:spPr>
              <a:xfrm>
                <a:off x="1857240" y="2736720"/>
                <a:ext cx="84636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862280" y="273528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281320" y="273672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862280" y="311796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281320" y="311940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4352760" y="1973160"/>
              <a:ext cx="846360" cy="901800"/>
              <a:chOff x="4352760" y="1973160"/>
              <a:chExt cx="846360" cy="901800"/>
            </a:xfrm>
          </p:grpSpPr>
          <p:sp>
            <p:nvSpPr>
              <p:cNvPr id="68" name=""/>
              <p:cNvSpPr/>
              <p:nvPr/>
            </p:nvSpPr>
            <p:spPr>
              <a:xfrm>
                <a:off x="4352760" y="1974960"/>
                <a:ext cx="84636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357800" y="197316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776840" y="197496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357800" y="235584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4776840" y="235728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" name=""/>
            <p:cNvGrpSpPr/>
            <p:nvPr/>
          </p:nvGrpSpPr>
          <p:grpSpPr>
            <a:xfrm>
              <a:off x="6435720" y="3102120"/>
              <a:ext cx="839880" cy="901440"/>
              <a:chOff x="6435720" y="3102120"/>
              <a:chExt cx="839880" cy="901440"/>
            </a:xfrm>
          </p:grpSpPr>
          <p:sp>
            <p:nvSpPr>
              <p:cNvPr id="74" name=""/>
              <p:cNvSpPr/>
              <p:nvPr/>
            </p:nvSpPr>
            <p:spPr>
              <a:xfrm>
                <a:off x="6435720" y="3103560"/>
                <a:ext cx="839880" cy="754200"/>
              </a:xfrm>
              <a:custGeom>
                <a:avLst/>
                <a:gdLst/>
                <a:ahLst/>
                <a:rect l="l" t="t" r="r" b="b"/>
                <a:pathLst>
                  <a:path w="529" h="475">
                    <a:moveTo>
                      <a:pt x="266" y="0"/>
                    </a:moveTo>
                    <a:lnTo>
                      <a:pt x="0" y="238"/>
                    </a:lnTo>
                    <a:lnTo>
                      <a:pt x="266" y="474"/>
                    </a:lnTo>
                    <a:lnTo>
                      <a:pt x="528" y="238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853320" y="3102120"/>
                <a:ext cx="41760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323"/>
                    </a:moveTo>
                    <a:lnTo>
                      <a:pt x="262" y="233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2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435720" y="3103560"/>
                <a:ext cx="415800" cy="517680"/>
              </a:xfrm>
              <a:custGeom>
                <a:avLst/>
                <a:gdLst/>
                <a:ahLst/>
                <a:rect l="l" t="t" r="r" b="b"/>
                <a:pathLst>
                  <a:path w="262" h="326">
                    <a:moveTo>
                      <a:pt x="0" y="325"/>
                    </a:moveTo>
                    <a:lnTo>
                      <a:pt x="0" y="235"/>
                    </a:lnTo>
                    <a:lnTo>
                      <a:pt x="261" y="0"/>
                    </a:lnTo>
                    <a:lnTo>
                      <a:pt x="261" y="91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853320" y="348444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435720" y="3486240"/>
                <a:ext cx="415800" cy="517320"/>
              </a:xfrm>
              <a:custGeom>
                <a:avLst/>
                <a:gdLst/>
                <a:ahLst/>
                <a:rect l="l" t="t" r="r" b="b"/>
                <a:pathLst>
                  <a:path w="262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5"/>
                    </a:lnTo>
                    <a:lnTo>
                      <a:pt x="261" y="2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" name=""/>
            <p:cNvGrpSpPr/>
            <p:nvPr/>
          </p:nvGrpSpPr>
          <p:grpSpPr>
            <a:xfrm>
              <a:off x="6854760" y="3479760"/>
              <a:ext cx="839880" cy="905040"/>
              <a:chOff x="6854760" y="3479760"/>
              <a:chExt cx="839880" cy="905040"/>
            </a:xfrm>
          </p:grpSpPr>
          <p:sp>
            <p:nvSpPr>
              <p:cNvPr id="80" name=""/>
              <p:cNvSpPr/>
              <p:nvPr/>
            </p:nvSpPr>
            <p:spPr>
              <a:xfrm>
                <a:off x="6854760" y="3483000"/>
                <a:ext cx="839880" cy="758880"/>
              </a:xfrm>
              <a:custGeom>
                <a:avLst/>
                <a:gdLst/>
                <a:ahLst/>
                <a:rect l="l" t="t" r="r" b="b"/>
                <a:pathLst>
                  <a:path w="529" h="478">
                    <a:moveTo>
                      <a:pt x="266" y="0"/>
                    </a:moveTo>
                    <a:lnTo>
                      <a:pt x="0" y="239"/>
                    </a:lnTo>
                    <a:lnTo>
                      <a:pt x="266" y="477"/>
                    </a:lnTo>
                    <a:lnTo>
                      <a:pt x="528" y="239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272360" y="3479760"/>
                <a:ext cx="417600" cy="52092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854760" y="3479760"/>
                <a:ext cx="416160" cy="52092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0" y="327"/>
                    </a:moveTo>
                    <a:lnTo>
                      <a:pt x="0" y="236"/>
                    </a:lnTo>
                    <a:lnTo>
                      <a:pt x="261" y="0"/>
                    </a:lnTo>
                    <a:lnTo>
                      <a:pt x="261" y="91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272360" y="3865680"/>
                <a:ext cx="41760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854760" y="3870360"/>
                <a:ext cx="41616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6435720" y="3855960"/>
              <a:ext cx="839880" cy="905040"/>
              <a:chOff x="6435720" y="3855960"/>
              <a:chExt cx="839880" cy="905040"/>
            </a:xfrm>
          </p:grpSpPr>
          <p:sp>
            <p:nvSpPr>
              <p:cNvPr id="86" name=""/>
              <p:cNvSpPr/>
              <p:nvPr/>
            </p:nvSpPr>
            <p:spPr>
              <a:xfrm>
                <a:off x="6435720" y="3859200"/>
                <a:ext cx="839880" cy="758880"/>
              </a:xfrm>
              <a:custGeom>
                <a:avLst/>
                <a:gdLst/>
                <a:ahLst/>
                <a:rect l="l" t="t" r="r" b="b"/>
                <a:pathLst>
                  <a:path w="529" h="478">
                    <a:moveTo>
                      <a:pt x="266" y="0"/>
                    </a:moveTo>
                    <a:lnTo>
                      <a:pt x="0" y="239"/>
                    </a:lnTo>
                    <a:lnTo>
                      <a:pt x="266" y="477"/>
                    </a:lnTo>
                    <a:lnTo>
                      <a:pt x="528" y="239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853320" y="3855960"/>
                <a:ext cx="417600" cy="52092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435720" y="3855960"/>
                <a:ext cx="415800" cy="52092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0" y="327"/>
                    </a:moveTo>
                    <a:lnTo>
                      <a:pt x="0" y="236"/>
                    </a:lnTo>
                    <a:lnTo>
                      <a:pt x="261" y="0"/>
                    </a:lnTo>
                    <a:lnTo>
                      <a:pt x="261" y="91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853320" y="424188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435720" y="424656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6854760" y="4237200"/>
              <a:ext cx="839880" cy="904680"/>
              <a:chOff x="6854760" y="4237200"/>
              <a:chExt cx="839880" cy="904680"/>
            </a:xfrm>
          </p:grpSpPr>
          <p:sp>
            <p:nvSpPr>
              <p:cNvPr id="92" name=""/>
              <p:cNvSpPr/>
              <p:nvPr/>
            </p:nvSpPr>
            <p:spPr>
              <a:xfrm>
                <a:off x="6854760" y="4240080"/>
                <a:ext cx="839880" cy="758880"/>
              </a:xfrm>
              <a:custGeom>
                <a:avLst/>
                <a:gdLst/>
                <a:ahLst/>
                <a:rect l="l" t="t" r="r" b="b"/>
                <a:pathLst>
                  <a:path w="529" h="478">
                    <a:moveTo>
                      <a:pt x="266" y="0"/>
                    </a:moveTo>
                    <a:lnTo>
                      <a:pt x="0" y="239"/>
                    </a:lnTo>
                    <a:lnTo>
                      <a:pt x="266" y="477"/>
                    </a:lnTo>
                    <a:lnTo>
                      <a:pt x="528" y="239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272360" y="4237200"/>
                <a:ext cx="41760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854760" y="4237200"/>
                <a:ext cx="416160" cy="52056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0" y="327"/>
                    </a:moveTo>
                    <a:lnTo>
                      <a:pt x="0" y="236"/>
                    </a:lnTo>
                    <a:lnTo>
                      <a:pt x="261" y="0"/>
                    </a:lnTo>
                    <a:lnTo>
                      <a:pt x="261" y="91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272360" y="462276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854760" y="4627440"/>
                <a:ext cx="41616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2274840" y="2357280"/>
              <a:ext cx="846360" cy="901800"/>
              <a:chOff x="2274840" y="2357280"/>
              <a:chExt cx="846360" cy="901800"/>
            </a:xfrm>
          </p:grpSpPr>
          <p:sp>
            <p:nvSpPr>
              <p:cNvPr id="98" name=""/>
              <p:cNvSpPr/>
              <p:nvPr/>
            </p:nvSpPr>
            <p:spPr>
              <a:xfrm>
                <a:off x="2274840" y="2359080"/>
                <a:ext cx="84636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79520" y="235728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698920" y="235908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279520" y="27399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698920" y="274176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2271600" y="3102120"/>
              <a:ext cx="846360" cy="901440"/>
              <a:chOff x="2271600" y="3102120"/>
              <a:chExt cx="846360" cy="901440"/>
            </a:xfrm>
          </p:grpSpPr>
          <p:sp>
            <p:nvSpPr>
              <p:cNvPr id="104" name=""/>
              <p:cNvSpPr/>
              <p:nvPr/>
            </p:nvSpPr>
            <p:spPr>
              <a:xfrm>
                <a:off x="2271600" y="3103560"/>
                <a:ext cx="84636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276640" y="3102120"/>
                <a:ext cx="41724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695680" y="310356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276640" y="348444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695680" y="348624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3508200" y="1976400"/>
              <a:ext cx="846360" cy="901800"/>
              <a:chOff x="3508200" y="1976400"/>
              <a:chExt cx="846360" cy="901800"/>
            </a:xfrm>
          </p:grpSpPr>
          <p:sp>
            <p:nvSpPr>
              <p:cNvPr id="110" name=""/>
              <p:cNvSpPr/>
              <p:nvPr/>
            </p:nvSpPr>
            <p:spPr>
              <a:xfrm>
                <a:off x="3508200" y="1978200"/>
                <a:ext cx="84636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513240" y="197640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932280" y="197820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513240" y="235908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932280" y="236052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2693880" y="1981080"/>
              <a:ext cx="846360" cy="901800"/>
              <a:chOff x="2693880" y="1981080"/>
              <a:chExt cx="846360" cy="901800"/>
            </a:xfrm>
          </p:grpSpPr>
          <p:sp>
            <p:nvSpPr>
              <p:cNvPr id="116" name=""/>
              <p:cNvSpPr/>
              <p:nvPr/>
            </p:nvSpPr>
            <p:spPr>
              <a:xfrm>
                <a:off x="2693880" y="1982880"/>
                <a:ext cx="84636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698920" y="198108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117960" y="198288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698920" y="236376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117960" y="236520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1851120" y="3476520"/>
              <a:ext cx="846000" cy="901800"/>
              <a:chOff x="1851120" y="3476520"/>
              <a:chExt cx="846000" cy="901800"/>
            </a:xfrm>
          </p:grpSpPr>
          <p:sp>
            <p:nvSpPr>
              <p:cNvPr id="122" name=""/>
              <p:cNvSpPr/>
              <p:nvPr/>
            </p:nvSpPr>
            <p:spPr>
              <a:xfrm>
                <a:off x="1851120" y="3478320"/>
                <a:ext cx="84600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855800" y="347652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74840" y="347832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855800" y="385920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274840" y="386064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433520" y="3849840"/>
              <a:ext cx="846000" cy="901440"/>
              <a:chOff x="1433520" y="3849840"/>
              <a:chExt cx="846000" cy="901440"/>
            </a:xfrm>
          </p:grpSpPr>
          <p:sp>
            <p:nvSpPr>
              <p:cNvPr id="128" name=""/>
              <p:cNvSpPr/>
              <p:nvPr/>
            </p:nvSpPr>
            <p:spPr>
              <a:xfrm>
                <a:off x="1433520" y="3851280"/>
                <a:ext cx="84600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438200" y="3849840"/>
                <a:ext cx="41760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857240" y="385128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438200" y="42321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857240" y="423396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1857240" y="4237200"/>
              <a:ext cx="838440" cy="903240"/>
              <a:chOff x="1857240" y="4237200"/>
              <a:chExt cx="838440" cy="903240"/>
            </a:xfrm>
          </p:grpSpPr>
          <p:sp>
            <p:nvSpPr>
              <p:cNvPr id="134" name=""/>
              <p:cNvSpPr/>
              <p:nvPr/>
            </p:nvSpPr>
            <p:spPr>
              <a:xfrm>
                <a:off x="1857240" y="4237200"/>
                <a:ext cx="838440" cy="761760"/>
              </a:xfrm>
              <a:custGeom>
                <a:avLst/>
                <a:gdLst/>
                <a:ahLst/>
                <a:rect l="l" t="t" r="r" b="b"/>
                <a:pathLst>
                  <a:path w="528" h="480">
                    <a:moveTo>
                      <a:pt x="265" y="0"/>
                    </a:moveTo>
                    <a:lnTo>
                      <a:pt x="0" y="241"/>
                    </a:lnTo>
                    <a:lnTo>
                      <a:pt x="265" y="479"/>
                    </a:lnTo>
                    <a:lnTo>
                      <a:pt x="527" y="241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859040" y="423720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0" y="324"/>
                    </a:moveTo>
                    <a:lnTo>
                      <a:pt x="0" y="235"/>
                    </a:lnTo>
                    <a:lnTo>
                      <a:pt x="261" y="0"/>
                    </a:lnTo>
                    <a:lnTo>
                      <a:pt x="261" y="89"/>
                    </a:lnTo>
                    <a:lnTo>
                      <a:pt x="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278080" y="424008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261" y="323"/>
                    </a:moveTo>
                    <a:lnTo>
                      <a:pt x="261" y="233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1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859040" y="462276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278080" y="462456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261" y="0"/>
                    </a:moveTo>
                    <a:lnTo>
                      <a:pt x="261" y="89"/>
                    </a:lnTo>
                    <a:lnTo>
                      <a:pt x="0" y="324"/>
                    </a:lnTo>
                    <a:lnTo>
                      <a:pt x="0" y="233"/>
                    </a:lnTo>
                    <a:lnTo>
                      <a:pt x="261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5600880" y="2349360"/>
              <a:ext cx="844200" cy="903600"/>
              <a:chOff x="5600880" y="2349360"/>
              <a:chExt cx="844200" cy="903600"/>
            </a:xfrm>
          </p:grpSpPr>
          <p:sp>
            <p:nvSpPr>
              <p:cNvPr id="140" name=""/>
              <p:cNvSpPr/>
              <p:nvPr/>
            </p:nvSpPr>
            <p:spPr>
              <a:xfrm>
                <a:off x="5600880" y="2352600"/>
                <a:ext cx="84420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019920" y="234936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323"/>
                    </a:moveTo>
                    <a:lnTo>
                      <a:pt x="262" y="233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2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600880" y="2352600"/>
                <a:ext cx="419040" cy="517680"/>
              </a:xfrm>
              <a:custGeom>
                <a:avLst/>
                <a:gdLst/>
                <a:ahLst/>
                <a:rect l="l" t="t" r="r" b="b"/>
                <a:pathLst>
                  <a:path w="264" h="326">
                    <a:moveTo>
                      <a:pt x="0" y="325"/>
                    </a:moveTo>
                    <a:lnTo>
                      <a:pt x="0" y="234"/>
                    </a:lnTo>
                    <a:lnTo>
                      <a:pt x="263" y="0"/>
                    </a:lnTo>
                    <a:lnTo>
                      <a:pt x="263" y="90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019920" y="273528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90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600880" y="2736720"/>
                <a:ext cx="419040" cy="51624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3" y="324"/>
                    </a:lnTo>
                    <a:lnTo>
                      <a:pt x="263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6018120" y="2727360"/>
              <a:ext cx="843120" cy="900000"/>
              <a:chOff x="6018120" y="2727360"/>
              <a:chExt cx="843120" cy="900000"/>
            </a:xfrm>
          </p:grpSpPr>
          <p:sp>
            <p:nvSpPr>
              <p:cNvPr id="146" name=""/>
              <p:cNvSpPr/>
              <p:nvPr/>
            </p:nvSpPr>
            <p:spPr>
              <a:xfrm>
                <a:off x="6019920" y="2728800"/>
                <a:ext cx="841320" cy="757440"/>
              </a:xfrm>
              <a:custGeom>
                <a:avLst/>
                <a:gdLst/>
                <a:ahLst/>
                <a:rect l="l" t="t" r="r" b="b"/>
                <a:pathLst>
                  <a:path w="530" h="477">
                    <a:moveTo>
                      <a:pt x="266" y="0"/>
                    </a:moveTo>
                    <a:lnTo>
                      <a:pt x="0" y="240"/>
                    </a:lnTo>
                    <a:lnTo>
                      <a:pt x="266" y="476"/>
                    </a:lnTo>
                    <a:lnTo>
                      <a:pt x="529" y="240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435720" y="2727360"/>
                <a:ext cx="41904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263" y="323"/>
                    </a:moveTo>
                    <a:lnTo>
                      <a:pt x="263" y="233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3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018120" y="2728800"/>
                <a:ext cx="419040" cy="51588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324"/>
                    </a:moveTo>
                    <a:lnTo>
                      <a:pt x="0" y="233"/>
                    </a:lnTo>
                    <a:lnTo>
                      <a:pt x="263" y="0"/>
                    </a:lnTo>
                    <a:lnTo>
                      <a:pt x="263" y="89"/>
                    </a:lnTo>
                    <a:lnTo>
                      <a:pt x="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435720" y="3110040"/>
                <a:ext cx="419040" cy="517320"/>
              </a:xfrm>
              <a:custGeom>
                <a:avLst/>
                <a:gdLst/>
                <a:ahLst/>
                <a:rect l="l" t="t" r="r" b="b"/>
                <a:pathLst>
                  <a:path w="264" h="326">
                    <a:moveTo>
                      <a:pt x="263" y="0"/>
                    </a:moveTo>
                    <a:lnTo>
                      <a:pt x="263" y="90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3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018120" y="3111480"/>
                <a:ext cx="419040" cy="51588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0"/>
                    </a:moveTo>
                    <a:lnTo>
                      <a:pt x="0" y="91"/>
                    </a:lnTo>
                    <a:lnTo>
                      <a:pt x="263" y="324"/>
                    </a:lnTo>
                    <a:lnTo>
                      <a:pt x="263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6435720" y="4613400"/>
              <a:ext cx="844560" cy="903240"/>
              <a:chOff x="6435720" y="4613400"/>
              <a:chExt cx="844560" cy="903240"/>
            </a:xfrm>
          </p:grpSpPr>
          <p:sp>
            <p:nvSpPr>
              <p:cNvPr id="152" name=""/>
              <p:cNvSpPr/>
              <p:nvPr/>
            </p:nvSpPr>
            <p:spPr>
              <a:xfrm>
                <a:off x="6435720" y="4613400"/>
                <a:ext cx="844560" cy="761760"/>
              </a:xfrm>
              <a:custGeom>
                <a:avLst/>
                <a:gdLst/>
                <a:ahLst/>
                <a:rect l="l" t="t" r="r" b="b"/>
                <a:pathLst>
                  <a:path w="532" h="480">
                    <a:moveTo>
                      <a:pt x="267" y="0"/>
                    </a:moveTo>
                    <a:lnTo>
                      <a:pt x="0" y="241"/>
                    </a:lnTo>
                    <a:lnTo>
                      <a:pt x="267" y="479"/>
                    </a:lnTo>
                    <a:lnTo>
                      <a:pt x="531" y="241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858000" y="4613400"/>
                <a:ext cx="414360" cy="515880"/>
              </a:xfrm>
              <a:custGeom>
                <a:avLst/>
                <a:gdLst/>
                <a:ahLst/>
                <a:rect l="l" t="t" r="r" b="b"/>
                <a:pathLst>
                  <a:path w="261" h="325">
                    <a:moveTo>
                      <a:pt x="260" y="324"/>
                    </a:moveTo>
                    <a:lnTo>
                      <a:pt x="260" y="23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435720" y="4616280"/>
                <a:ext cx="41904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3" y="0"/>
                    </a:lnTo>
                    <a:lnTo>
                      <a:pt x="263" y="90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858000" y="4998960"/>
                <a:ext cx="414360" cy="514440"/>
              </a:xfrm>
              <a:custGeom>
                <a:avLst/>
                <a:gdLst/>
                <a:ahLst/>
                <a:rect l="l" t="t" r="r" b="b"/>
                <a:pathLst>
                  <a:path w="261" h="324">
                    <a:moveTo>
                      <a:pt x="260" y="0"/>
                    </a:moveTo>
                    <a:lnTo>
                      <a:pt x="260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435720" y="5000760"/>
                <a:ext cx="419040" cy="51588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3" y="324"/>
                    </a:lnTo>
                    <a:lnTo>
                      <a:pt x="263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6014880" y="4991040"/>
              <a:ext cx="841680" cy="905040"/>
              <a:chOff x="6014880" y="4991040"/>
              <a:chExt cx="841680" cy="905040"/>
            </a:xfrm>
          </p:grpSpPr>
          <p:sp>
            <p:nvSpPr>
              <p:cNvPr id="158" name=""/>
              <p:cNvSpPr/>
              <p:nvPr/>
            </p:nvSpPr>
            <p:spPr>
              <a:xfrm>
                <a:off x="6018120" y="4995720"/>
                <a:ext cx="838440" cy="758880"/>
              </a:xfrm>
              <a:custGeom>
                <a:avLst/>
                <a:gdLst/>
                <a:ahLst/>
                <a:rect l="l" t="t" r="r" b="b"/>
                <a:pathLst>
                  <a:path w="528" h="478">
                    <a:moveTo>
                      <a:pt x="265" y="0"/>
                    </a:moveTo>
                    <a:lnTo>
                      <a:pt x="0" y="239"/>
                    </a:lnTo>
                    <a:lnTo>
                      <a:pt x="265" y="477"/>
                    </a:lnTo>
                    <a:lnTo>
                      <a:pt x="527" y="239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431040" y="499104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323"/>
                    </a:moveTo>
                    <a:lnTo>
                      <a:pt x="262" y="233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2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014880" y="499428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325"/>
                    </a:moveTo>
                    <a:lnTo>
                      <a:pt x="0" y="234"/>
                    </a:lnTo>
                    <a:lnTo>
                      <a:pt x="262" y="0"/>
                    </a:lnTo>
                    <a:lnTo>
                      <a:pt x="262" y="90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431040" y="53751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91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014880" y="537840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91"/>
                    </a:lnTo>
                    <a:lnTo>
                      <a:pt x="262" y="325"/>
                    </a:lnTo>
                    <a:lnTo>
                      <a:pt x="262" y="2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5611680" y="5353200"/>
              <a:ext cx="844560" cy="904680"/>
              <a:chOff x="5611680" y="5353200"/>
              <a:chExt cx="844560" cy="904680"/>
            </a:xfrm>
          </p:grpSpPr>
          <p:sp>
            <p:nvSpPr>
              <p:cNvPr id="164" name=""/>
              <p:cNvSpPr/>
              <p:nvPr/>
            </p:nvSpPr>
            <p:spPr>
              <a:xfrm>
                <a:off x="5611680" y="5356080"/>
                <a:ext cx="84456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031080" y="5353200"/>
                <a:ext cx="41724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611680" y="535788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325"/>
                    </a:moveTo>
                    <a:lnTo>
                      <a:pt x="0" y="235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031080" y="5737320"/>
                <a:ext cx="417240" cy="515880"/>
              </a:xfrm>
              <a:custGeom>
                <a:avLst/>
                <a:gdLst/>
                <a:ahLst/>
                <a:rect l="l" t="t" r="r" b="b"/>
                <a:pathLst>
                  <a:path w="263" h="325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4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611680" y="5737320"/>
                <a:ext cx="41760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0" y="0"/>
                    </a:moveTo>
                    <a:lnTo>
                      <a:pt x="0" y="91"/>
                    </a:lnTo>
                    <a:lnTo>
                      <a:pt x="262" y="327"/>
                    </a:lnTo>
                    <a:lnTo>
                      <a:pt x="262" y="2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3111480" y="3111480"/>
              <a:ext cx="417600" cy="515880"/>
            </a:xfrm>
            <a:custGeom>
              <a:avLst/>
              <a:gdLst/>
              <a:ahLst/>
              <a:rect l="l" t="t" r="r" b="b"/>
              <a:pathLst>
                <a:path w="263" h="325">
                  <a:moveTo>
                    <a:pt x="262" y="0"/>
                  </a:moveTo>
                  <a:lnTo>
                    <a:pt x="262" y="91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271600" y="3855960"/>
              <a:ext cx="846360" cy="905040"/>
              <a:chOff x="2271600" y="3855960"/>
              <a:chExt cx="846360" cy="905040"/>
            </a:xfrm>
          </p:grpSpPr>
          <p:sp>
            <p:nvSpPr>
              <p:cNvPr id="171" name=""/>
              <p:cNvSpPr/>
              <p:nvPr/>
            </p:nvSpPr>
            <p:spPr>
              <a:xfrm>
                <a:off x="2271600" y="3859200"/>
                <a:ext cx="846360" cy="758880"/>
              </a:xfrm>
              <a:custGeom>
                <a:avLst/>
                <a:gdLst/>
                <a:ahLst/>
                <a:rect l="l" t="t" r="r" b="b"/>
                <a:pathLst>
                  <a:path w="533" h="478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7"/>
                    </a:lnTo>
                    <a:lnTo>
                      <a:pt x="532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276640" y="3855960"/>
                <a:ext cx="417240" cy="52092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0" y="327"/>
                    </a:moveTo>
                    <a:lnTo>
                      <a:pt x="0" y="235"/>
                    </a:lnTo>
                    <a:lnTo>
                      <a:pt x="262" y="0"/>
                    </a:lnTo>
                    <a:lnTo>
                      <a:pt x="262" y="91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695680" y="3855960"/>
                <a:ext cx="417240" cy="52092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6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276640" y="424188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3"/>
                    </a:lnTo>
                    <a:lnTo>
                      <a:pt x="262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695680" y="424656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2271600" y="4613400"/>
              <a:ext cx="838440" cy="903240"/>
              <a:chOff x="2271600" y="4613400"/>
              <a:chExt cx="838440" cy="903240"/>
            </a:xfrm>
          </p:grpSpPr>
          <p:sp>
            <p:nvSpPr>
              <p:cNvPr id="177" name=""/>
              <p:cNvSpPr/>
              <p:nvPr/>
            </p:nvSpPr>
            <p:spPr>
              <a:xfrm>
                <a:off x="2271600" y="4613400"/>
                <a:ext cx="838440" cy="761760"/>
              </a:xfrm>
              <a:custGeom>
                <a:avLst/>
                <a:gdLst/>
                <a:ahLst/>
                <a:rect l="l" t="t" r="r" b="b"/>
                <a:pathLst>
                  <a:path w="528" h="480">
                    <a:moveTo>
                      <a:pt x="265" y="0"/>
                    </a:moveTo>
                    <a:lnTo>
                      <a:pt x="0" y="241"/>
                    </a:lnTo>
                    <a:lnTo>
                      <a:pt x="265" y="479"/>
                    </a:lnTo>
                    <a:lnTo>
                      <a:pt x="527" y="241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273400" y="461340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0" y="324"/>
                    </a:moveTo>
                    <a:lnTo>
                      <a:pt x="0" y="235"/>
                    </a:lnTo>
                    <a:lnTo>
                      <a:pt x="261" y="0"/>
                    </a:lnTo>
                    <a:lnTo>
                      <a:pt x="261" y="89"/>
                    </a:lnTo>
                    <a:lnTo>
                      <a:pt x="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692440" y="461628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261" y="323"/>
                    </a:moveTo>
                    <a:lnTo>
                      <a:pt x="261" y="233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1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273400" y="499896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692440" y="500076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261" y="0"/>
                    </a:moveTo>
                    <a:lnTo>
                      <a:pt x="261" y="89"/>
                    </a:lnTo>
                    <a:lnTo>
                      <a:pt x="0" y="324"/>
                    </a:lnTo>
                    <a:lnTo>
                      <a:pt x="0" y="233"/>
                    </a:lnTo>
                    <a:lnTo>
                      <a:pt x="261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2" name=""/>
            <p:cNvSpPr/>
            <p:nvPr/>
          </p:nvSpPr>
          <p:spPr>
            <a:xfrm>
              <a:off x="2692440" y="4995720"/>
              <a:ext cx="844560" cy="758880"/>
            </a:xfrm>
            <a:custGeom>
              <a:avLst/>
              <a:gdLst/>
              <a:ahLst/>
              <a:rect l="l" t="t" r="r" b="b"/>
              <a:pathLst>
                <a:path w="532" h="478">
                  <a:moveTo>
                    <a:pt x="267" y="0"/>
                  </a:moveTo>
                  <a:lnTo>
                    <a:pt x="0" y="239"/>
                  </a:lnTo>
                  <a:lnTo>
                    <a:pt x="267" y="477"/>
                  </a:lnTo>
                  <a:lnTo>
                    <a:pt x="531" y="239"/>
                  </a:lnTo>
                  <a:lnTo>
                    <a:pt x="267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98920" y="4991040"/>
              <a:ext cx="414000" cy="514440"/>
            </a:xfrm>
            <a:custGeom>
              <a:avLst/>
              <a:gdLst/>
              <a:ahLst/>
              <a:rect l="l" t="t" r="r" b="b"/>
              <a:pathLst>
                <a:path w="261" h="324">
                  <a:moveTo>
                    <a:pt x="0" y="323"/>
                  </a:moveTo>
                  <a:lnTo>
                    <a:pt x="0" y="233"/>
                  </a:lnTo>
                  <a:lnTo>
                    <a:pt x="260" y="0"/>
                  </a:lnTo>
                  <a:lnTo>
                    <a:pt x="260" y="89"/>
                  </a:lnTo>
                  <a:lnTo>
                    <a:pt x="0" y="323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119400" y="4994280"/>
              <a:ext cx="415800" cy="51768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261" y="325"/>
                  </a:moveTo>
                  <a:lnTo>
                    <a:pt x="261" y="234"/>
                  </a:lnTo>
                  <a:lnTo>
                    <a:pt x="0" y="0"/>
                  </a:lnTo>
                  <a:lnTo>
                    <a:pt x="0" y="90"/>
                  </a:lnTo>
                  <a:lnTo>
                    <a:pt x="261" y="325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698920" y="5375160"/>
              <a:ext cx="414000" cy="517680"/>
            </a:xfrm>
            <a:custGeom>
              <a:avLst/>
              <a:gdLst/>
              <a:ahLst/>
              <a:rect l="l" t="t" r="r" b="b"/>
              <a:pathLst>
                <a:path w="261" h="326">
                  <a:moveTo>
                    <a:pt x="0" y="0"/>
                  </a:moveTo>
                  <a:lnTo>
                    <a:pt x="0" y="91"/>
                  </a:lnTo>
                  <a:lnTo>
                    <a:pt x="260" y="325"/>
                  </a:lnTo>
                  <a:lnTo>
                    <a:pt x="260" y="235"/>
                  </a:lnTo>
                  <a:lnTo>
                    <a:pt x="0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119400" y="5378400"/>
              <a:ext cx="415800" cy="51768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261" y="0"/>
                  </a:moveTo>
                  <a:lnTo>
                    <a:pt x="261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1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3094200" y="5353200"/>
              <a:ext cx="844560" cy="904680"/>
              <a:chOff x="3094200" y="5353200"/>
              <a:chExt cx="844560" cy="904680"/>
            </a:xfrm>
          </p:grpSpPr>
          <p:sp>
            <p:nvSpPr>
              <p:cNvPr id="188" name=""/>
              <p:cNvSpPr/>
              <p:nvPr/>
            </p:nvSpPr>
            <p:spPr>
              <a:xfrm>
                <a:off x="3094200" y="5356080"/>
                <a:ext cx="84456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098880" y="5353200"/>
                <a:ext cx="41760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0" y="327"/>
                    </a:moveTo>
                    <a:lnTo>
                      <a:pt x="0" y="234"/>
                    </a:lnTo>
                    <a:lnTo>
                      <a:pt x="262" y="0"/>
                    </a:lnTo>
                    <a:lnTo>
                      <a:pt x="262" y="9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519360" y="5357880"/>
                <a:ext cx="416160" cy="517320"/>
              </a:xfrm>
              <a:custGeom>
                <a:avLst/>
                <a:gdLst/>
                <a:ahLst/>
                <a:rect l="l" t="t" r="r" b="b"/>
                <a:pathLst>
                  <a:path w="262" h="326">
                    <a:moveTo>
                      <a:pt x="261" y="325"/>
                    </a:moveTo>
                    <a:lnTo>
                      <a:pt x="261" y="23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1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098880" y="5737320"/>
                <a:ext cx="417600" cy="515880"/>
              </a:xfrm>
              <a:custGeom>
                <a:avLst/>
                <a:gdLst/>
                <a:ahLst/>
                <a:rect l="l" t="t" r="r" b="b"/>
                <a:pathLst>
                  <a:path w="263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4"/>
                    </a:lnTo>
                    <a:lnTo>
                      <a:pt x="262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519360" y="5737320"/>
                <a:ext cx="416160" cy="52056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261" y="0"/>
                    </a:moveTo>
                    <a:lnTo>
                      <a:pt x="261" y="91"/>
                    </a:lnTo>
                    <a:lnTo>
                      <a:pt x="0" y="327"/>
                    </a:lnTo>
                    <a:lnTo>
                      <a:pt x="0" y="235"/>
                    </a:lnTo>
                    <a:lnTo>
                      <a:pt x="261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4768920" y="2349360"/>
              <a:ext cx="841320" cy="903600"/>
              <a:chOff x="4768920" y="2349360"/>
              <a:chExt cx="841320" cy="903600"/>
            </a:xfrm>
          </p:grpSpPr>
          <p:sp>
            <p:nvSpPr>
              <p:cNvPr id="194" name=""/>
              <p:cNvSpPr/>
              <p:nvPr/>
            </p:nvSpPr>
            <p:spPr>
              <a:xfrm>
                <a:off x="4768920" y="2352600"/>
                <a:ext cx="841320" cy="755640"/>
              </a:xfrm>
              <a:custGeom>
                <a:avLst/>
                <a:gdLst/>
                <a:ahLst/>
                <a:rect l="l" t="t" r="r" b="b"/>
                <a:pathLst>
                  <a:path w="530" h="476">
                    <a:moveTo>
                      <a:pt x="265" y="0"/>
                    </a:moveTo>
                    <a:lnTo>
                      <a:pt x="0" y="239"/>
                    </a:lnTo>
                    <a:lnTo>
                      <a:pt x="265" y="475"/>
                    </a:lnTo>
                    <a:lnTo>
                      <a:pt x="529" y="239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772160" y="2349360"/>
                <a:ext cx="41904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3" y="0"/>
                    </a:lnTo>
                    <a:lnTo>
                      <a:pt x="263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189400" y="2352600"/>
                <a:ext cx="419400" cy="517680"/>
              </a:xfrm>
              <a:custGeom>
                <a:avLst/>
                <a:gdLst/>
                <a:ahLst/>
                <a:rect l="l" t="t" r="r" b="b"/>
                <a:pathLst>
                  <a:path w="264" h="326">
                    <a:moveTo>
                      <a:pt x="263" y="325"/>
                    </a:moveTo>
                    <a:lnTo>
                      <a:pt x="263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3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772160" y="2735280"/>
                <a:ext cx="419040" cy="517680"/>
              </a:xfrm>
              <a:custGeom>
                <a:avLst/>
                <a:gdLst/>
                <a:ahLst/>
                <a:rect l="l" t="t" r="r" b="b"/>
                <a:pathLst>
                  <a:path w="264" h="326">
                    <a:moveTo>
                      <a:pt x="0" y="0"/>
                    </a:moveTo>
                    <a:lnTo>
                      <a:pt x="0" y="90"/>
                    </a:lnTo>
                    <a:lnTo>
                      <a:pt x="263" y="325"/>
                    </a:lnTo>
                    <a:lnTo>
                      <a:pt x="263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3933720" y="2349360"/>
              <a:ext cx="841320" cy="903600"/>
              <a:chOff x="3933720" y="2349360"/>
              <a:chExt cx="841320" cy="903600"/>
            </a:xfrm>
          </p:grpSpPr>
          <p:sp>
            <p:nvSpPr>
              <p:cNvPr id="199" name=""/>
              <p:cNvSpPr/>
              <p:nvPr/>
            </p:nvSpPr>
            <p:spPr>
              <a:xfrm>
                <a:off x="3933720" y="2352600"/>
                <a:ext cx="841320" cy="755640"/>
              </a:xfrm>
              <a:custGeom>
                <a:avLst/>
                <a:gdLst/>
                <a:ahLst/>
                <a:rect l="l" t="t" r="r" b="b"/>
                <a:pathLst>
                  <a:path w="530" h="476">
                    <a:moveTo>
                      <a:pt x="265" y="0"/>
                    </a:moveTo>
                    <a:lnTo>
                      <a:pt x="0" y="239"/>
                    </a:lnTo>
                    <a:lnTo>
                      <a:pt x="265" y="475"/>
                    </a:lnTo>
                    <a:lnTo>
                      <a:pt x="529" y="239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933720" y="234936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349880" y="2352600"/>
                <a:ext cx="423720" cy="517680"/>
              </a:xfrm>
              <a:custGeom>
                <a:avLst/>
                <a:gdLst/>
                <a:ahLst/>
                <a:rect l="l" t="t" r="r" b="b"/>
                <a:pathLst>
                  <a:path w="267" h="326">
                    <a:moveTo>
                      <a:pt x="266" y="325"/>
                    </a:moveTo>
                    <a:lnTo>
                      <a:pt x="266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6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349880" y="2736720"/>
                <a:ext cx="423720" cy="516240"/>
              </a:xfrm>
              <a:custGeom>
                <a:avLst/>
                <a:gdLst/>
                <a:ahLst/>
                <a:rect l="l" t="t" r="r" b="b"/>
                <a:pathLst>
                  <a:path w="267" h="325">
                    <a:moveTo>
                      <a:pt x="266" y="0"/>
                    </a:moveTo>
                    <a:lnTo>
                      <a:pt x="266" y="89"/>
                    </a:lnTo>
                    <a:lnTo>
                      <a:pt x="0" y="324"/>
                    </a:lnTo>
                    <a:lnTo>
                      <a:pt x="0" y="233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3929040" y="5361120"/>
              <a:ext cx="844560" cy="904680"/>
              <a:chOff x="3929040" y="5361120"/>
              <a:chExt cx="844560" cy="904680"/>
            </a:xfrm>
          </p:grpSpPr>
          <p:sp>
            <p:nvSpPr>
              <p:cNvPr id="204" name=""/>
              <p:cNvSpPr/>
              <p:nvPr/>
            </p:nvSpPr>
            <p:spPr>
              <a:xfrm>
                <a:off x="3929040" y="5365800"/>
                <a:ext cx="84456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933720" y="5361120"/>
                <a:ext cx="416160" cy="51408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1" y="0"/>
                    </a:lnTo>
                    <a:lnTo>
                      <a:pt x="261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349880" y="5361120"/>
                <a:ext cx="420480" cy="519120"/>
              </a:xfrm>
              <a:custGeom>
                <a:avLst/>
                <a:gdLst/>
                <a:ahLst/>
                <a:rect l="l" t="t" r="r" b="b"/>
                <a:pathLst>
                  <a:path w="265" h="327">
                    <a:moveTo>
                      <a:pt x="264" y="326"/>
                    </a:moveTo>
                    <a:lnTo>
                      <a:pt x="264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4" y="326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933720" y="5745240"/>
                <a:ext cx="41616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0" y="0"/>
                    </a:moveTo>
                    <a:lnTo>
                      <a:pt x="0" y="91"/>
                    </a:lnTo>
                    <a:lnTo>
                      <a:pt x="261" y="324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349880" y="5748480"/>
                <a:ext cx="420480" cy="517320"/>
              </a:xfrm>
              <a:custGeom>
                <a:avLst/>
                <a:gdLst/>
                <a:ahLst/>
                <a:rect l="l" t="t" r="r" b="b"/>
                <a:pathLst>
                  <a:path w="265" h="326">
                    <a:moveTo>
                      <a:pt x="264" y="0"/>
                    </a:moveTo>
                    <a:lnTo>
                      <a:pt x="264" y="89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4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4776840" y="5361120"/>
              <a:ext cx="841320" cy="904680"/>
              <a:chOff x="4776840" y="5361120"/>
              <a:chExt cx="841320" cy="904680"/>
            </a:xfrm>
          </p:grpSpPr>
          <p:sp>
            <p:nvSpPr>
              <p:cNvPr id="210" name=""/>
              <p:cNvSpPr/>
              <p:nvPr/>
            </p:nvSpPr>
            <p:spPr>
              <a:xfrm>
                <a:off x="4776840" y="5365800"/>
                <a:ext cx="841320" cy="755640"/>
              </a:xfrm>
              <a:custGeom>
                <a:avLst/>
                <a:gdLst/>
                <a:ahLst/>
                <a:rect l="l" t="t" r="r" b="b"/>
                <a:pathLst>
                  <a:path w="530" h="476">
                    <a:moveTo>
                      <a:pt x="265" y="0"/>
                    </a:moveTo>
                    <a:lnTo>
                      <a:pt x="0" y="239"/>
                    </a:lnTo>
                    <a:lnTo>
                      <a:pt x="265" y="475"/>
                    </a:lnTo>
                    <a:lnTo>
                      <a:pt x="529" y="239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781520" y="5361120"/>
                <a:ext cx="415800" cy="51408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1" y="0"/>
                    </a:lnTo>
                    <a:lnTo>
                      <a:pt x="261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200560" y="5361120"/>
                <a:ext cx="417600" cy="519120"/>
              </a:xfrm>
              <a:custGeom>
                <a:avLst/>
                <a:gdLst/>
                <a:ahLst/>
                <a:rect l="l" t="t" r="r" b="b"/>
                <a:pathLst>
                  <a:path w="263" h="327">
                    <a:moveTo>
                      <a:pt x="262" y="326"/>
                    </a:moveTo>
                    <a:lnTo>
                      <a:pt x="262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2" y="326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781520" y="574524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0" y="0"/>
                    </a:moveTo>
                    <a:lnTo>
                      <a:pt x="0" y="91"/>
                    </a:lnTo>
                    <a:lnTo>
                      <a:pt x="261" y="324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200560" y="574848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>
              <a:off x="5189400" y="2736720"/>
              <a:ext cx="419400" cy="516240"/>
            </a:xfrm>
            <a:custGeom>
              <a:avLst/>
              <a:gdLst/>
              <a:ahLst/>
              <a:rect l="l" t="t" r="r" b="b"/>
              <a:pathLst>
                <a:path w="264" h="325">
                  <a:moveTo>
                    <a:pt x="263" y="0"/>
                  </a:moveTo>
                  <a:lnTo>
                    <a:pt x="263" y="89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3" y="0"/>
                  </a:lnTo>
                </a:path>
              </a:pathLst>
            </a:custGeom>
            <a:solidFill>
              <a:srgbClr val="33a8ff"/>
            </a:soli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33720" y="273528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0" y="0"/>
                  </a:moveTo>
                  <a:lnTo>
                    <a:pt x="0" y="90"/>
                  </a:lnTo>
                  <a:lnTo>
                    <a:pt x="262" y="325"/>
                  </a:lnTo>
                  <a:lnTo>
                    <a:pt x="262" y="234"/>
                  </a:lnTo>
                  <a:lnTo>
                    <a:pt x="0" y="0"/>
                  </a:lnTo>
                </a:path>
              </a:pathLst>
            </a:custGeom>
            <a:solidFill>
              <a:srgbClr val="33a8ff"/>
            </a:soli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102120" y="3106800"/>
              <a:ext cx="3322440" cy="2268360"/>
            </a:xfrm>
            <a:custGeom>
              <a:avLst/>
              <a:gdLst/>
              <a:ahLst/>
              <a:rect l="l" t="t" r="r" b="b"/>
              <a:pathLst>
                <a:path w="2093" h="1429">
                  <a:moveTo>
                    <a:pt x="800" y="0"/>
                  </a:moveTo>
                  <a:lnTo>
                    <a:pt x="1818" y="0"/>
                  </a:lnTo>
                  <a:lnTo>
                    <a:pt x="2092" y="624"/>
                  </a:lnTo>
                  <a:lnTo>
                    <a:pt x="1593" y="1424"/>
                  </a:lnTo>
                  <a:lnTo>
                    <a:pt x="530" y="1428"/>
                  </a:lnTo>
                  <a:lnTo>
                    <a:pt x="0" y="621"/>
                  </a:lnTo>
                  <a:lnTo>
                    <a:pt x="286" y="0"/>
                  </a:lnTo>
                  <a:lnTo>
                    <a:pt x="800" y="0"/>
                  </a:lnTo>
                </a:path>
              </a:pathLst>
            </a:custGeom>
            <a:solidFill>
              <a:srgbClr val="0066ff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521160" y="2579760"/>
              <a:ext cx="844560" cy="76176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9" name=""/>
            <p:cNvGrpSpPr/>
            <p:nvPr/>
          </p:nvGrpSpPr>
          <p:grpSpPr>
            <a:xfrm>
              <a:off x="3527280" y="4986360"/>
              <a:ext cx="844560" cy="904680"/>
              <a:chOff x="3527280" y="4986360"/>
              <a:chExt cx="844560" cy="904680"/>
            </a:xfrm>
          </p:grpSpPr>
          <p:sp>
            <p:nvSpPr>
              <p:cNvPr id="220" name=""/>
              <p:cNvSpPr/>
              <p:nvPr/>
            </p:nvSpPr>
            <p:spPr>
              <a:xfrm>
                <a:off x="3527280" y="4989600"/>
                <a:ext cx="84456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532320" y="4986360"/>
                <a:ext cx="41724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0" y="327"/>
                    </a:moveTo>
                    <a:lnTo>
                      <a:pt x="0" y="234"/>
                    </a:lnTo>
                    <a:lnTo>
                      <a:pt x="262" y="0"/>
                    </a:lnTo>
                    <a:lnTo>
                      <a:pt x="262" y="9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952800" y="4991040"/>
                <a:ext cx="416160" cy="517680"/>
              </a:xfrm>
              <a:custGeom>
                <a:avLst/>
                <a:gdLst/>
                <a:ahLst/>
                <a:rect l="l" t="t" r="r" b="b"/>
                <a:pathLst>
                  <a:path w="262" h="326">
                    <a:moveTo>
                      <a:pt x="261" y="325"/>
                    </a:moveTo>
                    <a:lnTo>
                      <a:pt x="261" y="23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1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532320" y="5370480"/>
                <a:ext cx="417240" cy="515880"/>
              </a:xfrm>
              <a:custGeom>
                <a:avLst/>
                <a:gdLst/>
                <a:ahLst/>
                <a:rect l="l" t="t" r="r" b="b"/>
                <a:pathLst>
                  <a:path w="263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4"/>
                    </a:lnTo>
                    <a:lnTo>
                      <a:pt x="262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952800" y="5370480"/>
                <a:ext cx="416160" cy="52056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261" y="0"/>
                    </a:moveTo>
                    <a:lnTo>
                      <a:pt x="261" y="91"/>
                    </a:lnTo>
                    <a:lnTo>
                      <a:pt x="0" y="327"/>
                    </a:lnTo>
                    <a:lnTo>
                      <a:pt x="0" y="235"/>
                    </a:lnTo>
                    <a:lnTo>
                      <a:pt x="261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3098880" y="4467240"/>
              <a:ext cx="844560" cy="754200"/>
            </a:xfrm>
            <a:custGeom>
              <a:avLst/>
              <a:gdLst/>
              <a:ahLst/>
              <a:rect l="l" t="t" r="r" b="b"/>
              <a:pathLst>
                <a:path w="532" h="475">
                  <a:moveTo>
                    <a:pt x="267" y="0"/>
                  </a:moveTo>
                  <a:lnTo>
                    <a:pt x="0" y="238"/>
                  </a:lnTo>
                  <a:lnTo>
                    <a:pt x="267" y="474"/>
                  </a:lnTo>
                  <a:lnTo>
                    <a:pt x="531" y="238"/>
                  </a:lnTo>
                  <a:lnTo>
                    <a:pt x="267" y="0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946680" y="2957400"/>
              <a:ext cx="415800" cy="515880"/>
            </a:xfrm>
            <a:custGeom>
              <a:avLst/>
              <a:gdLst/>
              <a:ahLst/>
              <a:rect l="l" t="t" r="r" b="b"/>
              <a:pathLst>
                <a:path w="262" h="325">
                  <a:moveTo>
                    <a:pt x="261" y="0"/>
                  </a:moveTo>
                  <a:lnTo>
                    <a:pt x="261" y="91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1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527280" y="3335400"/>
              <a:ext cx="419400" cy="514440"/>
            </a:xfrm>
            <a:custGeom>
              <a:avLst/>
              <a:gdLst/>
              <a:ahLst/>
              <a:rect l="l" t="t" r="r" b="b"/>
              <a:pathLst>
                <a:path w="264" h="324">
                  <a:moveTo>
                    <a:pt x="263" y="0"/>
                  </a:moveTo>
                  <a:lnTo>
                    <a:pt x="263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3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106800" y="371304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89"/>
                  </a:lnTo>
                  <a:lnTo>
                    <a:pt x="0" y="325"/>
                  </a:lnTo>
                  <a:lnTo>
                    <a:pt x="0" y="234"/>
                  </a:lnTo>
                  <a:lnTo>
                    <a:pt x="262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687760" y="3713040"/>
              <a:ext cx="420480" cy="517680"/>
            </a:xfrm>
            <a:custGeom>
              <a:avLst/>
              <a:gdLst/>
              <a:ahLst/>
              <a:rect l="l" t="t" r="r" b="b"/>
              <a:pathLst>
                <a:path w="265" h="326">
                  <a:moveTo>
                    <a:pt x="0" y="0"/>
                  </a:moveTo>
                  <a:lnTo>
                    <a:pt x="0" y="89"/>
                  </a:lnTo>
                  <a:lnTo>
                    <a:pt x="264" y="325"/>
                  </a:lnTo>
                  <a:lnTo>
                    <a:pt x="264" y="234"/>
                  </a:lnTo>
                  <a:lnTo>
                    <a:pt x="0" y="0"/>
                  </a:lnTo>
                </a:path>
              </a:pathLst>
            </a:custGeom>
            <a:solidFill>
              <a:srgbClr val="0054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687760" y="4467240"/>
              <a:ext cx="420480" cy="517680"/>
            </a:xfrm>
            <a:custGeom>
              <a:avLst/>
              <a:gdLst/>
              <a:ahLst/>
              <a:rect l="l" t="t" r="r" b="b"/>
              <a:pathLst>
                <a:path w="265" h="326">
                  <a:moveTo>
                    <a:pt x="0" y="0"/>
                  </a:moveTo>
                  <a:lnTo>
                    <a:pt x="0" y="91"/>
                  </a:lnTo>
                  <a:lnTo>
                    <a:pt x="264" y="325"/>
                  </a:lnTo>
                  <a:lnTo>
                    <a:pt x="264" y="235"/>
                  </a:lnTo>
                  <a:lnTo>
                    <a:pt x="0" y="0"/>
                  </a:lnTo>
                </a:path>
              </a:pathLst>
            </a:custGeom>
            <a:solidFill>
              <a:srgbClr val="0066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106800" y="4840200"/>
              <a:ext cx="414360" cy="519120"/>
            </a:xfrm>
            <a:custGeom>
              <a:avLst/>
              <a:gdLst/>
              <a:ahLst/>
              <a:rect l="l" t="t" r="r" b="b"/>
              <a:pathLst>
                <a:path w="261" h="327">
                  <a:moveTo>
                    <a:pt x="0" y="0"/>
                  </a:moveTo>
                  <a:lnTo>
                    <a:pt x="0" y="90"/>
                  </a:lnTo>
                  <a:lnTo>
                    <a:pt x="260" y="326"/>
                  </a:lnTo>
                  <a:lnTo>
                    <a:pt x="260" y="236"/>
                  </a:lnTo>
                  <a:lnTo>
                    <a:pt x="0" y="0"/>
                  </a:lnTo>
                </a:path>
              </a:pathLst>
            </a:custGeom>
            <a:solidFill>
              <a:srgbClr val="0054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936960" y="5211720"/>
              <a:ext cx="843120" cy="755640"/>
            </a:xfrm>
            <a:custGeom>
              <a:avLst/>
              <a:gdLst/>
              <a:ahLst/>
              <a:rect l="l" t="t" r="r" b="b"/>
              <a:pathLst>
                <a:path w="531" h="476">
                  <a:moveTo>
                    <a:pt x="267" y="0"/>
                  </a:moveTo>
                  <a:lnTo>
                    <a:pt x="0" y="239"/>
                  </a:lnTo>
                  <a:lnTo>
                    <a:pt x="267" y="475"/>
                  </a:lnTo>
                  <a:lnTo>
                    <a:pt x="530" y="239"/>
                  </a:lnTo>
                  <a:lnTo>
                    <a:pt x="267" y="0"/>
                  </a:lnTo>
                </a:path>
              </a:pathLst>
            </a:custGeom>
            <a:solidFill>
              <a:srgbClr val="b3b9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933720" y="5592600"/>
              <a:ext cx="416160" cy="516240"/>
            </a:xfrm>
            <a:custGeom>
              <a:avLst/>
              <a:gdLst/>
              <a:ahLst/>
              <a:rect l="l" t="t" r="r" b="b"/>
              <a:pathLst>
                <a:path w="262" h="325">
                  <a:moveTo>
                    <a:pt x="0" y="0"/>
                  </a:moveTo>
                  <a:lnTo>
                    <a:pt x="0" y="89"/>
                  </a:lnTo>
                  <a:lnTo>
                    <a:pt x="261" y="324"/>
                  </a:lnTo>
                  <a:lnTo>
                    <a:pt x="261" y="233"/>
                  </a:lnTo>
                  <a:lnTo>
                    <a:pt x="0" y="0"/>
                  </a:lnTo>
                </a:path>
              </a:pathLst>
            </a:custGeom>
            <a:solidFill>
              <a:srgbClr val="ad69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352760" y="5597640"/>
              <a:ext cx="417600" cy="51732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eaec5e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87760" y="4078440"/>
              <a:ext cx="834840" cy="758520"/>
            </a:xfrm>
            <a:custGeom>
              <a:avLst/>
              <a:gdLst/>
              <a:ahLst/>
              <a:rect l="l" t="t" r="r" b="b"/>
              <a:pathLst>
                <a:path w="526" h="478">
                  <a:moveTo>
                    <a:pt x="264" y="0"/>
                  </a:moveTo>
                  <a:lnTo>
                    <a:pt x="0" y="241"/>
                  </a:lnTo>
                  <a:lnTo>
                    <a:pt x="264" y="477"/>
                  </a:lnTo>
                  <a:lnTo>
                    <a:pt x="525" y="241"/>
                  </a:lnTo>
                  <a:lnTo>
                    <a:pt x="264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07000" y="2957400"/>
              <a:ext cx="846360" cy="754200"/>
            </a:xfrm>
            <a:custGeom>
              <a:avLst/>
              <a:gdLst/>
              <a:ahLst/>
              <a:rect l="l" t="t" r="r" b="b"/>
              <a:pathLst>
                <a:path w="533" h="475">
                  <a:moveTo>
                    <a:pt x="267" y="0"/>
                  </a:moveTo>
                  <a:lnTo>
                    <a:pt x="0" y="238"/>
                  </a:lnTo>
                  <a:lnTo>
                    <a:pt x="267" y="474"/>
                  </a:lnTo>
                  <a:lnTo>
                    <a:pt x="532" y="238"/>
                  </a:lnTo>
                  <a:lnTo>
                    <a:pt x="267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024600" y="3332160"/>
              <a:ext cx="844560" cy="758880"/>
            </a:xfrm>
            <a:custGeom>
              <a:avLst/>
              <a:gdLst/>
              <a:ahLst/>
              <a:rect l="l" t="t" r="r" b="b"/>
              <a:pathLst>
                <a:path w="532" h="478">
                  <a:moveTo>
                    <a:pt x="268" y="0"/>
                  </a:moveTo>
                  <a:lnTo>
                    <a:pt x="0" y="240"/>
                  </a:lnTo>
                  <a:lnTo>
                    <a:pt x="268" y="477"/>
                  </a:lnTo>
                  <a:lnTo>
                    <a:pt x="531" y="240"/>
                  </a:lnTo>
                  <a:lnTo>
                    <a:pt x="268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611680" y="4467240"/>
              <a:ext cx="844560" cy="754200"/>
            </a:xfrm>
            <a:custGeom>
              <a:avLst/>
              <a:gdLst/>
              <a:ahLst/>
              <a:rect l="l" t="t" r="r" b="b"/>
              <a:pathLst>
                <a:path w="532" h="475">
                  <a:moveTo>
                    <a:pt x="267" y="0"/>
                  </a:moveTo>
                  <a:lnTo>
                    <a:pt x="0" y="238"/>
                  </a:lnTo>
                  <a:lnTo>
                    <a:pt x="267" y="474"/>
                  </a:lnTo>
                  <a:lnTo>
                    <a:pt x="531" y="238"/>
                  </a:lnTo>
                  <a:lnTo>
                    <a:pt x="267" y="0"/>
                  </a:lnTo>
                </a:path>
              </a:pathLst>
            </a:custGeom>
            <a:solidFill>
              <a:srgbClr val="7b00e4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195880" y="4840200"/>
              <a:ext cx="844560" cy="755640"/>
            </a:xfrm>
            <a:custGeom>
              <a:avLst/>
              <a:gdLst/>
              <a:ahLst/>
              <a:rect l="l" t="t" r="r" b="b"/>
              <a:pathLst>
                <a:path w="532" h="476">
                  <a:moveTo>
                    <a:pt x="267" y="0"/>
                  </a:moveTo>
                  <a:lnTo>
                    <a:pt x="0" y="239"/>
                  </a:lnTo>
                  <a:lnTo>
                    <a:pt x="267" y="475"/>
                  </a:lnTo>
                  <a:lnTo>
                    <a:pt x="531" y="239"/>
                  </a:lnTo>
                  <a:lnTo>
                    <a:pt x="267" y="0"/>
                  </a:lnTo>
                </a:path>
              </a:pathLst>
            </a:custGeom>
            <a:solidFill>
              <a:srgbClr val="7b00e4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607000" y="3335400"/>
              <a:ext cx="414360" cy="514440"/>
            </a:xfrm>
            <a:custGeom>
              <a:avLst/>
              <a:gdLst/>
              <a:ahLst/>
              <a:rect l="l" t="t" r="r" b="b"/>
              <a:pathLst>
                <a:path w="261" h="324">
                  <a:moveTo>
                    <a:pt x="0" y="0"/>
                  </a:moveTo>
                  <a:lnTo>
                    <a:pt x="0" y="89"/>
                  </a:lnTo>
                  <a:lnTo>
                    <a:pt x="260" y="323"/>
                  </a:lnTo>
                  <a:lnTo>
                    <a:pt x="260" y="233"/>
                  </a:lnTo>
                  <a:lnTo>
                    <a:pt x="0" y="0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024600" y="3713040"/>
              <a:ext cx="415800" cy="51768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0" y="0"/>
                  </a:moveTo>
                  <a:lnTo>
                    <a:pt x="0" y="89"/>
                  </a:lnTo>
                  <a:lnTo>
                    <a:pt x="261" y="325"/>
                  </a:lnTo>
                  <a:lnTo>
                    <a:pt x="261" y="234"/>
                  </a:lnTo>
                  <a:lnTo>
                    <a:pt x="0" y="0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443640" y="371304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89"/>
                  </a:lnTo>
                  <a:lnTo>
                    <a:pt x="0" y="325"/>
                  </a:lnTo>
                  <a:lnTo>
                    <a:pt x="0" y="234"/>
                  </a:lnTo>
                  <a:lnTo>
                    <a:pt x="262" y="0"/>
                  </a:lnTo>
                </a:path>
              </a:pathLst>
            </a:custGeom>
            <a:solidFill>
              <a:srgbClr val="f4546f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443640" y="446724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ff505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027840" y="4840200"/>
              <a:ext cx="417240" cy="519120"/>
            </a:xfrm>
            <a:custGeom>
              <a:avLst/>
              <a:gdLst/>
              <a:ahLst/>
              <a:rect l="l" t="t" r="r" b="b"/>
              <a:pathLst>
                <a:path w="263" h="327">
                  <a:moveTo>
                    <a:pt x="262" y="0"/>
                  </a:moveTo>
                  <a:lnTo>
                    <a:pt x="262" y="90"/>
                  </a:lnTo>
                  <a:lnTo>
                    <a:pt x="0" y="326"/>
                  </a:lnTo>
                  <a:lnTo>
                    <a:pt x="0" y="236"/>
                  </a:lnTo>
                  <a:lnTo>
                    <a:pt x="262" y="0"/>
                  </a:lnTo>
                </a:path>
              </a:pathLst>
            </a:custGeom>
            <a:solidFill>
              <a:srgbClr val="b760f9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616720" y="5216400"/>
              <a:ext cx="415800" cy="516240"/>
            </a:xfrm>
            <a:custGeom>
              <a:avLst/>
              <a:gdLst/>
              <a:ahLst/>
              <a:rect l="l" t="t" r="r" b="b"/>
              <a:pathLst>
                <a:path w="262" h="325">
                  <a:moveTo>
                    <a:pt x="261" y="0"/>
                  </a:moveTo>
                  <a:lnTo>
                    <a:pt x="261" y="89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1" y="0"/>
                  </a:lnTo>
                </a:path>
              </a:pathLst>
            </a:custGeom>
            <a:solidFill>
              <a:srgbClr val="b760f9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195880" y="521640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0" y="0"/>
                  </a:moveTo>
                  <a:lnTo>
                    <a:pt x="0" y="91"/>
                  </a:lnTo>
                  <a:lnTo>
                    <a:pt x="262" y="325"/>
                  </a:lnTo>
                  <a:lnTo>
                    <a:pt x="262" y="235"/>
                  </a:lnTo>
                  <a:lnTo>
                    <a:pt x="0" y="0"/>
                  </a:lnTo>
                </a:path>
              </a:pathLst>
            </a:custGeom>
            <a:solidFill>
              <a:srgbClr val="6a00c2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024600" y="4089240"/>
              <a:ext cx="844560" cy="757440"/>
            </a:xfrm>
            <a:custGeom>
              <a:avLst/>
              <a:gdLst/>
              <a:ahLst/>
              <a:rect l="l" t="t" r="r" b="b"/>
              <a:pathLst>
                <a:path w="532" h="477">
                  <a:moveTo>
                    <a:pt x="268" y="0"/>
                  </a:moveTo>
                  <a:lnTo>
                    <a:pt x="0" y="240"/>
                  </a:lnTo>
                  <a:lnTo>
                    <a:pt x="268" y="476"/>
                  </a:lnTo>
                  <a:lnTo>
                    <a:pt x="531" y="240"/>
                  </a:lnTo>
                  <a:lnTo>
                    <a:pt x="268" y="0"/>
                  </a:lnTo>
                </a:path>
              </a:pathLst>
            </a:custGeom>
            <a:solidFill>
              <a:srgbClr val="cf0e3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189400" y="2957400"/>
              <a:ext cx="412920" cy="515880"/>
            </a:xfrm>
            <a:custGeom>
              <a:avLst/>
              <a:gdLst/>
              <a:ahLst/>
              <a:rect l="l" t="t" r="r" b="b"/>
              <a:pathLst>
                <a:path w="260" h="325">
                  <a:moveTo>
                    <a:pt x="0" y="0"/>
                  </a:moveTo>
                  <a:lnTo>
                    <a:pt x="0" y="91"/>
                  </a:lnTo>
                  <a:lnTo>
                    <a:pt x="259" y="324"/>
                  </a:lnTo>
                  <a:lnTo>
                    <a:pt x="259" y="233"/>
                  </a:lnTo>
                  <a:lnTo>
                    <a:pt x="0" y="0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189400" y="2577960"/>
              <a:ext cx="844560" cy="76212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37440" y="2593800"/>
              <a:ext cx="361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427720" y="2584440"/>
              <a:ext cx="361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F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272560" y="2820960"/>
              <a:ext cx="67212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Finanz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264640" y="2813040"/>
              <a:ext cx="67212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Finanz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306400" y="2975040"/>
              <a:ext cx="6098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wes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298480" y="2967120"/>
              <a:ext cx="6098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wes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774400" y="3025800"/>
              <a:ext cx="4845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558760" y="3254400"/>
              <a:ext cx="92988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Controll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189840" y="3394080"/>
              <a:ext cx="49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582720" y="2630520"/>
              <a:ext cx="71172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S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Vertrie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052320" y="3581280"/>
              <a:ext cx="84600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Anlagen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wirtschaf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47400" y="5240160"/>
              <a:ext cx="84600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ersonal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wirtschaf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302280" y="3143160"/>
              <a:ext cx="2941560" cy="155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66"/>
                  </a:solidFill>
                  <a:latin typeface="Arial"/>
                </a:rPr>
                <a:t>SAP R/3,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Add-Ons un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Web-Applikation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191200" y="4848120"/>
              <a:ext cx="87336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2b2b2"/>
                  </a:solidFill>
                  <a:latin typeface="Arial"/>
                </a:rPr>
                <a:t>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b2b2b2"/>
                  </a:solidFill>
                  <a:latin typeface="Arial"/>
                </a:rPr>
                <a:t>Branchen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b2b2b2"/>
                  </a:solidFill>
                  <a:latin typeface="Arial"/>
                </a:rPr>
                <a:t>lösung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623200" y="4529160"/>
              <a:ext cx="81396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2b2b2"/>
                  </a:solidFill>
                  <a:latin typeface="Arial"/>
                </a:rPr>
                <a:t>W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b2b2b2"/>
                  </a:solidFill>
                  <a:latin typeface="Arial"/>
                </a:rPr>
                <a:t>Workflo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705760" y="4083120"/>
              <a:ext cx="83052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Q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Qualitäts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Man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2271600" y="3711600"/>
              <a:ext cx="846360" cy="896760"/>
              <a:chOff x="2271600" y="3711600"/>
              <a:chExt cx="846360" cy="896760"/>
            </a:xfrm>
          </p:grpSpPr>
          <p:sp>
            <p:nvSpPr>
              <p:cNvPr id="267" name=""/>
              <p:cNvSpPr/>
              <p:nvPr/>
            </p:nvSpPr>
            <p:spPr>
              <a:xfrm>
                <a:off x="2271600" y="3711600"/>
                <a:ext cx="846360" cy="758880"/>
              </a:xfrm>
              <a:custGeom>
                <a:avLst/>
                <a:gdLst/>
                <a:ahLst/>
                <a:rect l="l" t="t" r="r" b="b"/>
                <a:pathLst>
                  <a:path w="533" h="478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7"/>
                    </a:lnTo>
                    <a:lnTo>
                      <a:pt x="532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33cc33"/>
              </a:solidFill>
              <a:ln cap="rnd" w="1260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276640" y="4094280"/>
                <a:ext cx="41724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3"/>
                    </a:lnTo>
                    <a:lnTo>
                      <a:pt x="262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cap="rnd" w="1260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9" name=""/>
            <p:cNvSpPr/>
            <p:nvPr/>
          </p:nvSpPr>
          <p:spPr>
            <a:xfrm>
              <a:off x="1852560" y="4092480"/>
              <a:ext cx="841320" cy="738360"/>
            </a:xfrm>
            <a:custGeom>
              <a:avLst/>
              <a:gdLst/>
              <a:ahLst/>
              <a:rect l="l" t="t" r="r" b="b"/>
              <a:pathLst>
                <a:path w="530" h="465">
                  <a:moveTo>
                    <a:pt x="265" y="0"/>
                  </a:moveTo>
                  <a:lnTo>
                    <a:pt x="0" y="232"/>
                  </a:lnTo>
                  <a:lnTo>
                    <a:pt x="265" y="464"/>
                  </a:lnTo>
                  <a:lnTo>
                    <a:pt x="529" y="232"/>
                  </a:lnTo>
                  <a:lnTo>
                    <a:pt x="265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857240" y="4465800"/>
              <a:ext cx="416160" cy="500040"/>
            </a:xfrm>
            <a:custGeom>
              <a:avLst/>
              <a:gdLst/>
              <a:ahLst/>
              <a:rect l="l" t="t" r="r" b="b"/>
              <a:pathLst>
                <a:path w="262" h="315">
                  <a:moveTo>
                    <a:pt x="0" y="0"/>
                  </a:moveTo>
                  <a:lnTo>
                    <a:pt x="0" y="87"/>
                  </a:lnTo>
                  <a:lnTo>
                    <a:pt x="261" y="314"/>
                  </a:lnTo>
                  <a:lnTo>
                    <a:pt x="261" y="227"/>
                  </a:lnTo>
                  <a:lnTo>
                    <a:pt x="0" y="0"/>
                  </a:lnTo>
                </a:path>
              </a:pathLst>
            </a:custGeom>
            <a:solidFill>
              <a:srgbClr val="0066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247840" y="3778200"/>
              <a:ext cx="79560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hargen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Man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866960" y="4149720"/>
              <a:ext cx="72864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Umwelt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chutz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1434960" y="4621320"/>
              <a:ext cx="846360" cy="901440"/>
              <a:chOff x="1434960" y="4621320"/>
              <a:chExt cx="846360" cy="901440"/>
            </a:xfrm>
          </p:grpSpPr>
          <p:sp>
            <p:nvSpPr>
              <p:cNvPr id="274" name=""/>
              <p:cNvSpPr/>
              <p:nvPr/>
            </p:nvSpPr>
            <p:spPr>
              <a:xfrm>
                <a:off x="1434960" y="4622760"/>
                <a:ext cx="84636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440000" y="4621320"/>
                <a:ext cx="41724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859040" y="46227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440000" y="500364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59040" y="500544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1854360" y="4992840"/>
              <a:ext cx="846000" cy="901440"/>
              <a:chOff x="1854360" y="4992840"/>
              <a:chExt cx="846000" cy="901440"/>
            </a:xfrm>
          </p:grpSpPr>
          <p:sp>
            <p:nvSpPr>
              <p:cNvPr id="280" name=""/>
              <p:cNvSpPr/>
              <p:nvPr/>
            </p:nvSpPr>
            <p:spPr>
              <a:xfrm>
                <a:off x="1854360" y="4994280"/>
                <a:ext cx="84600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859040" y="4992840"/>
                <a:ext cx="41760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278080" y="499428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859040" y="53751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278080" y="537696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5" name=""/>
            <p:cNvSpPr/>
            <p:nvPr/>
          </p:nvSpPr>
          <p:spPr>
            <a:xfrm>
              <a:off x="2855880" y="30193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1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103560" y="2957400"/>
              <a:ext cx="843120" cy="754200"/>
            </a:xfrm>
            <a:custGeom>
              <a:avLst/>
              <a:gdLst/>
              <a:ahLst/>
              <a:rect l="l" t="t" r="r" b="b"/>
              <a:pathLst>
                <a:path w="531" h="475">
                  <a:moveTo>
                    <a:pt x="266" y="0"/>
                  </a:moveTo>
                  <a:lnTo>
                    <a:pt x="0" y="238"/>
                  </a:lnTo>
                  <a:lnTo>
                    <a:pt x="266" y="474"/>
                  </a:lnTo>
                  <a:lnTo>
                    <a:pt x="530" y="238"/>
                  </a:lnTo>
                  <a:lnTo>
                    <a:pt x="266" y="0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692440" y="2565360"/>
              <a:ext cx="844560" cy="76212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102120" y="2193840"/>
              <a:ext cx="844560" cy="76212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858040" y="2840040"/>
              <a:ext cx="5198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905920" y="2502000"/>
              <a:ext cx="84600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Abfall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wirtschaf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304440" y="2244600"/>
              <a:ext cx="4633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273400" y="3330720"/>
              <a:ext cx="412560" cy="514080"/>
            </a:xfrm>
            <a:custGeom>
              <a:avLst/>
              <a:gdLst/>
              <a:ahLst/>
              <a:rect l="l" t="t" r="r" b="b"/>
              <a:pathLst>
                <a:path w="260" h="324">
                  <a:moveTo>
                    <a:pt x="0" y="0"/>
                  </a:moveTo>
                  <a:lnTo>
                    <a:pt x="0" y="88"/>
                  </a:lnTo>
                  <a:lnTo>
                    <a:pt x="259" y="323"/>
                  </a:lnTo>
                  <a:lnTo>
                    <a:pt x="259" y="233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682720" y="3332160"/>
              <a:ext cx="844560" cy="758880"/>
            </a:xfrm>
            <a:custGeom>
              <a:avLst/>
              <a:gdLst/>
              <a:ahLst/>
              <a:rect l="l" t="t" r="r" b="b"/>
              <a:pathLst>
                <a:path w="532" h="478">
                  <a:moveTo>
                    <a:pt x="267" y="0"/>
                  </a:moveTo>
                  <a:lnTo>
                    <a:pt x="0" y="240"/>
                  </a:lnTo>
                  <a:lnTo>
                    <a:pt x="267" y="477"/>
                  </a:lnTo>
                  <a:lnTo>
                    <a:pt x="531" y="240"/>
                  </a:lnTo>
                  <a:lnTo>
                    <a:pt x="267" y="0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030480" y="2978280"/>
              <a:ext cx="101196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M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Materialwirt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schaf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543760" y="3382920"/>
              <a:ext cx="113868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P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Prod.-Planu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266920" y="4454640"/>
              <a:ext cx="846000" cy="758880"/>
            </a:xfrm>
            <a:custGeom>
              <a:avLst/>
              <a:gdLst/>
              <a:ahLst/>
              <a:rect l="l" t="t" r="r" b="b"/>
              <a:pathLst>
                <a:path w="533" h="478">
                  <a:moveTo>
                    <a:pt x="267" y="0"/>
                  </a:moveTo>
                  <a:lnTo>
                    <a:pt x="0" y="239"/>
                  </a:lnTo>
                  <a:lnTo>
                    <a:pt x="267" y="477"/>
                  </a:lnTo>
                  <a:lnTo>
                    <a:pt x="532" y="239"/>
                  </a:lnTo>
                  <a:lnTo>
                    <a:pt x="267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271600" y="4836960"/>
              <a:ext cx="417600" cy="51444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0" y="0"/>
                  </a:moveTo>
                  <a:lnTo>
                    <a:pt x="0" y="89"/>
                  </a:lnTo>
                  <a:lnTo>
                    <a:pt x="262" y="323"/>
                  </a:lnTo>
                  <a:lnTo>
                    <a:pt x="262" y="233"/>
                  </a:lnTo>
                  <a:lnTo>
                    <a:pt x="0" y="0"/>
                  </a:lnTo>
                </a:path>
              </a:pathLst>
            </a:custGeom>
            <a:solidFill>
              <a:srgbClr val="0066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690640" y="4842000"/>
              <a:ext cx="417600" cy="51408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262" y="0"/>
                  </a:moveTo>
                  <a:lnTo>
                    <a:pt x="262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207880" y="4487760"/>
              <a:ext cx="94500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LIMS-Funk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tionalität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524400" y="4849920"/>
              <a:ext cx="417240" cy="51732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160800" y="4483080"/>
              <a:ext cx="72720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P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Instand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haltu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440400" y="3711600"/>
              <a:ext cx="839880" cy="758880"/>
            </a:xfrm>
            <a:custGeom>
              <a:avLst/>
              <a:gdLst/>
              <a:ahLst/>
              <a:rect l="l" t="t" r="r" b="b"/>
              <a:pathLst>
                <a:path w="529" h="478">
                  <a:moveTo>
                    <a:pt x="266" y="0"/>
                  </a:moveTo>
                  <a:lnTo>
                    <a:pt x="0" y="239"/>
                  </a:lnTo>
                  <a:lnTo>
                    <a:pt x="266" y="477"/>
                  </a:lnTo>
                  <a:lnTo>
                    <a:pt x="528" y="239"/>
                  </a:lnTo>
                  <a:lnTo>
                    <a:pt x="266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858000" y="4094280"/>
              <a:ext cx="417600" cy="51408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262" y="0"/>
                  </a:moveTo>
                  <a:lnTo>
                    <a:pt x="262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ff505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362280" y="3706920"/>
              <a:ext cx="100908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I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Investitions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Man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938760" y="2216160"/>
              <a:ext cx="841320" cy="738000"/>
            </a:xfrm>
            <a:custGeom>
              <a:avLst/>
              <a:gdLst/>
              <a:ahLst/>
              <a:rect l="l" t="t" r="r" b="b"/>
              <a:pathLst>
                <a:path w="530" h="465">
                  <a:moveTo>
                    <a:pt x="271" y="0"/>
                  </a:moveTo>
                  <a:lnTo>
                    <a:pt x="0" y="227"/>
                  </a:lnTo>
                  <a:lnTo>
                    <a:pt x="260" y="464"/>
                  </a:lnTo>
                  <a:lnTo>
                    <a:pt x="529" y="238"/>
                  </a:lnTo>
                  <a:lnTo>
                    <a:pt x="271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357800" y="2589120"/>
              <a:ext cx="417240" cy="51444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262" y="0"/>
                  </a:moveTo>
                  <a:lnTo>
                    <a:pt x="262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991320" y="2216160"/>
              <a:ext cx="74844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Kunden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D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268360" y="2946240"/>
              <a:ext cx="844560" cy="76212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237400" y="3044880"/>
              <a:ext cx="89928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P-P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hem. Ind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6854760" y="4994280"/>
              <a:ext cx="844560" cy="903240"/>
              <a:chOff x="6854760" y="4994280"/>
              <a:chExt cx="844560" cy="903240"/>
            </a:xfrm>
          </p:grpSpPr>
          <p:sp>
            <p:nvSpPr>
              <p:cNvPr id="311" name=""/>
              <p:cNvSpPr/>
              <p:nvPr/>
            </p:nvSpPr>
            <p:spPr>
              <a:xfrm>
                <a:off x="6854760" y="4994280"/>
                <a:ext cx="844560" cy="762120"/>
              </a:xfrm>
              <a:custGeom>
                <a:avLst/>
                <a:gdLst/>
                <a:ahLst/>
                <a:rect l="l" t="t" r="r" b="b"/>
                <a:pathLst>
                  <a:path w="532" h="480">
                    <a:moveTo>
                      <a:pt x="267" y="0"/>
                    </a:moveTo>
                    <a:lnTo>
                      <a:pt x="0" y="241"/>
                    </a:lnTo>
                    <a:lnTo>
                      <a:pt x="267" y="479"/>
                    </a:lnTo>
                    <a:lnTo>
                      <a:pt x="531" y="241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277040" y="4994280"/>
                <a:ext cx="414360" cy="515880"/>
              </a:xfrm>
              <a:custGeom>
                <a:avLst/>
                <a:gdLst/>
                <a:ahLst/>
                <a:rect l="l" t="t" r="r" b="b"/>
                <a:pathLst>
                  <a:path w="261" h="325">
                    <a:moveTo>
                      <a:pt x="260" y="324"/>
                    </a:moveTo>
                    <a:lnTo>
                      <a:pt x="260" y="23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854760" y="4997520"/>
                <a:ext cx="41904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3" y="0"/>
                    </a:lnTo>
                    <a:lnTo>
                      <a:pt x="263" y="90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7277040" y="5380200"/>
                <a:ext cx="414360" cy="514080"/>
              </a:xfrm>
              <a:custGeom>
                <a:avLst/>
                <a:gdLst/>
                <a:ahLst/>
                <a:rect l="l" t="t" r="r" b="b"/>
                <a:pathLst>
                  <a:path w="261" h="324">
                    <a:moveTo>
                      <a:pt x="260" y="0"/>
                    </a:moveTo>
                    <a:lnTo>
                      <a:pt x="260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854760" y="5381640"/>
                <a:ext cx="419040" cy="51588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3" y="324"/>
                    </a:lnTo>
                    <a:lnTo>
                      <a:pt x="263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6" name=""/>
            <p:cNvSpPr/>
            <p:nvPr/>
          </p:nvSpPr>
          <p:spPr>
            <a:xfrm>
              <a:off x="6853320" y="484812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ff505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424560" y="4465800"/>
              <a:ext cx="844560" cy="757080"/>
            </a:xfrm>
            <a:custGeom>
              <a:avLst/>
              <a:gdLst/>
              <a:ahLst/>
              <a:rect l="l" t="t" r="r" b="b"/>
              <a:pathLst>
                <a:path w="532" h="477">
                  <a:moveTo>
                    <a:pt x="268" y="0"/>
                  </a:moveTo>
                  <a:lnTo>
                    <a:pt x="0" y="240"/>
                  </a:lnTo>
                  <a:lnTo>
                    <a:pt x="268" y="476"/>
                  </a:lnTo>
                  <a:lnTo>
                    <a:pt x="531" y="240"/>
                  </a:lnTo>
                  <a:lnTo>
                    <a:pt x="268" y="0"/>
                  </a:lnTo>
                </a:path>
              </a:pathLst>
            </a:custGeom>
            <a:solidFill>
              <a:srgbClr val="f3597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113160" y="4105440"/>
              <a:ext cx="70416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Projekt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syste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434280" y="4842000"/>
              <a:ext cx="415800" cy="51732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0" y="0"/>
                  </a:moveTo>
                  <a:lnTo>
                    <a:pt x="0" y="89"/>
                  </a:lnTo>
                  <a:lnTo>
                    <a:pt x="261" y="325"/>
                  </a:lnTo>
                  <a:lnTo>
                    <a:pt x="261" y="234"/>
                  </a:lnTo>
                  <a:lnTo>
                    <a:pt x="0" y="0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504120" y="4462560"/>
              <a:ext cx="71784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FEA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uppor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304920" y="76212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s SAP R/3-System, kundenindividuelle Add-ons und Web-Lösu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34B1-2CBB-4268-9474-2BBC44235DE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30.01.2003 in Mar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ABIC Polyolefine GmbH, Gelsenkirch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Wacker Chemie GmbH, Nünchritz, Burghaus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gussa AG / GB Aerosil &amp; Silanes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gussa AG / GB Superabsorber, Krefel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fracor GmbH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dustriepark Wolfgang GmbH, Hanau-Wolfga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EOS Phenol GmbH &amp; Co. KG, Gladbeck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atharinenhospital, Stuttga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innolit GmbH &amp; Co. KG, Isman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OXENO Olefinchemie GmbH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Goldschmidt AG, Ess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7621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zug aus der Kundenlis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F932-E697-4F9E-8B3C-EAE5B47395D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30.01.2003 in Mar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zupharma GmbH &amp; Co., Gerling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ventis Pharma Deutschland GmbH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gussa AG / GB Coatings &amp; Colorants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gussa AG / GB High Performance Polymers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ta Medica AG und Arzneimittelwerk Dresden GmbH (AWD), Radebeul, Künsebeck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gussa AG, Frankfurt (Charme-Projekt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F IT Services GmbH, Ludwigshaf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F Pigment GmbH (Masterbatch), Köl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KW Stickstoffwerke Piesteritz GmbH, Wittenber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CI Augsburg GmbH, Augsbur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09480" y="7621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zug aus der Kundenlis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545A-0CD1-41BA-BC97-0E7E021C562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08:57:14Z</dcterms:created>
  <dc:creator>ARS</dc:creator>
  <dc:description/>
  <dc:language>en-US</dc:language>
  <cp:lastModifiedBy>Dr. Jochen Winkler</cp:lastModifiedBy>
  <cp:lastPrinted>2001-02-12T08:25:41Z</cp:lastPrinted>
  <dcterms:modified xsi:type="dcterms:W3CDTF">2003-01-24T15:35:20Z</dcterms:modified>
  <cp:revision>178</cp:revision>
  <dc:subject/>
  <dc:title>Kein Folientitel</dc:title>
</cp:coreProperties>
</file>