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3F5-08E8-47DB-B13D-C4714498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B61-4314-4FCF-963B-3D8E69DE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235-3517-45E1-A795-99BE2424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553-C356-4D5D-A486-E48FC9CB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327-4836-4A93-AE53-0EE6F73E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068-70B9-4614-8550-95C47652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01EB-2E77-430C-ADAE-39D79176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1DD4-7C04-4002-AD20-1D8C1A25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E11-437F-44C6-8BB2-AE7B81CF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C50-ECDB-4E8C-B416-7DA49F90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AAE-4F5D-45AB-8D2D-3A47DBED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5BB-5EA0-4C6E-80EC-3C393AD9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DF8DE42-DF5F-4968-9D2A-F02F8A7CD78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800100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zlich Willkommen 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roduktcontrolling mit neuen SAP R/3 Add-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iepark Marl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4539-0358-4C8F-979F-B94CE2BC1F4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632-2C6C-4A72-929E-B9232A0434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8C1-05BC-435D-9382-D68584C84A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838080"/>
            <a:ext cx="800100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oduktcontrolling mit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neuen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AP R/3 Add-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iepark Mar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l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1B4-4F0E-4568-8D17-931DB01A814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ngenbilanzierung als Voraussetzung für das Produktcontrolling in der Chemi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- und Produktplan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00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atlicher Mengenbilanz aller Produkte für ein Jah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00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126-696F-40B5-B450-55CD5BEC72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38760" indent="-33876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controlling in der Chemie  - Nachkalkulation, Plankalkulation und ableitbare Kalkul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760" indent="0">
              <a:spcBef>
                <a:spcPts val="2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undlagen der Materialkalkulation im SAP-Standar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0">
              <a:spcBef>
                <a:spcPts val="2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kursive Stücklisten in der Material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0">
              <a:spcBef>
                <a:spcPts val="2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0">
              <a:spcBef>
                <a:spcPts val="2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0">
              <a:spcBef>
                <a:spcPts val="2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ch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0">
              <a:spcBef>
                <a:spcPts val="2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591-9824-412D-A73A-F4770001F8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e und Add-on Entwicklungen von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2002 und 200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24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24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0">
              <a:spcBef>
                <a:spcPts val="45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EF32-1574-45CC-B119-13776AF96A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eitere Workshops im 1. Quartal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04.02.2003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omfortable, kundenbezogene Add-ons in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bindung mit SAP R/3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(Themen: s. vorliegende Agenda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27.03.2003 jwAdd-Ons für SAP R/3 im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A0A-1CF5-4E49-9AC6-A236FC6629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0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 wurde a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Juli 1996 von Dr. Jochen Winkler gegründet und firmiert seit Mai 2002 als </a:t>
            </a:r>
            <a:r>
              <a:rPr b="0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 GmbH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spektrum heute:  Unternehmensausrichtu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AP R/3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Chemische Industri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dd-Ons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eb-Application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Mediz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0C6-6F36-4E97-9CB0-2442A5BE17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61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62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68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74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80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86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92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98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04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10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16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22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28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34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40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46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52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58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64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71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77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188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194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199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04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10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20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02280" y="3143160"/>
              <a:ext cx="29415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AP R/3,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dd-Ons u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eb-Applikat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67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74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80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11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04920" y="7621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s SAP R/3-System, kundenindividuelle 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80AC-5FD0-4160-BE72-65DCC05827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BIC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EOS Phenol GmbH &amp; Co. KG, Gladbec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762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754-FA1E-4513-BA6E-D237F921BD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30.01.2003 in Ma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CI Augsburg GmbH, Augsb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F8A5-2690-4B7D-89FD-8B2501DDB2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3-01-24T15:35:20Z</dcterms:modified>
  <cp:revision>178</cp:revision>
  <dc:subject/>
  <dc:title>Kein Folientitel</dc:title>
</cp:coreProperties>
</file>