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830-5AB6-4F66-8BB2-E5566343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8D6-FCA2-42F5-A08F-6211B821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395-5A3C-4A70-A405-49DF9066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FBD-2016-4462-A12F-A02D81BD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AEF-F079-42EC-B546-689002E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117-93C9-40B2-BFC1-F86A5904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CBC-94CB-47C0-ABB5-2DFA92A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6B3-59AC-4875-A347-AD8F5F1A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04D-D015-4259-87C8-7E2AD1F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621-AD93-44E4-9ADB-D2D9139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968-E8E4-4529-B74D-0BE646C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BB6-3885-4102-B5AB-06E20F6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3D17008-0349-4A12-82DA-BDAFAF509D9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kalkul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Nachkalkulation, Plankalk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und ableitbare Kalkul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BAD-B0B7-47C8-9149-65CA8D3016E2}" type="slidenum">
              <a:t>1</a:t>
            </a:fld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periode liegt in vergangen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raum für Ist- und Plan-Berechnung: jeweils max. 1 Jahr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Jahreswechsel ist zwischen Ist- und Planberechnun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schung zwischen Nachkalkulation und Hoch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056-25DF-4B6D-A494-6A365E5017F8}" type="slidenum">
              <a:t>10</a:t>
            </a:fld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lisierung des Add-on‘s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379600" y="1295280"/>
          <a:ext cx="438300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295280"/>
                    <a:ext cx="438300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ort mi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alkulationsmöglichkeiten (Kalkulationsvariant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öglichkeit zur Auswahl und Anzeige der Protoko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zeugung von Stücklisten und Planungsrezepten sowie Durch-führung von additiver u. Materialkalkulation als Funktionsbaust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DD6-7A38-4C6F-A390-A9F1E4F14284}" type="slidenum">
              <a:t>11</a:t>
            </a:fld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Beispiel zeigt eine Nachkalkul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 unterlegt wurde ein maschineller Eingriff protokolliert, der sich zur Gewährleistung der Datenkonsistenz erforderlich machte (Information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arstellung von Fehlerwarnungen erfolgt orange bzw. violett unterleg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hler werden rot unterleg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s Protokoll wird in einer projektspezifischen Tabelle gespeichert und ist jederzeit abrufb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 einer Produkt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95320" y="1143000"/>
          <a:ext cx="73548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143000"/>
                    <a:ext cx="73548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5A9-90D7-4F59-B8BA-CCBAB1955E20}" type="slidenum">
              <a:t>12</a:t>
            </a:fld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der tatsächlichen Buchungen pro Erzeugnis v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preiskorrektur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rative Material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Materialkalkulation wird solange wiederholt (mit Einsetzen der berechneten Erzeugnispreise), bis die Ergebnisse stabil si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stelle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Auflösungstermins und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Bewertungstermins wird die tatsächliche Entwicklung der Verbräuche und Preise bewert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einer voraussehbaren Preisentwicklung für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s Add-on‘s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genüber dem SAP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526-D026-4F5A-8F21-0DF7912AE71D}" type="slidenum">
              <a:t>13</a:t>
            </a:fld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und Füllen einer projektspezifischen Informationsstruktur für Material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 Performancegründen werden die Materialbuchungen nicht der SAP-Tabelle MSEG, sondern einer Informationsstruktur entnommen, die kumulierte Daten enthäl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des Add-on‘s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engen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geplanten Mengen pro Erzeugnis werden der Mengenbilanz entnomm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lls vorhersehbare Änderungen von Rohstoffpreisen berücksichtigt werden sollen, muß der Bedarf für die entsprechenden Zeiträume und Rohstoffe in der Mengenbilanz bereitgestellt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zu sind die betreffenden Rohstoffe in den Materialstammdaten als ‚bilanzrelevant‘ (projektspezifisches Kennzeichen) zu kennzeich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ätzlich ist eine Tabelle der benötigten Rohstoffpreise zu pfleg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aussetzungen zur Anwendung des Add-on‘s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626-18AC-428D-BAA1-64A2F0AA5780}" type="slidenum">
              <a:t>14</a:t>
            </a:fld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838080"/>
            <a:ext cx="8001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kalkul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Nachkalkulation, Plankalk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und ableitbare Kalkul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30D-7F03-4E20-BF10-354250E42BC0}" type="slidenum">
              <a:t>15</a:t>
            </a:fld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ellt die notwendigen Daten ber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bereitete 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bereitete Planungsrezep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bereitete Rohstoff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lge der Verwendung der Standard-Transaktion CK1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e Resultate werden in SAP-Standard-Tabellen gespeiche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Ergebnisse sind mit SAP-Standard-Werkzeugen und Eigen-entwicklungen des Anwenders auswert- und weiterverarbeitb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85800"/>
            <a:ext cx="8610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idee des Add-on‘s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kalkulation auf der Basis der Standard-Transaktion CK11 (Materialkalk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396-DE42-4B3A-B1B2-A81EB9A6309A}" type="slidenum">
              <a:t>2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lös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Stücklisten und Planungsrezepte (Arbeitsplä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rt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Rohstoffpreise (u.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1295280"/>
          <a:ext cx="328788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32878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086520" y="1295280"/>
          <a:ext cx="2523960" cy="262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6520" y="1295280"/>
                    <a:ext cx="25239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362-5977-4B77-9E47-148F1C490885}" type="slidenum">
              <a:t>3</a:t>
            </a:fld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tammdaten / Kalkulationssicht 2 - für Planungszwec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künftiger Pre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 Planpreise mit Gültigkeits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x. 12 Planpreise (monatliche Prei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55640" y="1295280"/>
          <a:ext cx="5735880" cy="29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295280"/>
                    <a:ext cx="5735880" cy="29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170-91E0-4B42-A3F8-D0D9407BEFB3}" type="slidenum">
              <a:t>4</a:t>
            </a:fld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37339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54000" rIns="18000" tIns="46800" bIns="4680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 Markierung der Materialstücklisten als ‚rekursiv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ig rekursive Stücklisten führen zu einer korrekten Kalkulation, die jedoch als fehlerhaft gekennzeichnet ist (-&gt; Sondermaßnah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rative Materialkalkulation im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derholung der Kalkulation für alle Erzeugnisse unter Berücksichtigung der im vorherigen Zyklus berechneten Erzeugnispreise, b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zwischen zwei aufeinanderfolgenden Zyklen die Preisabweichung pro Erzeugnis einen vorgegebenen Grenzwert unterschreit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oder eine vorgegebene maximale Zyklusanzahl erreicht wird (Ausnahme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9480" y="121932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12724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wischen-produk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1337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wischen-produk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0481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887560" y="1752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182840" y="266652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01760" y="2666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97200" y="175212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801960" y="2666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905120"/>
            <a:ext cx="225108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nfolge des Einsatzes von Chargen mit abgelaufener MHD, Verschnitt us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4479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1447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095880" y="3276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D4A-CC73-4A33-8B4D-EC9C41353BE9}" type="slidenum">
              <a:t>5</a:t>
            </a:fld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30477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SAP erfolgt eine ‚strenge‘ Formatierung der Rechenergebnisse, d.h., jede weitere Berechnung erfolgt mit den angezeigten Zahlen.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durch wird eine manuelle Berechnung ‚nachempfunden‘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l bezieht die Formatierung nur auf die Anzeige, d.h.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Hintergrund wird üblicherweise mit genaueren Zahlen gerechnet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ern nicht erhöhter Aufwand in die Formeln investiert wird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führt u.U. scheinbar zu Widersprüchen (vgl. Spalten D und 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e iterative Berechnung konvergiert daher unter SAP schlechter als z.B. unter Excel, d.h., bei komplexen Zusammenhängen muß ggf. eine Preis-abweichung (zwischen zwei Zyklen) von 0,50 bis 1,00 Euro toleriert werde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Resultat ist trotzdem in jedem Fall realistischer als ohne It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erative Materialkalkulation: SAP im Vergleich zu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4766" r="57950" b="60536"/>
          <a:stretch/>
        </p:blipFill>
        <p:spPr>
          <a:xfrm>
            <a:off x="2070000" y="1143000"/>
            <a:ext cx="4102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BD8-0BB4-4145-855C-C1E8E82AB231}" type="slidenum">
              <a:t>6</a:t>
            </a:fld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vergangen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Materialbewegungen (aus projektspezifischer Infostruktu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Ressourcenverbräuche (Theorie), stattdess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teilung der Istkosten pro Kostenstelle auf die Erzeugniss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 der Grundlage der durch die Herstellung jedes Erzeugnisses verursachten Anlagenauslastung    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Leistungen, Verrechnungen und Umlagen pro Erzeugn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additive Kalkulation (Standard-Transaktion CK7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nur gesichert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edoch nicht freigegeb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kalkulation (Ist-Kalk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8F7-CBEA-4319-9D35-9B7F535546BD}" type="slidenum">
              <a:t>7</a:t>
            </a:fld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künftig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1 Jah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(jähr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Berücksichtigung geplanter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freigegeben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.h., der kalkulierte Preis wird in einem separaten Arbeitsgang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ie Materialstammdaten eingetrag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B5F-656E-4239-8A06-CAFD2EA3D0BD}" type="slidenum">
              <a:t>8</a:t>
            </a:fld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periode liegt in künftig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 und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monat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geplante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nkbare Weiterentwicklung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‚Hochrechnung‘ der zur Plankalkulation verwendete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gewichteter Rohstoffpreise auf der Grundlage der  geplanten Rohstoffpreise und der zugehörigen Monatsbilan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318-E3CF-46BA-91A0-A1A56734EAEC}" type="slidenum">
              <a:t>9</a:t>
            </a:fld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nd Gebert</dc:creator>
  <dc:description/>
  <dc:language>en-US</dc:language>
  <cp:lastModifiedBy>Dr. Jochen Winkler</cp:lastModifiedBy>
  <cp:lastPrinted>2003-01-28T09:42:42Z</cp:lastPrinted>
  <dcterms:modified xsi:type="dcterms:W3CDTF">2003-02-07T14:53:04Z</dcterms:modified>
  <cp:revision>157</cp:revision>
  <dc:subject/>
  <dc:title>Monatsabschluß BASF</dc:title>
</cp:coreProperties>
</file>