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BCA-FF95-4334-B895-ADEEFD9E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727-2DB8-4AB9-A8DD-3CE7054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2E3-D442-49B8-9FEC-7AAAACB9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041-3D77-4DAF-A504-9C7E8EB7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0DE-8CB7-40DF-8D12-99CE07A9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EFB-92E3-42DD-8753-AB6DB85F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B2B-6B23-4688-91A3-4FDEE70F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87C-4F07-4D76-86F9-7A93CB10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AD2-E988-4148-A585-B5E59348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E9B-64F1-4826-B451-D042F7D5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1FF-3F3C-4C21-B50A-B1E062F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0DE-EB1C-4C6D-BAC7-C59085ED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&lt;date/time&gt;</a:t>
            </a: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A42A23F-2455-4A48-8323-EBC4A37BAC1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Add-on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Produktkalkul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Nachkalkulation, Plankalk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und ableitbare Kalkula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pl.-Ing. Arnd Gebert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17B-3D37-48C7-8F70-1FD86A6E691A}" type="slidenum">
              <a:t>1</a:t>
            </a:fld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periode liegt in künftiger oder aktuell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dperiode liegt in vergangen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itraum für Ist- und Plan-Berechnung: jeweils max. 1 Jahr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Jahreswechsel ist zwischen Ist- und Planberechnung mög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schung zwischen Nachkalkulation und Hoch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21C-0B20-4A29-BA7E-A02A9978E9C7}" type="slidenum">
              <a:t>10</a:t>
            </a:fld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lisierung des Add-on‘s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379600" y="1295280"/>
          <a:ext cx="4383000" cy="31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1295280"/>
                    <a:ext cx="438300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port mi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1680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 Kalkulationsmöglichkeiten (Kalkulationsvariant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1680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öglichkeit zur Auswahl und Anzeige der Protokol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zeugung von Stücklisten und Planungsrezepten sowie Durch-führung von additiver u. Materialkalkulation als Funktionsbauste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8EE-C100-4134-BE13-D6141B0399D5}" type="slidenum">
              <a:t>11</a:t>
            </a:fld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Beispiel zeigt eine Nachkalkul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936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 unterlegt wurde ein maschineller Eingriff protokolliert, der sich zur Gewährleistung der Datenkonsistenz erforderlich machte (Information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936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arstellung von Fehlerwarnungen erfolgt orange bzw. violett unterleg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936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ehler werden rot unterleg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936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s Protokoll wird in einer projektspezifischen Tabelle gespeichert und ist jederzeit abrufb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koll einer Produkt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95320" y="1143000"/>
          <a:ext cx="7354800" cy="303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143000"/>
                    <a:ext cx="735480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837-5697-4746-98A1-63ED13A8F922}" type="slidenum">
              <a:t>12</a:t>
            </a:fld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296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ücksichtigung der tatsächlichen Buchungen pro Erzeugnis v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1400" indent="-3142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verbrau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1400" indent="-3142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1400" indent="-3142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preiskorrekture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296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terative Material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1400" indent="-3142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Materialkalkulation wird solange wiederholt (mit Einsetzen der berechneten Erzeugnispreise), bis die Ergebnisse stabil si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296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1400" indent="-31428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stelle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Auflösungstermins und </a:t>
            </a: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Bewertungstermins wird die tatsächliche Entwicklung der Verbräuche und Preise bewert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kalkulation und abgeleitete Kalkulation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296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ücksichtigung einer voraussehbaren Preisentwicklung für ausgewählte 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37296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des Add-on‘s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genüber dem SAP-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058-36A2-4E5D-B6D3-8099ACCC0F4E}" type="slidenum">
              <a:t>13</a:t>
            </a:fld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egen und Füllen einer projektspezifischen Informationsstruktur für Materialbuch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 Performancegründen werden die Materialbuchungen nicht der SAP-Tabelle MSEG, sondern einer Informationsstruktur entnommen, die kumulierte Daten enthäl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kalkulation und abgeleitete Kalkul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wendung des Add-on‘s </a:t>
            </a: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engenbil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geplanten Mengen pro Erzeugnis werden der Mengenbilanz entnomm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lls vorhersehbare Änderungen von Rohstoffpreisen berücksichtigt werden sollen, muß der Bedarf für die entsprechenden Zeiträume und Rohstoffe in der Mengenbilanz bereitgestellt werd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zu sind die betreffenden Rohstoffe in den Materialstammdaten als ‚bilanzrelevant‘ (projektspezifisches Kennzeichen) zu kennzeich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sätzlich ist eine Tabelle der benötigten Rohstoffpreise zu pfleg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aussetzungen zur Anwendung des Add-on‘s </a:t>
            </a: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59E-0B13-4C1A-A8FE-D049FD61DB28}" type="slidenum">
              <a:t>14</a:t>
            </a:fld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838080"/>
            <a:ext cx="8001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Add-on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Produktkalkul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Nachkalkulation, Plankalk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und ableitbare Kalkulat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pl.-Ing. Arnd Gebert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7BD-1C66-4E76-9D90-D5365334D1F7}" type="slidenum">
              <a:t>15</a:t>
            </a:fld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ellt die notwendigen Daten ber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bereitete 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bereitete Planungsrezep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bereitete Rohstoffpre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lge der Verwendung der Standard-Transaktion CK1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le Resultate werden in SAP-Standard-Tabellen gespeicher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Ergebnisse sind mit SAP-Standard-Werkzeugen und Eigen-entwicklungen des Anwenders auswert- und weiterverarbeitba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85800"/>
            <a:ext cx="861048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idee des Add-on‘s </a:t>
            </a:r>
            <a:r>
              <a:rPr b="0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ktkalkulation auf der Basis der Standard-Transaktion CK11 (Materialkalk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FEA-63A3-4F7F-8A96-699368D931C9}" type="slidenum">
              <a:t>2</a:t>
            </a:fld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lös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Stücklisten und Planungsrezepte (Arbeitsplä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rt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Rohstoffpreise (u.a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Materialkalkulation im SAP-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1295280"/>
          <a:ext cx="3287880" cy="34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32878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086520" y="1295280"/>
          <a:ext cx="2523960" cy="2625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6520" y="1295280"/>
                    <a:ext cx="252396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9EB-5522-4A93-9B42-56E71116B989}" type="slidenum">
              <a:t>3</a:t>
            </a:fld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stammdaten / Kalkulationssicht 2 - für Planungszweck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künftiger Pre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 Planpreise mit Gültigkeitsdat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x. 12 Planpreise (monatliche Prei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Materialkalkulation im SAP-Standard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55640" y="1295280"/>
          <a:ext cx="5735880" cy="29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1295280"/>
                    <a:ext cx="5735880" cy="29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20E-D27E-4195-A967-5B0A92FDB414}" type="slidenum">
              <a:t>4</a:t>
            </a:fld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37339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54000" rIns="18000" tIns="46800" bIns="46800"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 Markierung der Materialstücklisten als ‚rekursiv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ig rekursive Stücklisten führen zu einer korrekten Kalkulation, die jedoch als fehlerhaft gekennzeichnet ist (-&gt; Sondermaßnahme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erative Materialkalkulation im 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20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ederholung der Kalkulation für alle Erzeugnisse unter Berücksichtigung der im vorherigen Zyklus berechneten Erzeugnispreise, b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zwischen zwei aufeinanderfolgenden Zyklen die Preisabweichung pro Erzeugnis einen vorgegebenen Grenzwert unterschreite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oder eine vorgegebene maximale Zyklusanzahl erreicht wird (Ausnahme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9480" y="121932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212724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wischen-produk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21337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wischen-produk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30481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887560" y="1752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182840" y="266652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01760" y="2666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97200" y="1752120"/>
            <a:ext cx="8380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801960" y="26665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1905120"/>
            <a:ext cx="225108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41760" bIns="4176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Infolge des Einsatzes von Chargen mit abgelaufener MHD, Verschnitt usw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14479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1447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095880" y="3276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A6A-E8DD-4EE2-BECB-7FE4A67AE92A}" type="slidenum">
              <a:t>5</a:t>
            </a:fld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30477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rmAutofit fontScale="99000"/>
          </a:bodyPr>
          <a:p>
            <a:pPr marL="376920" indent="-37692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SAP erfolgt eine ‚strenge‘ Formatierung der Rechenergebnisse, d.h., jede weitere Berechnung erfolgt mit den angezeigten Zahlen.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durch wird eine manuelle Berechnung ‚nachempfunden‘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cel bezieht die Formatierung nur auf die Anzeige, d.h.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 Hintergrund wird üblicherweise mit genaueren Zahlen gerechnet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ern nicht erhöhter Aufwand in die Formeln investiert wird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führt u.U. scheinbar zu Widersprüchen (vgl. Spalten D und 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e iterative Berechnung konvergiert daher unter SAP schlechter als z.B. unter Excel, d.h., bei komplexen Zusammenhängen muß ggf. eine Preis-abweichung (zwischen zwei Zyklen) von 0,50 bis 1,00 Euro toleriert werden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Resultat ist trotzdem in jedem Fall realistischer als ohne Ite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erative Materialkalkulation: SAP im Vergleich zu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14766" r="57950" b="60536"/>
          <a:stretch/>
        </p:blipFill>
        <p:spPr>
          <a:xfrm>
            <a:off x="2070000" y="1143000"/>
            <a:ext cx="4102200" cy="180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E91-39EC-41C0-84F4-5519AFAFE6D7}" type="slidenum">
              <a:t>6</a:t>
            </a:fld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- und Endperiode liegen in vergangenen Perio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max. 1 Jahr, ohne Jahreswechs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buchte Materialbewegungen (aus projektspezifischer Infostruktu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buchte Ressourcenverbräuche (Theorie), stattdesse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teilung der Istkosten pro Kostenstelle auf die Erzeugniss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 der Grundlage der durch die Herstellung jedes Erzeugnisses verursachten Anlagenauslastung    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buchte Leistungen, Verrechnungen und Umlagen pro Erzeugn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additive Kalkulation (Standard-Transaktion CK7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Kalkulationsergebnisse werden nur gesichert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edoch nicht freigegeb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kalkulation (Ist-Kalk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8C7-944F-47FA-B9FD-B0734D8570FC}" type="slidenum">
              <a:t>7</a:t>
            </a:fld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- und Endperiode liegen in künftigen Perio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1 Jah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-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bilanz für Erzeug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lante Rohstoffpreise (jähr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e additive Kalkulation (TA CK74) nach manuellen Vorgabe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Berücksichtigung geplanter Leistungen, Verrechnungen und Umla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Kalkulationsergebnisse werden freigegeben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.h., der kalkulierte Preis wird in einem separaten Arbeitsgang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ie Materialstammdaten eingetrag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61F-B38A-43DB-8951-E82EDC873FE5}" type="slidenum">
              <a:t>8</a:t>
            </a:fld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periode liegt in künftig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dperiode liegt in künftiger oder aktuell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max. 1 Jahr, ohne Jahreswechs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-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bilanz für Erzeugnisse und ausgewählte 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lante Rohstoffpreise monatli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e additive Kalkulation (TA CK74) nach manuellen Vorgab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geplante Leistungen, Verrechnungen und Umla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nkbare Weiterentwicklung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‚Hochrechnung‘ der zur Plankalkulation verwendeten 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chnung gewichteter Rohstoffpreise auf der Grundlage der  geplanten Rohstoffpreise und der zugehörigen Monatsbilan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85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nd Gebert:PKAL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E58-DF76-49FE-ADF4-419731D0DB1E}" type="slidenum">
              <a:t>9</a:t>
            </a:fld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nd Gebert</dc:creator>
  <dc:description/>
  <dc:language>en-US</dc:language>
  <cp:lastModifiedBy>Dr. Jochen Winkler</cp:lastModifiedBy>
  <cp:lastPrinted>2003-01-28T09:42:42Z</cp:lastPrinted>
  <dcterms:modified xsi:type="dcterms:W3CDTF">2003-02-07T14:53:04Z</dcterms:modified>
  <cp:revision>157</cp:revision>
  <dc:subject/>
  <dc:title>Monatsabschluß BASF</dc:title>
</cp:coreProperties>
</file>