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A92A458-75CD-4144-99A2-C40CD872F6A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.01.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9720" y="7101000"/>
            <a:ext cx="22075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entrale Rezepturdatenbank und Verwal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23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wandlung von Entwicklungsrezepturen in Rezepturen für die 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 Generierung von SAP-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pplung von externen Systemen und Maschi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27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 in Projekten und in 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shistorie (Zwischenschrit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e zu Forschungsthemen z.B. alle Rezepturen zum Thema „Wasserfeste Far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6200">
              <a:lnSpc>
                <a:spcPct val="70000"/>
              </a:lnSpc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Änderungsbelege ( Wer hat Wann, Was geändert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1375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ion des Berechtigungskonzep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3589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iert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alle im SAP vorhandenen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Modifik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wenderspezifische Pflege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275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23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orstellung der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700"/>
              </a:spcBef>
              <a:spcAft>
                <a:spcPts val="1749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257800" y="4191120"/>
          <a:ext cx="30481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191120"/>
                    <a:ext cx="30481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forderungen an die 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mmeln von Informationen über die Zusammensetzung von  Forschungs- und Entwicklungsansät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ordnung zu Forschungsthemen bzw. Proje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 und deren Ergebni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Dokumenten z.B. Prüfberichte und Diagram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riff auf Informationen in anderen Forschungsabteil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Überführung von Entwicklungsrezepturen in die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 mit Hilfe der ABAP Workbenc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von SAP-Strukturen und Ergänzung durch eigene   Struktu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 am SAP-Stand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flegemasken sind auf Anwender abgestimm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liebig definierbare 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stellung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r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367200" indent="-36720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teilung in Kopf und Posi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191520"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eptur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atzgröß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191520">
              <a:spcBef>
                <a:spcPts val="1250"/>
              </a:spcBef>
              <a:spcAft>
                <a:spcPts val="1250"/>
              </a:spcAft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sn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sart z.B. Text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satzsto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289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neinhe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7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27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kumente an Kopf- und Positions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, Excel, Grafiken us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der entsprechenden Appl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icherung der Dokumente an zentraler 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gegen Änderungen geschütz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137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Laborpro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erung von Prüfaufträ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auf die Prüfergebnisse und B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nterlegen von Prei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Entwicklungs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86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kulation von Rezepturkosten in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Vorstellung der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205920" indent="0" algn="ctr"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usatzinformation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knüpfung mit Projekten im 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wendungsnachw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ch Varianten sind Entwicklungsstadien auswert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spcBef>
                <a:spcPts val="137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tu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ntwicklung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ansatz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egeb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gebroche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-205920">
              <a:spcBef>
                <a:spcPts val="137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 von Suchbegrif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aus Katal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8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der 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3-01-20T11:54:51Z</dcterms:modified>
  <cp:revision>44</cp:revision>
  <dc:subject/>
  <dc:title>Kein Folientitel</dc:title>
</cp:coreProperties>
</file>