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85DF6AC-2E39-4EA7-9CBD-92D393D9E98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.01.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23922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ar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, den 23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37160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 fontScale="99000"/>
          </a:bodyPr>
          <a:p>
            <a:pPr marL="205920" indent="-205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des Projek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920" indent="-20592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der Projektstruktur durch PSP-E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der Unter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1480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Meilenst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freigabe erte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 in Produktion überfüh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, Proben und Dokumen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440000"/>
            <a:ext cx="914400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ilensteine für Terminieru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mmenspiel von Status und Meilenst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iggerung von Workflowaufga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bestimmter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egen eines Prüfauftrages im L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abrechnung auf Projekt bzw. Unterproj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kosten intern/ex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S-Standardauswert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atzauswertungen über eigen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zeptur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gleiche mit Wettbewerber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tatransaktionen über PS und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sken sind auf Anwender zugeschn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der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zepturdatenbank und des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tere Möglichkei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von Netzplä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ung und Überwachung von Term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sourc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erial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dar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flu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rtigungshilfsmitt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9144000" cy="404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riable Abbildung und Steuerung von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fache Bedienbarkeit durch angepaßt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rmin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zusätzlicher Kompon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leasesich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für Forschung und Entwicklu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ar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, den 23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bemerkungen Struktur von F&amp;E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lauf von F&amp;E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 Möglich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&amp;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 Modul Projektsystem im 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ung des Standards durch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e Struktu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e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grammierung mit ABAP Workbench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313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stansätze und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cheidung ob es produktiv genutzt werden kan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838080"/>
            <a:ext cx="92203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762120"/>
            <a:ext cx="2514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934320"/>
            <a:ext cx="921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8723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bildung der Struktur durch PSP-Elemen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teilung in Unter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einer umfangreichen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.B. Word, Excel und Graf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84240" y="1608120"/>
          <a:ext cx="613584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4240" y="1608120"/>
                    <a:ext cx="613584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9144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des Projek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der Projektstruktur durch PSP-E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der Unter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7:43:11Z</cp:lastPrinted>
  <dcterms:modified xsi:type="dcterms:W3CDTF">2003-01-20T11:55:30Z</dcterms:modified>
  <cp:revision>93</cp:revision>
  <dc:subject/>
  <dc:title>Kein Folientitel</dc:title>
</cp:coreProperties>
</file>