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DEC8A9CF-B486-4455-8ABE-FA6139A7ECD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.01.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23922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ktsystem in der Forschung und Entwickl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in der Forschung und Entwicklung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ar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, den 23.01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37160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 fontScale="99000"/>
          </a:bodyPr>
          <a:p>
            <a:pPr marL="205920" indent="-205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des Projek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57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57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begi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57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920" indent="-205920">
              <a:lnSpc>
                <a:spcPct val="17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bau der Projektstruktur durch PSP-Ele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57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der Unterpro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11480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von Meilenst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freigabe ertei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 in Produktion überfüh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Rezepturen, Proben und Dokumen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440000"/>
            <a:ext cx="914400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ilensteine für Terminieru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sammenspiel von Status und Meilenst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iggerung von Workflowaufgab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bestimmter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legen eines Prüfauftrages im L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abrechnung auf Projekt bzw. Unterproje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kosten intern/ex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ze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S-Standardauswert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atzauswertungen über eigene Struk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zeptur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ergebn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gleiche mit Wettbewerberprodu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5520" indent="78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tatransaktionen über PS und eigene Strukt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sken sind auf Anwender zugeschn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der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zepturdatenbank und des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32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tere Möglichkei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von Netzplä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ung und Überwachung von Termi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sourc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erial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dar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flu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rtigungshilfsmitt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32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9144000" cy="404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ariable Abbildung und Steuerung von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fache Bedienbarkeit durch angepaßte Pflege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ermin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sten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zusätzlicher Komponen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leasesich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für Forschung und Entwicklu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ar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, den 23.01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rbemerkungen Struktur von F&amp;E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lauf von F&amp;E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tere Möglichk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80880" y="533520"/>
            <a:ext cx="9144000" cy="566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in der Forschung und Entwicklung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ystem in der F&amp;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bemerkun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lage Modul Projektsystem im S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weiterung des Standards durch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orschung&amp;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e Struktu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5920"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gene Mas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grammierung mit ABAP Workbench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ktur von F&amp;E Projek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9144000" cy="313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begin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stansätze und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scheidung ob es produktiv genutzt werden kan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6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en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838080"/>
            <a:ext cx="92203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762120"/>
            <a:ext cx="25146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934320"/>
            <a:ext cx="92199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58723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ktur von F&amp;E Projek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bildung der Struktur durch PSP-Elemen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teilung in Unter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einer umfangreichen 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Rezept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Dokumen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.B. Word, Excel und Graf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84240" y="1608120"/>
          <a:ext cx="613584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4240" y="1608120"/>
                    <a:ext cx="613584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ablau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371600"/>
            <a:ext cx="9144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208080" indent="-208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des Projek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begi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8080" indent="-208080">
              <a:lnSpc>
                <a:spcPct val="17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bau der Projektstruktur durch PSP-Ele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58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der Unterpro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7:43:11Z</cp:lastPrinted>
  <dcterms:modified xsi:type="dcterms:W3CDTF">2003-01-20T11:55:30Z</dcterms:modified>
  <cp:revision>93</cp:revision>
  <dc:subject/>
  <dc:title>Kein Folientitel</dc:title>
</cp:coreProperties>
</file>