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90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35A050A-56DF-4D5E-AFC5-49293DA72794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3.01.20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82080" y="6391440"/>
            <a:ext cx="4572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wLIM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7880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br>
              <a:rPr sz="36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3.01.2003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nehmensweites, zentral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sverwalt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ksspezifik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ltweit zentrale Verwaltung mit standort-spezifischen Anpassungsmöglichkeite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APS = Additional plant specifica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flege von Zusatzdaten zur Spez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714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versendung bei relevanten Än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 interne Spezifikation, incl. PDF-Versand per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5280" y="1557360"/>
            <a:ext cx="8510760" cy="4679640"/>
            <a:chOff x="395280" y="1557360"/>
            <a:chExt cx="8510760" cy="467964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395280" y="1557360"/>
              <a:ext cx="4753080" cy="46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987640" y="1960920"/>
              <a:ext cx="1152720" cy="24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219640" y="1636920"/>
              <a:ext cx="3686400" cy="4517640"/>
              <a:chOff x="5219640" y="1636920"/>
              <a:chExt cx="3686400" cy="4517640"/>
            </a:xfrm>
          </p:grpSpPr>
          <p:pic>
            <p:nvPicPr>
              <p:cNvPr id="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1636920"/>
                <a:ext cx="3686400" cy="45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7093080" y="3895560"/>
                <a:ext cx="115236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rganisationsebene Labor und Arbeitsplatz (Laborstand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teilte Prüfungen über mehrere Labore und Standorte incl. Übergabe von Prüfaufträ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fremd vergebener 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 Probenregistrierung je Labor mi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p-Option für einzelne Merkm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weiterung des Prüfumfangs auf zusätzliche Sp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ptionale, variable Validierung von Ergebnissen und Proben je Labor / Mitarbei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arallele Erfassung von eigenen Messwerten und Werten aus Lieferantenzertifik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7772400" cy="501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 Zertifikatsdru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gleich aller aktuellen Bestände bei Spezifikations-än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r, periodischer Prüfanstoß für IPC und  Umwelt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Nachprüfungen je Material oder Kunde / Material (dann lieferbezog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Customer related product monitori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tomatische detaillierte Prüfkosten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interne Kunden auf Zeit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externe Kunden auf Auftragsba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7772400" cy="127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8360" y="1484280"/>
            <a:ext cx="7200720" cy="4753080"/>
            <a:chOff x="468360" y="1484280"/>
            <a:chExt cx="7200720" cy="4753080"/>
          </a:xfrm>
        </p:grpSpPr>
        <p:pic>
          <p:nvPicPr>
            <p:cNvPr id="83" name="" descr=""/>
            <p:cNvPicPr/>
            <p:nvPr/>
          </p:nvPicPr>
          <p:blipFill>
            <a:blip r:embed="rId1"/>
            <a:srcRect l="0" t="0" r="0" b="9960"/>
            <a:stretch/>
          </p:blipFill>
          <p:spPr>
            <a:xfrm>
              <a:off x="468360" y="1484280"/>
              <a:ext cx="720072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004400" y="2163600"/>
              <a:ext cx="53496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04400" y="2898360"/>
              <a:ext cx="534960" cy="113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4400" y="3634200"/>
              <a:ext cx="534960" cy="113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04400" y="4482360"/>
              <a:ext cx="534960" cy="113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4400" y="5218200"/>
              <a:ext cx="534960" cy="113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32320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stellung des Freigabeentscheids für alle Spezifikationen eines Stoff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3357720"/>
            <a:ext cx="64908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8720" y="1990800"/>
            <a:ext cx="5614920" cy="4208400"/>
            <a:chOff x="828720" y="1990800"/>
            <a:chExt cx="5614920" cy="42084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15898" t="13260" r="52370" b="41795"/>
            <a:stretch/>
          </p:blipFill>
          <p:spPr>
            <a:xfrm>
              <a:off x="828720" y="1990800"/>
              <a:ext cx="5614920" cy="420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4" name=""/>
            <p:cNvSpPr/>
            <p:nvPr/>
          </p:nvSpPr>
          <p:spPr>
            <a:xfrm>
              <a:off x="1258920" y="3500280"/>
              <a:ext cx="433440" cy="1368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58920" y="2637000"/>
              <a:ext cx="576360" cy="144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58920" y="2997360"/>
              <a:ext cx="576360" cy="144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VIII) Allgeme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2080" y="1295280"/>
            <a:ext cx="7172280" cy="177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weiterte Funktionen zur Nachuntersuchung (MH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r Ablauf der Umbuch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eller Arbeitsvorrat mit Buchungsmöglichk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fortable Anpassung der Daten im VE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3465" t="22534" r="31628" b="41058"/>
          <a:stretch/>
        </p:blipFill>
        <p:spPr>
          <a:xfrm>
            <a:off x="1116000" y="2852640"/>
            <a:ext cx="547200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758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greifende Q-Sicht auf Bestän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ände zum Stoff, d.h. zu allen Packstuf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ände zur Spezifik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ände zum Kun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224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sätzliche Informationen in der Bestands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 Tex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- und Kundenfreigaben -/sper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224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tomatisches Erzeugen von Dokumenten für  system-externe Prüfungen (Laufkarte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lexibler vorläufiger Verwendungsentschei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lbautomatische Ergänzungs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Stoffbestandssicht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raussetzungen für ein integriertes SAP-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wicklungsprinzipie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konzeption und Aufbau </a:t>
            </a: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nktionalität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terstützung ausgewählter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XI)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lege aller Stammdaten im Bereich Q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eitsvorrat für anstehende 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XII) Sonderproben, F&amp;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und flexible Probener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hrdimensionale Ergebniserfassung (Werte, Berichte, Spektren, ..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Verwaltung von allen nicht in SAP zu führenden Materialien, wie Hilfsstoffen und Reagenzi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ungeplanten Proben sind alle Prüfparameter bis zur Ergebniseingabe modifizi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üfumfang ungeplanter Proben kann aus allen Prüfplänen und / oder Spezifikationen frei zusammengestellt werd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XIII) B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schluss von Messgeräten / Barcodeleser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griffsschutz / Datensicherhe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dit-Trail-Fun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usgewählter Prozesse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archische Spezifikationsfindung für extern beschaffte Produ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fikationen können zu folgenden Ebenen angelegt werde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nt/Logistik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stik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nt/QM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M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S für die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Ergänzung eines Standardprüf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gabe von erlaubten Regeln für die Ergänzung und Substitution von 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S für  Inter-Company-Gesch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Erzeugung eines werksspezifischen Kontroll-Prüfauftrag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usgewählter Prozesse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ustomer related product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 Prüfrhythmen für Produkte und/oder Produkt/Kundenkombin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gene Prüfvorgaben mögli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 WE aus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 Retestprüf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 der Bestandssic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ung externer IPC durch Druck der Prüf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usgewählter Prozesse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änzungs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r Anstoß aus der Lieferung oder manu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Benachrichtigung des verantwortlichen Lab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Benachrichtigung des Verursac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-dimensionaler Verwendungsentsche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andsart der gesamten Ch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ei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freiga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t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defreigaben /-sperrung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Bestand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590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Spezifikation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620640"/>
            <a:ext cx="9144000" cy="6237360"/>
            <a:chOff x="0" y="620640"/>
            <a:chExt cx="9144000" cy="62373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0" r="0" b="6384"/>
            <a:stretch/>
          </p:blipFill>
          <p:spPr>
            <a:xfrm>
              <a:off x="0" y="620640"/>
              <a:ext cx="9144000" cy="62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093080" y="177336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3080" y="191628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93080" y="1628640"/>
              <a:ext cx="1371600" cy="1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Kunden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usgewählter Prozesse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rantiezeiten für Produkt/Kunden-Kombin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unter Einbezug einer Garantiezeit je Kunde/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derabwicklung für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icherung der spezifikationsgerechten Auslief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Spezifikationsfindung im Kundenauftra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bezogene Verfügbarkeitsprüf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te Prüfung der Chargeneignung in der Lief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el und 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39628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lektion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662472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refferliste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928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melden Freigabepro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rcRect l="0" t="0" r="0" b="2072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588000" y="1268280"/>
              <a:ext cx="1143000" cy="1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8000" y="148428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16720" y="1700280"/>
              <a:ext cx="167652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andsartbezogene Bestandsauskunft, Auswahl</a:t>
            </a:r>
            <a:br>
              <a:rPr sz="20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0684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andsartbezogene Bestandsauskunft, Selek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1225" b="644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 (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58323" b="60306"/>
          <a:stretch/>
        </p:blipFill>
        <p:spPr>
          <a:xfrm>
            <a:off x="395280" y="1052640"/>
            <a:ext cx="8064360" cy="51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 (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24000" y="1052640"/>
            <a:ext cx="7272360" cy="5195880"/>
            <a:chOff x="324000" y="1052640"/>
            <a:chExt cx="7272360" cy="519588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0" t="0" r="30546" b="62951"/>
            <a:stretch/>
          </p:blipFill>
          <p:spPr>
            <a:xfrm>
              <a:off x="324000" y="1052640"/>
              <a:ext cx="7272360" cy="24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rcRect l="0" t="0" r="34512" b="70888"/>
            <a:stretch/>
          </p:blipFill>
          <p:spPr>
            <a:xfrm>
              <a:off x="324000" y="3573360"/>
              <a:ext cx="7272360" cy="26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900000" y="2133720"/>
              <a:ext cx="432000" cy="1224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00" y="4581360"/>
              <a:ext cx="28728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 (I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95280" y="1052640"/>
            <a:ext cx="6697800" cy="5113080"/>
            <a:chOff x="395280" y="1052640"/>
            <a:chExt cx="6697800" cy="511308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rcRect l="0" t="0" r="47197" b="10038"/>
            <a:stretch/>
          </p:blipFill>
          <p:spPr>
            <a:xfrm>
              <a:off x="395280" y="1052640"/>
              <a:ext cx="6697800" cy="51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95280" y="1628640"/>
              <a:ext cx="360360" cy="144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40000" y="4221000"/>
              <a:ext cx="36036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9280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olgsfaktoren bei der Realisier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bau auf einem erprobten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anchen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enes, eingespieltes Beraterte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lare Zielvorgab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iodische Erfolgskontro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ale Unterstützung durch den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9280" y="981000"/>
            <a:ext cx="8785440" cy="5688000"/>
            <a:chOff x="179280" y="981000"/>
            <a:chExt cx="8785440" cy="568800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179280" y="981000"/>
              <a:ext cx="8785440" cy="56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148360" y="1773360"/>
              <a:ext cx="43164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anagementauswertung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47817" b="0"/>
          <a:stretch/>
        </p:blipFill>
        <p:spPr>
          <a:xfrm>
            <a:off x="395280" y="836640"/>
            <a:ext cx="5761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AP-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br>
              <a:rPr sz="36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3.01.2003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twicklungsprinzipien </a:t>
            </a:r>
            <a:r>
              <a:rPr b="1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94920" y="1295280"/>
            <a:ext cx="8280360" cy="45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gste Zusammenarbeit mit den Anwend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rennung Oberfläche von  Daten und Fun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-direktionalen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 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1430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größtenteils in SAP Standardtabellen zu einem QM-Stammdaten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sind als SAP Prüfpläne abgebild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lle relevanten Daten zur Spezifikation, d.h. auch die Zertifikatsrelevanz, werden zentral im Prüfplan gepfleg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pezifikationen können an beliebige Objekte geknüpf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Kundengruppen, Lä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QM-Stoff“ als zentrales Objekt, dem die „Logistik-Materialien“ zugeordnet s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QM-Stoff Charge“ als zentrales Objekt für Q-D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29232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9036000" cy="56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91440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82760" indent="-29232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urchgängiges stoffbezogenes Spezifikationskonze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Spezifikation ==&gt; Stoff ==&gt; Ku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Spezifikationsermittlung im Kundenauftrag (Auswahl bei fehlender Eindeutigke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spezifikationsbezogene Verfügbarkeitsprü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lette VE-Info über alle verfügbaren Spezifikationen in der Stoff-Bestandss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 und / oder Kunde als zusätzliches Selektionskriterium in den Stoff-Bestandss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che Chargenfindung in der Lief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ätzlich automatische Verwendbarkeitsprüfung unter Berücksichtigung von Reklamationen und kundenbezogener Freigaben / Sper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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ertifikatserstell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eine Vorlag je Zertifikatstyp notwendig                (Ausnahme =&gt; Zertifikat mit Daten aus der Produktionsket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Monotype Sorts" charset="2"/>
              <a:buChar char="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verse Add-Ons und Zusatzfunktionen zur Zertifikatserstellung verfüg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 mit Zusatz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2286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s Andrucken von Herstell- und/oder MHD-Datum je Stoff-Kunden-K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c09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2002-02-19T08:24:01Z</cp:lastPrinted>
  <dcterms:modified xsi:type="dcterms:W3CDTF">2003-01-23T20:15:14Z</dcterms:modified>
  <cp:revision>399</cp:revision>
  <dc:subject/>
  <dc:title>Intergriertes SAP R/3 LIMS</dc:title>
</cp:coreProperties>
</file>