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33720" y="7086600"/>
            <a:ext cx="1066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J. Winkle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7086600"/>
            <a:ext cx="11361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7B83FF2D-B35B-44A4-BB61-90142605672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.01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Einfache 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23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eines einfachen Dokumentenser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 Windows oder 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s hierarchischen Fileverzeichnisses, z.B. periodisch geord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hl geeigneter Datei – Idente, z.B. eineindeutige Nummern und zusätzlich aussagefähiger (ASCII) Beschreibungen. Dabei können die betriebssystemabhängigen Dateilängen ausgeschöpft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fügbarkeit des Dokumentenservers im LAN für R/3, Webserver und Dokumentenquellen, z.B. Laborgerä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knüpfung der Dokumente zu den Geschäftsprozessen (Wiederauffindbarkeit) erfolgt ausschließlich im R/3 und wird auf den Webserver gespiege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zeitspeich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 Generationwechsel des Betriebssystems ist der Dokumentenserver upzudat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bei sollte nach längerer Zeit auch eine Umspeicherung der Dokumente auf eine neue Hardware vorgenommen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größeren Abständen sind die Formate der Dokumente zu prüfen und gegebenenfalls auch upzuda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fall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ße Redundanz durch 2. Server (z.B. Raid-Syst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te Redundanz durc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D oder DVD Kopi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. Festplat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Merkmalsleisten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atisierung in Baumstrukt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81160" y="1781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36520" y="1217520"/>
            <a:ext cx="802188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ministration in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36520" y="1217520"/>
            <a:ext cx="8043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ion in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3080" cy="4656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-565200"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des Menübaumes in Exc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 Excel heraus erfolg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38440" indent="-208080">
              <a:spcBef>
                <a:spcPts val="11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sierung der Datenba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738440" indent="-208080">
              <a:spcBef>
                <a:spcPts val="11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sierung der Benutzeroberflä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Merkmalsleisten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, Merkmalsleisten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von Web-, R/3- und Dokumentenserver (Bsp.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778360" y="0"/>
            <a:ext cx="3962520" cy="69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de-DE" sz="3900" spc="-1" strike="noStrike">
                <a:solidFill>
                  <a:srgbClr val="ffffff"/>
                </a:solidFill>
                <a:latin typeface="Times New Roman"/>
              </a:rPr>
              <a:t>aa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95920" y="338040"/>
            <a:ext cx="396252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932040"/>
            <a:ext cx="1238400" cy="71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46320" y="169920"/>
          <a:ext cx="4719600" cy="71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6320" y="169920"/>
                    <a:ext cx="4719600" cy="71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von Web, R/3 und Dokumenten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705040"/>
            <a:ext cx="1295640" cy="30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3100320"/>
            <a:ext cx="1143000" cy="2081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733920"/>
            <a:ext cx="57168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390840"/>
            <a:ext cx="1219320" cy="647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okument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80988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809880"/>
            <a:ext cx="800280" cy="228600"/>
          </a:xfrm>
          <a:prstGeom prst="leftRightArrow">
            <a:avLst>
              <a:gd name="adj1" fmla="val 50000"/>
              <a:gd name="adj2" fmla="val 696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3276720"/>
            <a:ext cx="5716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276720"/>
            <a:ext cx="5716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38960" y="25909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HH02126_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095880" y="3124080"/>
            <a:ext cx="1905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ordnung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20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folgenden Objekten  zugeordnet werd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ko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mmdaten (Dienstleistung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über Webbrowser und SAPGU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vom SAP lesend und schreib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vom Webserver über Browser lese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d schreib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hinzuf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36520" y="1217520"/>
            <a:ext cx="803916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hinzuf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36520" y="1217520"/>
            <a:ext cx="804384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anse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5240" y="1289160"/>
            <a:ext cx="80694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icherung beliebig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49240" y="1752480"/>
            <a:ext cx="905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Arten von Dokumenten sind verwend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r lesbare Formate empfoh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lder (jpg, gif, b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robat (p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d (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l (x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Anzeige der Dokumente aus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776160" y="1146240"/>
            <a:ext cx="8317080" cy="5776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990720" y="3809520"/>
            <a:ext cx="1257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Hinzufügen neu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920880" y="1217520"/>
            <a:ext cx="8265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Merkmalsleisten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Hinzufügen neu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76480" y="17240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3445"/>
          <a:stretch/>
        </p:blipFill>
        <p:spPr>
          <a:xfrm>
            <a:off x="1065240" y="1146240"/>
            <a:ext cx="7799400" cy="5734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flipV="1">
            <a:off x="990720" y="3657240"/>
            <a:ext cx="12571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Merkmalsleisten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535"/>
                </a:solidFill>
                <a:latin typeface="Arial"/>
              </a:rPr>
              <a:t>jwConsulting hat Erfahrungen und praxiserprobte Lösungen be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Aufbau einfacher Dokumenten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Verwaltung von Dokumenten mittels R/3 und Webserv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betriebswirtschaftlich richtigen Verknüpfung von Dokumenten mit Geschäftsproze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Kopplung von R/3 Systemen mit Webservern und der da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wendigen Stammdatensynchro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Nutzung von Webbrowsern ohne Lern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bei der Einbeziehung von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professionelle Beratung und Projektarbeit in der Chemie, Pharmazie und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R/3 basierte Speziallösungen entsprechend Ihrer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garantierte Termineinhaltung 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 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Einfache 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23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Spezifikatio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Ausschreibungen, Pflichtenhefte,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Produktda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Produktbeschreibungen, Gebrauchsanweisungen, Bedienungshinweise, Packungsbeilagen, Anwendungsdokument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Arbeitsergeb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Forschungsberichte, Analyseergebnisse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zepte, Spektren, CAD-Zeichnungen, Konfigurationen, Bilder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form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owserlesbare Formate (z.B. mit plug-i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c, xls, p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xw, sxc, sx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pg, gif, tiff, b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ml, xs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D…, z.B. chemische Formel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knüpf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chäftsdokument, z.B. Untersuchungsbericht ist beispielsweise verknüpft 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dokumenten (darunter z.B. Methodenbeschreibu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lde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ktr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, z.B. Methodenbeschreibung ist beispielsweise verknüpft 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chäftsdokumen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ktren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h. es gilt eine n : m Beziehu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hierarchie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hierarchie und Schlagwö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8880" y="1439640"/>
            <a:ext cx="9036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te können entsprechend eines Thesaurus in einen Hierarchiebaum eingeordnet werden, z.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wicklungsberich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stric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tterfeste Anstric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0">
              <a:spcBef>
                <a:spcPts val="300"/>
              </a:spcBef>
              <a:buNone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ßerdem oder stattdessen können Dokumente mit Schlagwörtern versehen werden, z.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leihalti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asserlöslic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4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sätzlich können Hierarchieknoten und Dokumente klassifiziert und attributiert werd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te können miteinander verknüpft werd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Merkmalsleisten,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2-01-30T09:46:08Z</cp:lastPrinted>
  <dcterms:modified xsi:type="dcterms:W3CDTF">2003-01-23T09:10:17Z</dcterms:modified>
  <cp:revision>606</cp:revision>
  <dc:subject/>
  <dc:title>Kein Folientitel</dc:title>
</cp:coreProperties>
</file>