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7D3-DF92-4320-AD59-CBF20B7C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AEC-4E5E-4CA4-8462-03D4812D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43C-C38D-4BDC-8189-30E6D8E6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041-5E1C-46CA-823A-74A9DA65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D35-44C5-4547-BE35-372514FB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2B2-6AFE-4B7E-A421-65CB7D03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418-4C7C-4D0E-AB1C-6E704A1E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4DA-96B5-4734-B019-023F199F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8E7-754B-41EC-9E2F-E3350BB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E32-3D95-41DC-959C-DA509C5E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78C-EBF1-4A89-B7FE-ADC94B45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AC4-02D9-425B-A0D1-CD0A2ED0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56B8C5A-59D4-4591-A4A2-85A4DFE928D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2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borintegration in die Unternehmensproz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epark Marl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2A3-7888-4F52-8187-BB172622716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EEE-0101-4984-9489-5B6D8AAA59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838080"/>
            <a:ext cx="8001000" cy="52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borintegration in die Unternehmensproz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epark Mar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A01-1025-4CE6-B0AE-6FC0166298E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dd-on, das in das SAP R/3-System voll integrierbar ist. Diese Lösung bietet den Vorteil, alle Entwicklungs- und Produktionsrezepturen zentral zu verwal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Einsatz des SAP R/3-Moduls Projektsystem (PS) liefert die gewünschte Transparenz in der Forschung und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761-66EF-4724-9849-21C2794784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neue </a:t>
            </a: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S mit innovativen Features im europaweiten Einsatz bei der Goldschmidt 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aussetzungen und Anforderungen für ein integriertes SAP-LIMS bezogen z. B. auf die Bere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gemeine Anforder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st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in S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weltschutz / Prüfmittel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im Bereich Dienstleistungslabor und web-basierte Anwen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olgsfaktoren für die Einführung von QM und </a:t>
            </a:r>
            <a:r>
              <a:rPr b="0" lang="en-US" sz="16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E23-DDB3-49ED-8B02-2431E8CEEF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itere Workshops im 1. Quarta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30.01.2003 Produktcontrolling mit neuen SAP R/3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dd-ons ( Themen: Siehe Agend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04.02.2003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mfortable, kundenbezogene Add-ons in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bindung mit SAP R/3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Themen: Siehe Agend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27.03.2003 jwAdd-Ons für SAP R/3 im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238-768E-40F4-AEDF-42DCBF556C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miert seit Mai 2002 als </a:t>
            </a:r>
            <a:r>
              <a:rPr b="0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A23-E8F0-431F-8E66-CD4D765330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58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59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65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71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77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83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89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95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01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07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13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19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25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31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37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43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49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55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61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68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85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91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196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01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07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17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64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71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77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08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62B-C9B7-4100-B3A3-587619D41A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DBD-D4C8-41DA-9DC0-13F6A97ADF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50B-5886-4E00-AD01-6FE8A000B8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DC3-21E6-4026-AC24-8B3F662AF1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3-01-20T15:05:19Z</dcterms:modified>
  <cp:revision>157</cp:revision>
  <dc:subject/>
  <dc:title>Kein Folientitel</dc:title>
</cp:coreProperties>
</file>