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618-54A6-443F-895A-E7DA4A5E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79F-DE6A-42B1-A375-41B6F91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9D5-EFEE-47D3-A4D6-7F4223FF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6BF-C2A9-41F3-BC31-C71E43B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653-4EB5-434F-B6F9-DF7B368D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952-B046-42A0-8D8B-8FD91B3E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961A-A72B-4F36-AC48-700F7E0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7E8-FADF-4CF2-BFA5-1694548A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211-77C7-47FA-888F-09493C81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E14-E9EC-4A87-B6C0-9FE92430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7A4-72F1-4A61-9F2C-165FAC4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FED-5229-4A39-B9AC-9FA703F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BD68EA1-F13F-4EE3-A0C0-947E3BB2928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borintegration in die Unternehmens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632-6E8B-4AC4-A57F-0C23CE93054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DF0-D0EA-4255-B1CA-EE0903564E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838080"/>
            <a:ext cx="8001000" cy="52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borintegration in die Unternehmensproz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A06-E7AF-4BC0-B52F-7803054B64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dd-on, das in das SAP R/3-System voll integrierbar ist. Diese Lösung bietet den Vorteil, alle Entwicklungs- und Produktionsrezepturen zentral zu verwal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557-B0C3-420D-8F4F-08F3F65D0D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neue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mit innovativen Features im europaweiten Einsatz bei der 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gemeine 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 / Prüfmittel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 und web-basierte 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</a:t>
            </a:r>
            <a:r>
              <a:rPr b="0" lang="en-US" sz="1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986-F7A3-4BEE-BED8-04B67D324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itere Workshops im 1. Quarta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30.01.2003 Produktcontrolling mit neuen SAP R/3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dd-ons ( Themen: Sieh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04.02.2003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fortable, kundenbezogene Add-ons i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bindung mit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Themen: Sieh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7.03.2003 jwAdd-Ons für SAP R/3 im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11A-6DEA-43A6-99DC-61ED2DABA5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5F7-4B0C-4F2D-BD78-9824EBB06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8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9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5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1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7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3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9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5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1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7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9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1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7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9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1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8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5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1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6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7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4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1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7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8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83A-187F-4D6F-9C66-E9974326EF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143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D63-A244-4C1C-ADE1-BAE5EE6691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211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03E-392B-4EA1-AFC9-1D110EC4A2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625-FB4A-4084-9F15-C3E6B3424F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0T15:05:19Z</dcterms:modified>
  <cp:revision>157</cp:revision>
  <dc:subject/>
  <dc:title>Kein Folientitel</dc:title>
</cp:coreProperties>
</file>